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55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jpeg" ContentType="image/jpeg"/>
  <Override PartName="/ppt/media/image38.png" ContentType="image/png"/>
  <Override PartName="/ppt/media/image60.wmf" ContentType="image/x-wmf"/>
  <Override PartName="/ppt/media/image43.wmf" ContentType="image/x-wmf"/>
  <Override PartName="/ppt/media/image9.png" ContentType="image/png"/>
  <Override PartName="/ppt/media/image18.gif" ContentType="image/gif"/>
  <Override PartName="/ppt/media/image86.png" ContentType="image/png"/>
  <Override PartName="/ppt/media/image40.wmf" ContentType="image/x-wmf"/>
  <Override PartName="/ppt/media/image39.wmf" ContentType="image/x-wmf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49.png" ContentType="image/png"/>
  <Override PartName="/ppt/media/image65.jpeg" ContentType="image/jpeg"/>
  <Override PartName="/ppt/media/image71.wmf" ContentType="image/x-wmf"/>
  <Override PartName="/ppt/media/image12.png" ContentType="image/png"/>
  <Override PartName="/ppt/media/image47.png" ContentType="image/png"/>
  <Override PartName="/ppt/media/image10.png" ContentType="image/png"/>
  <Override PartName="/ppt/media/image36.jpeg" ContentType="image/jpeg"/>
  <Override PartName="/ppt/media/image78.wmf" ContentType="image/x-wmf"/>
  <Override PartName="/ppt/media/image6.jpeg" ContentType="image/jpeg"/>
  <Override PartName="/ppt/media/image42.wmf" ContentType="image/x-wmf"/>
  <Override PartName="/ppt/media/image8.png" ContentType="image/png"/>
  <Override PartName="/ppt/media/image85.png" ContentType="image/png"/>
  <Override PartName="/ppt/media/image48.png" ContentType="image/png"/>
  <Override PartName="/ppt/media/image68.wmf" ContentType="image/x-wmf"/>
  <Override PartName="/ppt/media/image70.png" ContentType="image/png"/>
  <Override PartName="/ppt/media/image69.wmf" ContentType="image/x-wmf"/>
  <Override PartName="/ppt/media/image22.png" ContentType="image/png"/>
  <Override PartName="/ppt/media/image29.png" ContentType="image/png"/>
  <Override PartName="/ppt/media/image63.jpeg" ContentType="image/jpeg"/>
  <Override PartName="/ppt/media/image91.gif" ContentType="image/gif"/>
  <Override PartName="/ppt/media/image64.jpeg" ContentType="image/jpeg"/>
  <Override PartName="/ppt/media/image61.wmf" ContentType="image/x-wmf"/>
  <Override PartName="/ppt/media/image66.jpeg" ContentType="image/jpeg"/>
  <Override PartName="/ppt/media/image81.wmf" ContentType="image/x-wmf"/>
  <Override PartName="/ppt/media/image67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92.png" ContentType="image/png"/>
  <Override PartName="/ppt/media/image75.wmf" ContentType="image/x-wmf"/>
  <Override PartName="/ppt/media/image74.wmf" ContentType="image/x-wmf"/>
  <Override PartName="/ppt/media/image26.png" ContentType="image/png"/>
  <Override PartName="/ppt/media/image83.wmf" ContentType="image/x-wmf"/>
  <Override PartName="/ppt/media/image62.png" ContentType="image/png"/>
  <Override PartName="/ppt/media/image82.wmf" ContentType="image/x-wmf"/>
  <Override PartName="/ppt/media/image77.png" ContentType="image/png"/>
  <Override PartName="/ppt/media/image28.png" ContentType="image/png"/>
  <Override PartName="/ppt/media/image93.png" ContentType="image/png"/>
  <Override PartName="/ppt/media/image14.png" ContentType="image/png"/>
  <Override PartName="/ppt/media/image54.wmf" ContentType="image/x-wmf"/>
  <Override PartName="/ppt/media/image76.wmf" ContentType="image/x-wmf"/>
  <Override PartName="/ppt/media/image88.png" ContentType="image/png"/>
  <Override PartName="/ppt/media/image73.wmf" ContentType="image/x-wmf"/>
  <Override PartName="/ppt/media/image87.png" ContentType="image/png"/>
  <Override PartName="/ppt/media/image90.wmf" ContentType="image/x-wmf"/>
  <Override PartName="/ppt/media/image5.jpeg" ContentType="image/jpeg"/>
  <Override PartName="/ppt/media/image50.png" ContentType="image/png"/>
  <Override PartName="/ppt/media/image72.wmf" ContentType="image/x-wmf"/>
  <Override PartName="/ppt/media/image21.png" ContentType="image/png"/>
  <Override PartName="/ppt/media/image89.wmf" ContentType="image/x-wmf"/>
  <Override PartName="/ppt/media/image19.wmf" ContentType="image/x-wmf"/>
  <Override PartName="/ppt/media/image84.wmf" ContentType="image/x-wmf"/>
  <Override PartName="/ppt/media/image23.png" ContentType="image/png"/>
  <Override PartName="/ppt/media/image53.png" ContentType="image/png"/>
  <Override PartName="/ppt/media/image17.png" ContentType="image/png"/>
  <Override PartName="/ppt/media/image7.jpeg" ContentType="image/jpeg"/>
  <Override PartName="/ppt/media/image16.png" ContentType="image/png"/>
  <Override PartName="/ppt/media/image56.wmf" ContentType="image/x-wmf"/>
  <Override PartName="/ppt/media/image58.png" ContentType="image/png"/>
  <Override PartName="/ppt/media/image80.wmf" ContentType="image/x-wmf"/>
  <Override PartName="/ppt/media/image15.wmf" ContentType="image/x-wmf"/>
  <Override PartName="/ppt/media/image24.png" ContentType="image/png"/>
  <Override PartName="/ppt/media/image13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37.jpeg" ContentType="image/jpeg"/>
  <Override PartName="/ppt/media/image20.png" ContentType="image/png"/>
  <Override PartName="/ppt/media/image57.png" ContentType="image/png"/>
  <Override PartName="/ppt/media/image25.png" ContentType="image/png"/>
  <Override PartName="/ppt/media/image41.wmf" ContentType="image/x-wmf"/>
  <Override PartName="/ppt/media/image11.png" ContentType="image/png"/>
  <Override PartName="/ppt/media/image7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9982200" cy="6843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982800" cy="68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2900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657400" y="0"/>
            <a:ext cx="432612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3298320" y="514080"/>
            <a:ext cx="3418200" cy="25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1331640" y="3249720"/>
            <a:ext cx="731988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6500880"/>
            <a:ext cx="4329000" cy="3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Целевая программа 2009 (чернов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5657400" y="6500880"/>
            <a:ext cx="4326120" cy="3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8100CDC-D3A8-4747-A3D7-0D8BBD55469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0" y="6500880"/>
            <a:ext cx="4329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Целевая программа 2009 (чернови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3298680" y="514440"/>
            <a:ext cx="3418200" cy="25635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1331640" y="3249720"/>
            <a:ext cx="731988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6"/>
          <p:cNvSpPr/>
          <p:nvPr/>
        </p:nvSpPr>
        <p:spPr>
          <a:xfrm>
            <a:off x="0" y="6500880"/>
            <a:ext cx="4329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Целевая программа 2009 (чернови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5656320" y="6499080"/>
            <a:ext cx="43257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9062655-9C8A-452F-8A36-B3367DDBF8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3300480" y="515880"/>
            <a:ext cx="3417840" cy="256392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1001880" y="3249720"/>
            <a:ext cx="7984800" cy="3076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т еще один слайд. Здесь также старшие возрастные группы ушли в «старость» или в другие неустановленные причин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важаемые коллеги в заключение я хочу сказать что наша отрасль без информации, без анализа, без статистики осуществлять свою деятельность не может. И этой информации у нас много Но мы постоянно увеличиваем количество учетных и отчетных форм. То Всеобщая диспансеризация детей, то 122 федеральный закон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ай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6"/>
          <p:cNvSpPr/>
          <p:nvPr/>
        </p:nvSpPr>
        <p:spPr>
          <a:xfrm>
            <a:off x="0" y="6500880"/>
            <a:ext cx="4329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Целевая программа 2009 (чернови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5654520" y="6499080"/>
            <a:ext cx="432756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B57CBFB-111F-4EC5-ACAE-55C58CFD03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3300480" y="515880"/>
            <a:ext cx="3417840" cy="256392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1331640" y="3249720"/>
            <a:ext cx="7319880" cy="30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438-E5DB-408D-93B1-B24308F74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28C4-43B3-4BC5-947C-EFDACF63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CE9-6849-4649-A0D7-F81EDA3A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9835-A6B4-418E-A875-5A47C7503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8589-FA21-4E10-B253-EA13C7CF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977D-1258-45E3-8401-1811EB09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FA2-A30B-4678-A55E-84C884E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A02C-4A29-44E2-97C7-5B2A6FD7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7F086-9103-4A8E-BCD8-ECD43AA6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66EF-317D-4EC0-A73C-24A98489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D5A7-ED2E-487F-B1F0-43B7D3E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7536-2282-4561-86EB-F0609757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D1DF-1E32-41F9-BBE9-9BB8E410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DDC6-98F8-4291-9E0E-246221E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7FF1-5CE5-4078-9F3C-8C8E0ED1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01C9-D249-418D-BF94-1FCE25AA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811F-289F-4C5C-9B93-0C619149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885-A78D-40D4-9560-754F463D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C51-3455-4184-A239-0209999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FF4-1879-4547-9B73-A8FDB658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C83-56F0-4246-8EE6-1490C872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C56-AE6D-4E40-822A-BE473AD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D88-9937-4B2A-AE03-3B33B76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D53-B422-4131-92D1-508ACE47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721e1e"/>
                </a:gs>
                <a:gs pos="100000">
                  <a:srgbClr val="bd373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BD7-06F7-43EE-A383-14225FFDB8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50000">
                  <a:srgbClr val="f7cc2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bd373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bd3737"/>
                </a:gs>
                <a:gs pos="100000">
                  <a:srgbClr val="cc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721e1e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721e1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bd373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bd3737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3300"/>
                  </a:gs>
                  <a:gs pos="50000">
                    <a:srgbClr val="f7cc2f"/>
                  </a:gs>
                  <a:gs pos="100000">
                    <a:srgbClr val="cc33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5E43-43EA-4351-91F2-6A3D1421984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27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53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2.pn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image" Target="../media/image66.jpeg"/><Relationship Id="rId7" Type="http://schemas.openxmlformats.org/officeDocument/2006/relationships/image" Target="../media/image6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2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3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image" Target="../media/image18.gi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wmf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image" Target="../media/image85.png"/><Relationship Id="rId8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1.gif"/><Relationship Id="rId3" Type="http://schemas.openxmlformats.org/officeDocument/2006/relationships/image" Target="../media/image91.gif"/><Relationship Id="rId4" Type="http://schemas.openxmlformats.org/officeDocument/2006/relationships/image" Target="../media/image91.gif"/><Relationship Id="rId5" Type="http://schemas.openxmlformats.org/officeDocument/2006/relationships/image" Target="../media/image91.gif"/><Relationship Id="rId6" Type="http://schemas.openxmlformats.org/officeDocument/2006/relationships/image" Target="../media/image91.gif"/><Relationship Id="rId7" Type="http://schemas.openxmlformats.org/officeDocument/2006/relationships/image" Target="../media/image91.gif"/><Relationship Id="rId8" Type="http://schemas.openxmlformats.org/officeDocument/2006/relationships/image" Target="../media/image91.gif"/><Relationship Id="rId9" Type="http://schemas.openxmlformats.org/officeDocument/2006/relationships/image" Target="../media/image92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3.png"/><Relationship Id="rId3" Type="http://schemas.openxmlformats.org/officeDocument/2006/relationships/image" Target="../media/image93.png"/><Relationship Id="rId4" Type="http://schemas.openxmlformats.org/officeDocument/2006/relationships/image" Target="../media/image93.png"/><Relationship Id="rId5" Type="http://schemas.openxmlformats.org/officeDocument/2006/relationships/image" Target="../media/image93.png"/><Relationship Id="rId6" Type="http://schemas.openxmlformats.org/officeDocument/2006/relationships/image" Target="../media/image93.png"/><Relationship Id="rId7" Type="http://schemas.openxmlformats.org/officeDocument/2006/relationships/image" Target="../media/image93.png"/><Relationship Id="rId8" Type="http://schemas.openxmlformats.org/officeDocument/2006/relationships/image" Target="../media/image93.png"/><Relationship Id="rId9" Type="http://schemas.openxmlformats.org/officeDocument/2006/relationships/image" Target="../media/image92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92000" y="2060640"/>
            <a:ext cx="8028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Verdana"/>
              </a:rPr>
              <a:t>О результатах и основных направлениях деятельности Министерства здравоохранения Калининградской области (ДРОНД) </a:t>
            </a:r>
            <a:br>
              <a:rPr sz="2600"/>
            </a:br>
            <a:r>
              <a:rPr b="1" lang="en-US" sz="2600" spc="-1" strike="noStrike">
                <a:solidFill>
                  <a:srgbClr val="ffffcc"/>
                </a:solidFill>
                <a:latin typeface="Verdana"/>
              </a:rPr>
              <a:t>за 2009 год</a:t>
            </a:r>
            <a:endParaRPr b="1" lang="en-US" sz="2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148360" y="5157720"/>
            <a:ext cx="37368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7dbe"/>
                </a:solidFill>
                <a:latin typeface="Verdana"/>
              </a:rPr>
              <a:t>Министр  В.Е. Гол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3348000" y="260280"/>
            <a:ext cx="5464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7dbe"/>
                </a:solidFill>
                <a:latin typeface="Verdana"/>
              </a:rPr>
              <a:t>Министерство здравоохранения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7dbe"/>
                </a:solidFill>
                <a:latin typeface="Verdana"/>
              </a:rPr>
              <a:t>Калининградской област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Эмблема МЗ КО"/>
          <p:cNvPicPr/>
          <p:nvPr/>
        </p:nvPicPr>
        <p:blipFill>
          <a:blip r:embed="rId1"/>
          <a:srcRect l="10032" t="34709" r="74932" b="3664"/>
          <a:stretch/>
        </p:blipFill>
        <p:spPr>
          <a:xfrm>
            <a:off x="1440" y="260280"/>
            <a:ext cx="825480" cy="1295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708360" y="645480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0.08.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30"/>
          <p:cNvSpPr/>
          <p:nvPr/>
        </p:nvSpPr>
        <p:spPr>
          <a:xfrm>
            <a:off x="1042920" y="32400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1413000"/>
          <a:ext cx="9109080" cy="5373720"/>
        </p:xfrm>
        <a:graphic>
          <a:graphicData uri="http://schemas.openxmlformats.org/drawingml/2006/table">
            <a:tbl>
              <a:tblPr/>
              <a:tblGrid>
                <a:gridCol w="1681200"/>
                <a:gridCol w="587160"/>
                <a:gridCol w="648000"/>
                <a:gridCol w="647640"/>
                <a:gridCol w="64764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856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54200">
                <a:tc>
                  <a:txBody>
                    <a:bodyPr lIns="72000" rIns="72000" tIns="0" bIns="0" anchor="ctr">
                      <a:noAutofit/>
                    </a:bodyPr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плавательные бассейны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кв.м. зеркала воды на 10 тыс. 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9,1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53840">
                <a:tc>
                  <a:txBody>
                    <a:bodyPr lIns="72000" rIns="72000" tIns="0" bIns="0" anchor="ctr">
                      <a:noAutofit/>
                    </a:bodyPr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плоскостные сооружения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тыс. кв.м. на 10 тыс. 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39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5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6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7796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7c80"/>
                          </a:solidFill>
                          <a:latin typeface="Tahoma"/>
                        </a:rPr>
                        <a:t>Тактическая задача 1. 3: Развитие спорта высших достижений, как элемента героико-патриотического воспитания молодежи, формирование лидерских качеств, мужества, настойчивости в достижении цели, успеш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38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детей и мо-лодежи, занимаю-щихся в спортив-ных школах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тыс. 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,0/2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840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подготов-ленных спортсме-нов-разрядников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чел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2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6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7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83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9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0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3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4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5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9241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оличество завое-ванных медалей на чемпионатах (первенствах) Европы, мира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/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174" name="Text Box 73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9040" y="1159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ЦЕЛЬ 1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403280" y="11592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buSzPct val="20562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Популяризация и развитие физической культуры и спорта, как элемента духовно-нравственного и физического воспитания и совершенствования личности, профилактики заболеваний, улучшения здоровья населения  и  активного долголе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284040" y="1268280"/>
          <a:ext cx="8431200" cy="53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040" y="1268280"/>
                    <a:ext cx="843120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AutoShape 29"/>
          <p:cNvSpPr/>
          <p:nvPr/>
        </p:nvSpPr>
        <p:spPr>
          <a:xfrm>
            <a:off x="4716360" y="6205680"/>
            <a:ext cx="3456000" cy="3920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ff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e1e"/>
                </a:solidFill>
                <a:latin typeface="Arial"/>
              </a:rPr>
              <a:t>ИТОГО: 1071,163 млн. ру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0" y="3807000"/>
          <a:ext cx="9109080" cy="2663640"/>
        </p:xfrm>
        <a:graphic>
          <a:graphicData uri="http://schemas.openxmlformats.org/drawingml/2006/table">
            <a:tbl>
              <a:tblPr/>
              <a:tblGrid>
                <a:gridCol w="1763640"/>
                <a:gridCol w="59076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7394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6 ме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272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мертность трудоспособного населения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 тыс.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4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7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70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9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9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969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довлетворенность населения медицинской помощью /по данным ФСО России/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5/2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182" name="AutoShape 30"/>
          <p:cNvSpPr/>
          <p:nvPr/>
        </p:nvSpPr>
        <p:spPr>
          <a:xfrm>
            <a:off x="1042920" y="219564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49"/>
          <p:cNvSpPr/>
          <p:nvPr/>
        </p:nvSpPr>
        <p:spPr>
          <a:xfrm>
            <a:off x="-36000" y="1634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ЦЕЛЬ 2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50"/>
          <p:cNvSpPr/>
          <p:nvPr/>
        </p:nvSpPr>
        <p:spPr>
          <a:xfrm>
            <a:off x="1258920" y="173160"/>
            <a:ext cx="75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Развитие  и совершенствование здравоохранения Калининградской области, как института охраны здоровья, профилактики и лечения заболе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Приоритетный  Национальный проект «Здоровь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Целевая программа Калининградской области «Развитие здравоохранения Калининградской области  на период 2008-2012 годов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Программа государственных гарантий оказания населению Калининградской области медицинской помощи, финансируемой за счет средств обязательного медицинского страхования и бюджетов всех уровн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Федеральная целевая программа развития Калининградской области на период 2015 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Областная инвестиционная програм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1116000" y="333360"/>
            <a:ext cx="7777080" cy="1008000"/>
          </a:xfrm>
          <a:prstGeom prst="roundRect">
            <a:avLst>
              <a:gd name="adj" fmla="val 10699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Инструменты для решения задач в сфере здравоохран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0"/>
          <p:cNvSpPr/>
          <p:nvPr/>
        </p:nvSpPr>
        <p:spPr>
          <a:xfrm>
            <a:off x="3429000" y="4773600"/>
            <a:ext cx="571500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Оснащены областные учреждения, оказывающие специализированную медицинскую помощь (48,4 млн.руб. – ЦП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Развитие донорства крови (ОСП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Обеспечено безопасное материнство, созданы условия для рождения здоровых детей (централизация родовспоможения и т.д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Построен нулевой цикл Центра сердечно-сосудистой хирургии (315 млн.руб. – обл.бюджет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Население обеспечено высокотехнологичной помощью (ЦП -72,2 млн.руб.; 1270 чел. пролечено по квотам в федер.центрах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179280" y="333360"/>
            <a:ext cx="3240360" cy="1871640"/>
          </a:xfrm>
          <a:prstGeom prst="roundRect">
            <a:avLst>
              <a:gd name="adj" fmla="val 10699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Tahoma"/>
              </a:rPr>
              <a:t>Задача 2.1:</a:t>
            </a:r>
            <a:r>
              <a:rPr b="1" lang="ru-RU" sz="1600" spc="-1" strike="noStrike">
                <a:solidFill>
                  <a:srgbClr val="cc3300"/>
                </a:solidFill>
                <a:latin typeface="Tahoma"/>
              </a:rPr>
              <a:t> Формирование у населения Калининград-ской области восприятия здоровья в духовно-телес-ном единстве этого понятия, как фундамен-тальной цен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10"/>
          <p:cNvSpPr/>
          <p:nvPr/>
        </p:nvSpPr>
        <p:spPr>
          <a:xfrm>
            <a:off x="179280" y="2924280"/>
            <a:ext cx="3240360" cy="1368360"/>
          </a:xfrm>
          <a:prstGeom prst="roundRect">
            <a:avLst>
              <a:gd name="adj" fmla="val 10699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Tahoma"/>
              </a:rPr>
              <a:t>Задача 2.2:</a:t>
            </a:r>
            <a:r>
              <a:rPr b="1" lang="ru-RU" sz="1600" spc="-1" strike="noStrike">
                <a:solidFill>
                  <a:srgbClr val="cc3300"/>
                </a:solidFill>
                <a:latin typeface="Tahoma"/>
              </a:rPr>
              <a:t> Детерминация системы здравоохранения на сохранение здоровья населения, профилактику заболева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179280" y="5013360"/>
            <a:ext cx="3240360" cy="1584360"/>
          </a:xfrm>
          <a:prstGeom prst="roundRect">
            <a:avLst>
              <a:gd name="adj" fmla="val 10699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3300"/>
                </a:solidFill>
                <a:uFillTx/>
                <a:latin typeface="Tahoma"/>
              </a:rPr>
              <a:t>Задача 2.3:</a:t>
            </a:r>
            <a:r>
              <a:rPr b="1" lang="ru-RU" sz="1600" spc="-1" strike="noStrike">
                <a:solidFill>
                  <a:srgbClr val="cc3300"/>
                </a:solidFill>
                <a:latin typeface="Tahoma"/>
              </a:rPr>
              <a:t> Интенсивное и качественное лечение заболеваний, развитие специализированной и высокотехнологичной медицинской помощ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3419640" y="44280"/>
            <a:ext cx="572436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Медико-гигиеническое образование населения (санитарно-просветительная литература – подготовлено и издано 216,6 тыс.экз., более 150 выступлений и публикаций в СМИ, циклы теле-, радиопередач; подготовлены 1145 педагогов по социальным воп-росам профилактики; проведено 6 социологических исследований по вопросу вредных привычек; 23 536 чел. проконсультировано по вопросу здорового образа жизни; проведено 250 занятий с подростками (4447 чел.) по формированию навыков безопасного поведения ), в школах здоровья обучено 17624 ч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Организовано межведомственное взаимодействие с учреждениями культуры, образования, общественными международными и религиозными организация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419640" y="2421000"/>
            <a:ext cx="5724360" cy="23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Внедрен одноканальный подушевой механизм финансирования (85% - доля финансирования через систему ОМС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Формируется приоритетность первичной медико-санитарной помощ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Внедрена отраслевая оплата труда в здравоохранен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Создана конкурентная среда и рынок медицинских услуг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Возросла эффективность использования ресурсов здравоохран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300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Система здравоохранения нацелена на охрану здоровья и на профилактику, раннюю диагностику заболева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11"/>
          <p:cNvSpPr/>
          <p:nvPr/>
        </p:nvSpPr>
        <p:spPr>
          <a:xfrm>
            <a:off x="3492360" y="2421000"/>
            <a:ext cx="17272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3492360" y="4797360"/>
            <a:ext cx="17272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8" name="AutoShape 2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99" name="AutoShape 3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00" name="AutoShape 4"/>
          <p:cNvSpPr/>
          <p:nvPr/>
        </p:nvSpPr>
        <p:spPr>
          <a:xfrm>
            <a:off x="324000" y="1700280"/>
            <a:ext cx="3744720" cy="79200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e1e"/>
                </a:solidFill>
                <a:latin typeface="Arial"/>
              </a:rPr>
              <a:t>Совершенствование медико-гигиенического образования и воспит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26880" y="2637000"/>
            <a:ext cx="3741840" cy="86328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e1e"/>
                </a:solidFill>
                <a:latin typeface="Arial"/>
              </a:rPr>
              <a:t>Создание эффективной системы мер по борьбе с вредными привычкам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324000" y="3645000"/>
            <a:ext cx="3744720" cy="647640"/>
          </a:xfrm>
          <a:prstGeom prst="roundRect">
            <a:avLst>
              <a:gd name="adj" fmla="val 1069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1e1e"/>
                </a:solidFill>
                <a:latin typeface="Arial"/>
              </a:rPr>
              <a:t>Обеспечение здорового пит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24000" y="1125360"/>
            <a:ext cx="8424720" cy="432000"/>
          </a:xfrm>
          <a:prstGeom prst="roundRect">
            <a:avLst>
              <a:gd name="adj" fmla="val 1069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ahoma"/>
              </a:rPr>
              <a:t>Формирование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26880" y="4437000"/>
            <a:ext cx="3741840" cy="581040"/>
          </a:xfrm>
          <a:prstGeom prst="roundRect">
            <a:avLst>
              <a:gd name="adj" fmla="val 10699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e1e"/>
                </a:solidFill>
                <a:latin typeface="Arial"/>
              </a:rPr>
              <a:t>Развитие массовой физкультуры и спор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24000" y="5157720"/>
            <a:ext cx="3744720" cy="863640"/>
          </a:xfrm>
          <a:prstGeom prst="roundRect">
            <a:avLst>
              <a:gd name="adj" fmla="val 10699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21e1e"/>
                </a:solidFill>
                <a:latin typeface="Arial"/>
              </a:rPr>
              <a:t>Снижение риска воздействия неблагоприятных факторов внешней сре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4284720" y="1773360"/>
            <a:ext cx="4680000" cy="1439640"/>
          </a:xfrm>
          <a:prstGeom prst="roundRect">
            <a:avLst>
              <a:gd name="adj" fmla="val 10699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оздание системы мотивирования руководителей учреждений школьного образования к охране здоровья и формированию здорового образа жизни школь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13"/>
          <p:cNvSpPr/>
          <p:nvPr/>
        </p:nvSpPr>
        <p:spPr>
          <a:xfrm>
            <a:off x="4284720" y="3432240"/>
            <a:ext cx="4680000" cy="1149120"/>
          </a:xfrm>
          <a:prstGeom prst="roundRect">
            <a:avLst>
              <a:gd name="adj" fmla="val 10699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Создание системы мотивирования граждан к ведению здорового образа жизни и участию в профилактических мероприяти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4284720" y="4795920"/>
            <a:ext cx="4680000" cy="1081080"/>
          </a:xfrm>
          <a:prstGeom prst="roundRect">
            <a:avLst>
              <a:gd name="adj" fmla="val 10699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Создание системы мотивирования работодателей к участию в охране здоровья работнико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29"/>
          <p:cNvSpPr/>
          <p:nvPr/>
        </p:nvSpPr>
        <p:spPr>
          <a:xfrm>
            <a:off x="1044720" y="6165720"/>
            <a:ext cx="7056360" cy="648000"/>
          </a:xfrm>
          <a:prstGeom prst="roundRect">
            <a:avLst>
              <a:gd name="adj" fmla="val 10699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474c"/>
                </a:solidFill>
                <a:latin typeface="Arial"/>
              </a:rPr>
              <a:t>Массовая профилактика факторов риска неинфекционных заболев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324000" y="117360"/>
            <a:ext cx="8497800" cy="863640"/>
          </a:xfrm>
          <a:prstGeom prst="roundRect">
            <a:avLst>
              <a:gd name="adj" fmla="val 10699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ahoma"/>
              </a:rPr>
              <a:t>Задача 2.1: Формирование у населения Калининградской области восприятия здоровья в духовно-телесном единстве этого понятия, как фундаментальной ценно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66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002 "/>
          <p:cNvPicPr/>
          <p:nvPr/>
        </p:nvPicPr>
        <p:blipFill>
          <a:blip r:embed="rId1"/>
          <a:stretch/>
        </p:blipFill>
        <p:spPr>
          <a:xfrm>
            <a:off x="0" y="250920"/>
            <a:ext cx="9144000" cy="63468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66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035  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8750880" y="652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-10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Rectangle -1021"/>
          <p:cNvSpPr/>
          <p:nvPr/>
        </p:nvSpPr>
        <p:spPr>
          <a:xfrm>
            <a:off x="1116000" y="4035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Калининградская региональная молодежна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общественная орган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«Свобода действи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14" descr="090402_Свобода действий копия"/>
          <p:cNvPicPr/>
          <p:nvPr/>
        </p:nvPicPr>
        <p:blipFill>
          <a:blip r:embed="rId2"/>
          <a:stretch/>
        </p:blipFill>
        <p:spPr>
          <a:xfrm>
            <a:off x="108000" y="476280"/>
            <a:ext cx="695160" cy="8445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5"/>
          <p:cNvSpPr/>
          <p:nvPr/>
        </p:nvSpPr>
        <p:spPr>
          <a:xfrm>
            <a:off x="900000" y="2635200"/>
            <a:ext cx="72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Изучени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общественного мнени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в отношении удовлетворённост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качеством медицинской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050"/>
                </a:solidFill>
                <a:latin typeface="Tahoma"/>
              </a:rPr>
              <a:t>помощ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Прямоугольник 7"/>
          <p:cNvSpPr/>
          <p:nvPr/>
        </p:nvSpPr>
        <p:spPr>
          <a:xfrm>
            <a:off x="1714680" y="1428840"/>
            <a:ext cx="1839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4067280" y="630252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Tahoma"/>
              </a:rPr>
              <a:t>2009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1187280" y="2276640"/>
            <a:ext cx="7488360" cy="0"/>
          </a:xfrm>
          <a:prstGeom prst="line">
            <a:avLst/>
          </a:prstGeom>
          <a:ln w="7632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01320" y="620640"/>
            <a:ext cx="725796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ремя проведения: апрель 2009 года</a:t>
            </a:r>
            <a:endParaRPr b="1" lang="en-US" sz="2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2360" y="2276640"/>
            <a:ext cx="85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5520" indent="-26460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     </a:t>
            </a: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В исследовании участвовало: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5520" indent="-264600" algn="ctr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5050"/>
                </a:solidFill>
                <a:latin typeface="Tahoma"/>
              </a:rPr>
              <a:t>  </a:t>
            </a: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   </a:t>
            </a: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1215 респондентов, из них 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5520" indent="-264600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5520" indent="-264600">
              <a:lnSpc>
                <a:spcPct val="150000"/>
              </a:lnSpc>
              <a:spcBef>
                <a:spcPts val="675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36% - жители г. Калининград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5520" indent="-264600">
              <a:lnSpc>
                <a:spcPct val="150000"/>
              </a:lnSpc>
              <a:spcBef>
                <a:spcPts val="675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56% - жители Калининградской области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5520" indent="-264600">
              <a:lnSpc>
                <a:spcPct val="150000"/>
              </a:lnSpc>
              <a:spcBef>
                <a:spcPts val="675"/>
              </a:spcBef>
              <a:buClr>
                <a:srgbClr val="f7cc2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 </a:t>
            </a:r>
            <a:r>
              <a:rPr b="1" lang="ru-RU" sz="2700" spc="-1" strike="noStrike">
                <a:solidFill>
                  <a:srgbClr val="ff5050"/>
                </a:solidFill>
                <a:latin typeface="Tahoma"/>
              </a:rPr>
              <a:t>8% - не дали ответ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066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3" descr="Копия P4290063"/>
          <p:cNvPicPr/>
          <p:nvPr/>
        </p:nvPicPr>
        <p:blipFill>
          <a:blip r:embed="rId1"/>
          <a:stretch/>
        </p:blipFill>
        <p:spPr>
          <a:xfrm>
            <a:off x="34920" y="112680"/>
            <a:ext cx="2981160" cy="2236680"/>
          </a:xfrm>
          <a:prstGeom prst="rect">
            <a:avLst/>
          </a:prstGeom>
          <a:ln w="57240">
            <a:solidFill>
              <a:srgbClr val="c0666a"/>
            </a:solidFill>
            <a:miter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122" name="Picture 34" descr="13"/>
          <p:cNvPicPr/>
          <p:nvPr/>
        </p:nvPicPr>
        <p:blipFill>
          <a:blip r:embed="rId2"/>
          <a:stretch/>
        </p:blipFill>
        <p:spPr>
          <a:xfrm>
            <a:off x="4500720" y="3716280"/>
            <a:ext cx="4608360" cy="3073320"/>
          </a:xfrm>
          <a:prstGeom prst="rect">
            <a:avLst/>
          </a:prstGeom>
          <a:ln w="57240">
            <a:solidFill>
              <a:srgbClr val="c0666a"/>
            </a:solidFill>
            <a:miter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123" name="Picture 6" descr="10"/>
          <p:cNvPicPr/>
          <p:nvPr/>
        </p:nvPicPr>
        <p:blipFill>
          <a:blip r:embed="rId3"/>
          <a:stretch/>
        </p:blipFill>
        <p:spPr>
          <a:xfrm>
            <a:off x="1258920" y="1353960"/>
            <a:ext cx="6408720" cy="3397320"/>
          </a:xfrm>
          <a:prstGeom prst="rect">
            <a:avLst/>
          </a:prstGeom>
          <a:ln w="25560">
            <a:solidFill>
              <a:srgbClr val="c96f6f"/>
            </a:solidFill>
            <a:miter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124" name="Picture 12" descr="14"/>
          <p:cNvPicPr/>
          <p:nvPr/>
        </p:nvPicPr>
        <p:blipFill>
          <a:blip r:embed="rId4"/>
          <a:stretch/>
        </p:blipFill>
        <p:spPr>
          <a:xfrm rot="20832600">
            <a:off x="3560400" y="4287960"/>
            <a:ext cx="3171960" cy="1984320"/>
          </a:xfrm>
          <a:prstGeom prst="rect">
            <a:avLst/>
          </a:prstGeom>
          <a:ln w="25560">
            <a:solidFill>
              <a:srgbClr val="c96f6f"/>
            </a:solidFill>
            <a:miter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125" name="Picture 24" descr="1"/>
          <p:cNvPicPr/>
          <p:nvPr/>
        </p:nvPicPr>
        <p:blipFill>
          <a:blip r:embed="rId5"/>
          <a:stretch/>
        </p:blipFill>
        <p:spPr>
          <a:xfrm>
            <a:off x="2701800" y="333360"/>
            <a:ext cx="6262920" cy="1266840"/>
          </a:xfrm>
          <a:prstGeom prst="rect">
            <a:avLst/>
          </a:prstGeom>
          <a:ln w="57240">
            <a:solidFill>
              <a:srgbClr val="c0666a"/>
            </a:solidFill>
            <a:miter/>
          </a:ln>
          <a:effectLst>
            <a:outerShdw dist="107932" dir="189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126" name="Picture 4" descr="8"/>
          <p:cNvPicPr/>
          <p:nvPr/>
        </p:nvPicPr>
        <p:blipFill>
          <a:blip r:embed="rId6"/>
          <a:stretch/>
        </p:blipFill>
        <p:spPr>
          <a:xfrm rot="1441800">
            <a:off x="323640" y="4149720"/>
            <a:ext cx="2971800" cy="1981080"/>
          </a:xfrm>
          <a:prstGeom prst="rect">
            <a:avLst/>
          </a:prstGeom>
          <a:ln w="25560">
            <a:solidFill>
              <a:srgbClr val="c96f6f"/>
            </a:solidFill>
            <a:miter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sp>
        <p:nvSpPr>
          <p:cNvPr id="127" name="Text Box 35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4920" y="692280"/>
            <a:ext cx="6192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99"/>
                </a:solidFill>
                <a:latin typeface="Tahoma"/>
              </a:rPr>
              <a:t>Считаете ли Вы здоровье </a:t>
            </a:r>
            <a:br>
              <a:rPr sz="2700"/>
            </a:br>
            <a:r>
              <a:rPr b="1" lang="en-US" sz="2700" spc="-1" strike="noStrike">
                <a:solidFill>
                  <a:srgbClr val="ffcc99"/>
                </a:solidFill>
                <a:latin typeface="Tahoma"/>
              </a:rPr>
              <a:t>главной ценностью в жизни?</a:t>
            </a:r>
            <a:endParaRPr b="1" lang="en-US" sz="27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144360" y="2087640"/>
          <a:ext cx="946800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2087640"/>
                    <a:ext cx="946800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5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2411280" y="3789360"/>
            <a:ext cx="505080" cy="431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Как изменилось качество медицинского обслуживания  в 2009 году </a:t>
            </a:r>
            <a:br>
              <a:rPr sz="2400"/>
            </a:br>
            <a:r>
              <a:rPr b="1" lang="en-US" sz="2400" spc="-1" strike="noStrike">
                <a:solidFill>
                  <a:srgbClr val="ffcc99"/>
                </a:solidFill>
                <a:latin typeface="Tahoma"/>
              </a:rPr>
              <a:t>по сравнению с 2008 годом?</a:t>
            </a:r>
            <a:endParaRPr b="1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0" y="1787400"/>
          <a:ext cx="8707320" cy="551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7400"/>
                    <a:ext cx="87073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1763640" y="3933720"/>
            <a:ext cx="504720" cy="432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rcRect l="4012" t="3299" r="4000" b="11048"/>
          <a:stretch/>
        </p:blipFill>
        <p:spPr>
          <a:xfrm>
            <a:off x="5148360" y="4311720"/>
            <a:ext cx="3311280" cy="2160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240" name="Picture 10" descr=""/>
          <p:cNvPicPr/>
          <p:nvPr/>
        </p:nvPicPr>
        <p:blipFill>
          <a:blip r:embed="rId2"/>
          <a:srcRect l="0" t="2123" r="1536" b="14793"/>
          <a:stretch/>
        </p:blipFill>
        <p:spPr>
          <a:xfrm>
            <a:off x="2124000" y="1268280"/>
            <a:ext cx="4680000" cy="2799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sp>
        <p:nvSpPr>
          <p:cNvPr id="241" name="Rectangle 3"/>
          <p:cNvSpPr/>
          <p:nvPr/>
        </p:nvSpPr>
        <p:spPr>
          <a:xfrm>
            <a:off x="611280" y="189000"/>
            <a:ext cx="79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99"/>
                </a:solidFill>
                <a:latin typeface="Tahoma"/>
                <a:ea typeface="Arial"/>
              </a:rPr>
              <a:t>Изучение информированности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99"/>
                </a:solidFill>
                <a:latin typeface="Tahoma"/>
                <a:ea typeface="Arial"/>
              </a:rPr>
              <a:t>детей и подростков о здоровом образе жизн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2" name="Group 17"/>
          <p:cNvGrpSpPr/>
          <p:nvPr/>
        </p:nvGrpSpPr>
        <p:grpSpPr>
          <a:xfrm>
            <a:off x="539640" y="4292640"/>
            <a:ext cx="3672000" cy="2232000"/>
            <a:chOff x="539640" y="4292640"/>
            <a:chExt cx="3672000" cy="2232000"/>
          </a:xfrm>
        </p:grpSpPr>
        <p:graphicFrame>
          <p:nvGraphicFramePr>
            <p:cNvPr id="243" name="Object 15"/>
            <p:cNvGraphicFramePr/>
            <p:nvPr/>
          </p:nvGraphicFramePr>
          <p:xfrm>
            <a:off x="539640" y="4292640"/>
            <a:ext cx="3672000" cy="2232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4" name="Object 1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9640" y="4292640"/>
                      <a:ext cx="3672000" cy="223200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e6bcbc">
                          <a:alpha val="50000"/>
                        </a:srgbClr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45" name="Text Box 16"/>
            <p:cNvSpPr/>
            <p:nvPr/>
          </p:nvSpPr>
          <p:spPr>
            <a:xfrm>
              <a:off x="2411280" y="4335480"/>
              <a:ext cx="15670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00"/>
                  </a:solidFill>
                  <a:latin typeface="Arial"/>
                </a:rPr>
                <a:t>Имеешь ли ты вредные привычки ?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IMG_8424"/>
          <p:cNvPicPr/>
          <p:nvPr/>
        </p:nvPicPr>
        <p:blipFill>
          <a:blip r:embed="rId1"/>
          <a:stretch/>
        </p:blipFill>
        <p:spPr>
          <a:xfrm>
            <a:off x="844560" y="1353960"/>
            <a:ext cx="7543800" cy="5027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611280" y="40464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cc99"/>
                </a:solidFill>
                <a:latin typeface="Tahoma"/>
                <a:ea typeface="Arial"/>
              </a:rPr>
              <a:t>Конференция «Пусть у всех будет детство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30"/>
          <p:cNvSpPr/>
          <p:nvPr/>
        </p:nvSpPr>
        <p:spPr>
          <a:xfrm>
            <a:off x="1042920" y="32400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844640"/>
          <a:ext cx="9109080" cy="460548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50220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5548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Стратегическая цель: Развитие и совершенствование здравоохранения Калининградской области, как института охраны здоровья, профилактики и лечения заболеваний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12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7c80"/>
                          </a:solidFill>
                          <a:latin typeface="Tahoma"/>
                        </a:rPr>
                        <a:t>Тактическая задача 2.1: Формирование у населения Калининградской области восприятия здоровья в духовно-телесном единстве этого понятия, как фундаментальной ценност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93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ценка населени-ем здоровья, как главной ценности, по результатам социологических опросов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0/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6430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нкетирование це-левых групп моло-дежи на наличие вредных привы-чек (табакокуре-ние, алкоголизм, употребление нар-котиков)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0/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251" name="Text Box 80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8008920" y="779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253" name="AutoShape 4"/>
          <p:cNvCxnSpPr/>
          <p:nvPr/>
        </p:nvCxnSpPr>
        <p:spPr>
          <a:xfrm>
            <a:off x="6932160" y="19141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54" name="AutoShape 5"/>
          <p:cNvCxnSpPr/>
          <p:nvPr/>
        </p:nvCxnSpPr>
        <p:spPr>
          <a:xfrm>
            <a:off x="6932160" y="19141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55" name="AutoShape 6"/>
          <p:cNvSpPr/>
          <p:nvPr/>
        </p:nvSpPr>
        <p:spPr>
          <a:xfrm>
            <a:off x="262080" y="1276200"/>
            <a:ext cx="4886280" cy="45108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Одноканальная модель финансирова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250920" y="1830240"/>
            <a:ext cx="6337080" cy="45252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Подушевой способ оплаты медицинских услу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246240" y="2349360"/>
            <a:ext cx="7565760" cy="708120"/>
          </a:xfrm>
          <a:prstGeom prst="roundRect">
            <a:avLst>
              <a:gd name="adj" fmla="val 1069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Полное фондодержание учреждений здравоохранения, оказывающих амбулаторно-поликлиническую медицинскую помощь, с организацией межучрежденческих расчето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AutoShape 9"/>
          <p:cNvSpPr/>
          <p:nvPr/>
        </p:nvSpPr>
        <p:spPr>
          <a:xfrm>
            <a:off x="244440" y="3135240"/>
            <a:ext cx="8431200" cy="565200"/>
          </a:xfrm>
          <a:prstGeom prst="roundRect">
            <a:avLst>
              <a:gd name="adj" fmla="val 1069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Включение отделений скорой медицинской помощи муниципальных ЛПУ (за исключением Станции скорой медицинской помощи г.Калининграда) в систему ОМ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10"/>
          <p:cNvSpPr/>
          <p:nvPr/>
        </p:nvSpPr>
        <p:spPr>
          <a:xfrm>
            <a:off x="250920" y="3767040"/>
            <a:ext cx="7850160" cy="541440"/>
          </a:xfrm>
          <a:prstGeom prst="roundRect">
            <a:avLst>
              <a:gd name="adj" fmla="val 10699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Введение отраслевых принципов организации труда работников учреждений здравоохранения, работающих в системе ОМС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11"/>
          <p:cNvSpPr/>
          <p:nvPr/>
        </p:nvSpPr>
        <p:spPr>
          <a:xfrm>
            <a:off x="250920" y="5067360"/>
            <a:ext cx="8281800" cy="779400"/>
          </a:xfrm>
          <a:prstGeom prst="roundRect">
            <a:avLst>
              <a:gd name="adj" fmla="val 10699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Осуществление рейтинговой оценки деятельности  учреждений здравоохранения в соответствии с разработанными критериями эффективности деятельности учреждений здравоохранен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12"/>
          <p:cNvSpPr/>
          <p:nvPr/>
        </p:nvSpPr>
        <p:spPr>
          <a:xfrm>
            <a:off x="250920" y="4394160"/>
            <a:ext cx="7561080" cy="614520"/>
          </a:xfrm>
          <a:prstGeom prst="roundRect">
            <a:avLst>
              <a:gd name="adj" fmla="val 10699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Создание Советов по оценке эффективности деятельности структурных подразделений и работников ЛПУ и распределению фонда оплаты труд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13"/>
          <p:cNvSpPr/>
          <p:nvPr/>
        </p:nvSpPr>
        <p:spPr>
          <a:xfrm>
            <a:off x="250920" y="5867280"/>
            <a:ext cx="8640720" cy="779760"/>
          </a:xfrm>
          <a:prstGeom prst="roundRect">
            <a:avLst>
              <a:gd name="adj" fmla="val 10699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21e1e"/>
                </a:solidFill>
                <a:latin typeface="Arial"/>
              </a:rPr>
              <a:t>Внедрение оплаты лечения в стационаре за законченный случай стационарного лечения по нозологическим формам МКБ-10 (вне зависимости от типа, уровня, формы собственности учреждения здравоохранения и длительности лечения</a:t>
            </a:r>
            <a:r>
              <a:rPr b="0" lang="ru-RU" sz="1400" spc="-1" strike="noStrike">
                <a:solidFill>
                  <a:srgbClr val="721e1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Text Box 14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042920" y="187200"/>
            <a:ext cx="7921800" cy="938160"/>
          </a:xfrm>
          <a:prstGeom prst="roundRect">
            <a:avLst>
              <a:gd name="adj" fmla="val 10699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77840" indent="-107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3300"/>
                </a:solidFill>
                <a:latin typeface="Tahoma"/>
              </a:rPr>
              <a:t>Задача 2.2: Детерминация системы здравоохранения на сохранение здоровья населения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412920" y="1197000"/>
          <a:ext cx="8175600" cy="52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1197000"/>
                    <a:ext cx="817560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Оптимизация коечной сети государственных и муниципальных  учреждений здравоохранения Калининградской област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Object 2"/>
          <p:cNvGraphicFramePr/>
          <p:nvPr/>
        </p:nvGraphicFramePr>
        <p:xfrm>
          <a:off x="182520" y="792000"/>
          <a:ext cx="875196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792000"/>
                    <a:ext cx="8751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AutoShape 10"/>
          <p:cNvSpPr/>
          <p:nvPr/>
        </p:nvSpPr>
        <p:spPr>
          <a:xfrm>
            <a:off x="179280" y="189000"/>
            <a:ext cx="8713800" cy="57600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ahoma"/>
              </a:rPr>
              <a:t>Объемы медицинской помощи на одного жи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750520" y="6534000"/>
            <a:ext cx="421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cc"/>
                </a:solidFill>
                <a:latin typeface="Arial"/>
              </a:rPr>
              <a:t>28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4040" y="1266840"/>
          <a:ext cx="8535960" cy="5308560"/>
        </p:xfrm>
        <a:graphic>
          <a:graphicData uri="http://schemas.openxmlformats.org/drawingml/2006/table">
            <a:tbl>
              <a:tblPr/>
              <a:tblGrid>
                <a:gridCol w="1727280"/>
                <a:gridCol w="2935440"/>
                <a:gridCol w="952560"/>
                <a:gridCol w="2184120"/>
                <a:gridCol w="736560"/>
              </a:tblGrid>
              <a:tr h="459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Туберкуле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1368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удельный вес больных, выявленных акти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1368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1368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увеличился на 19,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1368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58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1368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38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выявляемость на ранних стадия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увеличилась на 28,7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1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мертность от туберкуле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низилась на 85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1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заболевае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низилась на 19,9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10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распростране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больны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низилась на 34,2 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20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460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ВИЧ/СП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охват лечением ВИЧ-инфицирован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увеличился в 5,8 р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9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летальность ВИЧ-инфицирован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низилась в 1,9 р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2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мертность от СПИ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увеличилась на 29,2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заболеваемость СПИД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0 больны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увеличилась на 20,6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1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6415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Гепат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1368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заболеваем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достигнут индикативный показ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заболеваемость острыми вирусными гепатитам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низилась в 22,3 р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576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в т.ч. гепатитом 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1368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на 100 тыс. населе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1368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снизилась в 3 раз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576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1368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bfad1"/>
                          </a:solidFill>
                          <a:latin typeface="Tahoma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bfad1"/>
                      </a:solidFill>
                    </a:lnL>
                    <a:lnR w="13680">
                      <a:solidFill>
                        <a:srgbClr val="fbfad1"/>
                      </a:solidFill>
                    </a:lnR>
                    <a:lnT w="5760">
                      <a:solidFill>
                        <a:srgbClr val="fbfad1"/>
                      </a:solidFill>
                    </a:lnT>
                    <a:lnB w="13680">
                      <a:solidFill>
                        <a:srgbClr val="fbfad1"/>
                      </a:solidFill>
                    </a:lnB>
                    <a:solidFill>
                      <a:srgbClr val="c96f6f"/>
                    </a:solidFill>
                  </a:tcPr>
                </a:tc>
              </a:tr>
            </a:tbl>
          </a:graphicData>
        </a:graphic>
      </p:graphicFrame>
      <p:sp>
        <p:nvSpPr>
          <p:cNvPr id="275" name="AutoShape 30"/>
          <p:cNvSpPr/>
          <p:nvPr/>
        </p:nvSpPr>
        <p:spPr>
          <a:xfrm>
            <a:off x="1044720" y="333360"/>
            <a:ext cx="7775280" cy="64764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d3737"/>
                </a:solidFill>
                <a:latin typeface="Arial"/>
              </a:rPr>
              <a:t>Динамика показателей за 2005 - 2009 го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6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Число работающих в государственных (муниципальных)  учреждениях здравоохранения на конец года </a:t>
            </a:r>
            <a:r>
              <a:rPr b="1" lang="en-US" sz="1400" spc="-1" strike="noStrike">
                <a:solidFill>
                  <a:srgbClr val="ffcc99"/>
                </a:solidFill>
                <a:latin typeface="Tahoma"/>
              </a:rPr>
              <a:t>(на 10 000 чел. населения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8" name="Object 8"/>
          <p:cNvGraphicFramePr/>
          <p:nvPr/>
        </p:nvGraphicFramePr>
        <p:xfrm>
          <a:off x="322200" y="1228680"/>
          <a:ext cx="8359920" cy="551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2200" y="1228680"/>
                    <a:ext cx="83599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5364000" y="1844640"/>
            <a:ext cx="338472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7cc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7cc2f"/>
                </a:solidFill>
                <a:latin typeface="Arial"/>
              </a:rPr>
              <a:t>Развитие и совершенствование здравоохранения Калининградской области, как института охраны здоровья, профилактики и лечения заболеваний</a:t>
            </a:r>
            <a:r>
              <a:rPr b="0" lang="en-US" sz="1500" spc="-1" strike="noStrike">
                <a:solidFill>
                  <a:srgbClr val="f7cc2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95280" y="189000"/>
            <a:ext cx="2089080" cy="129528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ahoma"/>
              </a:rPr>
              <a:t>Стратегическа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ahoma"/>
              </a:rPr>
              <a:t>цель (миссия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ahoma"/>
              </a:rPr>
              <a:t>Министерства здравоохранени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Tahoma"/>
              </a:rPr>
              <a:t>Калининградской области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987640" y="260280"/>
            <a:ext cx="59770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7cc2f"/>
                </a:solidFill>
                <a:latin typeface="Arial"/>
              </a:rPr>
              <a:t>Улучшение состояния здоровья населения Калининградской области до уровня,  сопоставимого с показателями Европейских стран, повышение человеческого потенциала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844640"/>
            <a:ext cx="4825800" cy="18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7cc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7cc2f"/>
                </a:solidFill>
                <a:latin typeface="Arial"/>
              </a:rPr>
              <a:t>Популяризация и развитие физической культуры и спорта, как элемента духовно-нравственного и физического воспитания и совершенствования личности, профилактики заболеваний, улучшения здоровья населения  и  активного долголетия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4284720" y="1557360"/>
            <a:ext cx="1152360" cy="431640"/>
          </a:xfrm>
          <a:prstGeom prst="roundRect">
            <a:avLst>
              <a:gd name="adj" fmla="val 1069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Ц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4213080" y="3716280"/>
            <a:ext cx="1295640" cy="432000"/>
          </a:xfrm>
          <a:prstGeom prst="roundRect">
            <a:avLst>
              <a:gd name="adj" fmla="val 1069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24000" y="4527720"/>
            <a:ext cx="4824360" cy="19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Создание средствами физической культуры и спорта достойного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подражания образа гармонично развитого в духовно-нравственном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и физическом отношении человека, как основы для мотивации к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здоровому образу жизни, физическому развитию и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совершенствованию, отказу от вредных привычек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Привлечение населения к массовым занятиям физической культурой и спортом, улучшение показателей физической</a:t>
            </a:r>
            <a:r>
              <a:rPr b="1" lang="ru-RU" sz="9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подготовленности и здоровья населения</a:t>
            </a:r>
            <a:r>
              <a:rPr b="1" lang="ru-RU" sz="9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SzPct val="1030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Развитие спорта высших достижений, как элемента героико-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патриотического воспитания молодежи, формирования лидерских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качеств, мужества, настойчивости в достижении цели, успешност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5364000" y="4581360"/>
            <a:ext cx="3529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Формирование у населения Калининградской области восприятия здоровья в духовно-телесном единстве этого понятия, как фундаментальной ценности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Детерминация  системы здравоохранения на сохранение здоровья населения, профилактику заболевания, их раннюю диагностику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Интенсивное и качественное лечение заболеваний, развитие специализированной и высокотехнологичной медицинской помощ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Freeform 15"/>
          <p:cNvSpPr/>
          <p:nvPr/>
        </p:nvSpPr>
        <p:spPr>
          <a:xfrm flipH="1" rot="19630200">
            <a:off x="2029320" y="3781440"/>
            <a:ext cx="1389240" cy="471960"/>
          </a:xfrm>
          <a:prstGeom prst="pie">
            <a:avLst/>
          </a:prstGeom>
          <a:gradFill rotWithShape="0">
            <a:gsLst>
              <a:gs pos="0">
                <a:srgbClr val="ffcc99"/>
              </a:gs>
              <a:gs pos="100000">
                <a:srgbClr val="ff5050"/>
              </a:gs>
            </a:gsLst>
            <a:lin ang="19632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Freeform 15"/>
          <p:cNvSpPr/>
          <p:nvPr/>
        </p:nvSpPr>
        <p:spPr>
          <a:xfrm flipH="1" rot="21465000">
            <a:off x="3203280" y="1557360"/>
            <a:ext cx="1006560" cy="480960"/>
          </a:xfrm>
          <a:prstGeom prst="pie">
            <a:avLst/>
          </a:prstGeom>
          <a:gradFill rotWithShape="0">
            <a:gsLst>
              <a:gs pos="0">
                <a:srgbClr val="ffcc99"/>
              </a:gs>
              <a:gs pos="100000">
                <a:srgbClr val="ff5050"/>
              </a:gs>
            </a:gsLst>
            <a:lin ang="21468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Freeform 15"/>
          <p:cNvSpPr/>
          <p:nvPr/>
        </p:nvSpPr>
        <p:spPr>
          <a:xfrm rot="536400">
            <a:off x="5509800" y="1577520"/>
            <a:ext cx="933480" cy="405000"/>
          </a:xfrm>
          <a:prstGeom prst="pie">
            <a:avLst/>
          </a:prstGeom>
          <a:gradFill rotWithShape="0">
            <a:gsLst>
              <a:gs pos="0">
                <a:srgbClr val="ffcc99"/>
              </a:gs>
              <a:gs pos="100000">
                <a:srgbClr val="ff5050"/>
              </a:gs>
            </a:gsLst>
            <a:lin ang="21066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Freeform 15"/>
          <p:cNvSpPr/>
          <p:nvPr/>
        </p:nvSpPr>
        <p:spPr>
          <a:xfrm rot="2041800">
            <a:off x="6532200" y="3832200"/>
            <a:ext cx="1352520" cy="432000"/>
          </a:xfrm>
          <a:prstGeom prst="pie">
            <a:avLst/>
          </a:prstGeom>
          <a:gradFill rotWithShape="0">
            <a:gsLst>
              <a:gs pos="0">
                <a:srgbClr val="ffcc99"/>
              </a:gs>
              <a:gs pos="100000">
                <a:srgbClr val="ff5050"/>
              </a:gs>
            </a:gsLst>
            <a:lin ang="19560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3"/>
          <p:cNvGraphicFramePr/>
          <p:nvPr/>
        </p:nvGraphicFramePr>
        <p:xfrm>
          <a:off x="41400" y="888840"/>
          <a:ext cx="8966160" cy="541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888840"/>
                    <a:ext cx="8966160" cy="541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8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Финансирование территориальной Программы государственных гарантий за период 2006 – 2009 годы (млн.руб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396720" y="1009800"/>
          <a:ext cx="8255160" cy="55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1009800"/>
                    <a:ext cx="8255160" cy="55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Средняя номинальная начисленная заработная плата работников государственных (муниципальных)  учреждений здравоохра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AutoShape 30"/>
          <p:cNvSpPr/>
          <p:nvPr/>
        </p:nvSpPr>
        <p:spPr>
          <a:xfrm>
            <a:off x="1042920" y="32400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0" y="1125360"/>
          <a:ext cx="9109080" cy="569772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0176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4684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7c80"/>
                          </a:solidFill>
                          <a:latin typeface="Tahoma"/>
                        </a:rPr>
                        <a:t>Тактическая задача 2.2: Детерминация системы здравоохранения на сохранение здоровья населения, профилактику заболеваний, их раннюю диагностику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800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оля Г(М) УЗ, пе-реведенных преи-мущественно на одноканальное финансирование через систему ОМС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8/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3391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оля Г(М)УЗ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9548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применяющих медико-эконо-мические стан-дарты оказания медицинской помощ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0/1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91296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переведенных на оплату медици-нской помощи по результатам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9,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9548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переведенных на новую (отрасле-вую) систему оп-латы труда, орие-нтированную на результа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290" name="Text Box 80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0" y="1197000"/>
          <a:ext cx="9109080" cy="561672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046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4846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ъем медицинс-кой помощи в рас-чете на одного жи-теля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койко-дни )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, в т.ч.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) стационарная медицинская помощ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3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55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3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4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6682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) амбулаторная медицинская по-мощь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сещения па-циенто-дни )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* амбулаторно-поликлиническая помощ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* дневные стациона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6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9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4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927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3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7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4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8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5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2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8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6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5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,0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5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430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) скорая медици-нская помощь 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ызовы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6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6951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коек в Г(М)УЗ (на конец года)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en-US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ол-во на 10 тыс. нас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4,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1,9 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1,3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62100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реднегодовая занятость койки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дн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2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2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4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292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Text Box 85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0" y="1862280"/>
          <a:ext cx="9109080" cy="430344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50148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049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ровень госпита-лизации в Г(М)УЗ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. на 100 чел. нас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4/1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1793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редняя продол-жительность пре-бывания пациен-та на койке в Г(М)УЗ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дн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9/1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8176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редняя продол-жительность вре--менной нетрудо-способности в свя-зи с заболеванием в расчете на одно-го работающего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дн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4/1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295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117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0" y="1862280"/>
          <a:ext cx="9109080" cy="459108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856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796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ровень охвата профилактичес-кими прививками детского населе-ния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8/9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2967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оля профилакти-ческих посещений в общем числе ам-булаторно-полик-линических посе-щений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,0/2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7290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работаю-щих граждан, про-шедших дополни-тельную диспансе-ризацию от числа лиц, подлежащих дополнительной диспансеризации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/1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298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Text Box 135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0" y="1700280"/>
          <a:ext cx="9109080" cy="510372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6512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6588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дельный вес де-тей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и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групп здоровья в общей численности уча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щихся государст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енных (муници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альных) общео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бразовательных учреждений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5,0/8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588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атеринская сме-ртность на 100 тыс. родившихся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коэфф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5/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6462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мертность детей </a:t>
                      </a: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 тыс. чел. соотв. возра-ста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от 1 года до 4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от 5 до 9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от 10 до 14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15 до 19 ле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ан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ан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4,9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4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4,6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4,5/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3/3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4/3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0,5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8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745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щая смертность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0 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2/1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01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94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0" y="1700280"/>
          <a:ext cx="9109080" cy="511344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50148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905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мертность от бо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лезней органов кровообращения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 100 тыс.  нас.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58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9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5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4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48,5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1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9302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мертность от не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частных случаев, отравления и травм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 100 тыс.  нас.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6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3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0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876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мертность от зло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ачественных новообразований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а 100 тыс.  нас.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7,7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21034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кращение эко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омических по-терь общества от временной нетру-доспособности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лрд. руб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/)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Валов. регион. продукт</a:t>
                      </a:r>
                      <a:r>
                        <a:rPr b="1" i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работающих           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Число дней нетрудоспособности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рабочих дней в году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8/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04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107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465200"/>
          <a:ext cx="9109080" cy="534996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6656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375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реднемесячная номинальная на-численная зарабо-тная плата работ-ников Г(М)УЗ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577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17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442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836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400,0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852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173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832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52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25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012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813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3625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) врач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936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717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817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600,0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374,8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909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45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301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3594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183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78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6217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) среднего меди-цинского персо-нал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584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575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101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700,0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812,2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10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41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721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039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365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7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989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работаю-щих в Г(М)УЗ (фи-зические лица) /на конец года/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ел.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79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733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08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45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602,0/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17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2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3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4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5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6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700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989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врачей в Г(М)УЗ   (физичес-кие лица) /на ко-нец года/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ед. на 10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тыс. 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1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9,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7/27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652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среднего медицинского пер-сонала в Г(М)УЗ  /на конец года/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ед. на 10 тыс. нас.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4,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0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,8/60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,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2,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2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3,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4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07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Text Box 107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10"/>
          <p:cNvSpPr/>
          <p:nvPr/>
        </p:nvSpPr>
        <p:spPr>
          <a:xfrm>
            <a:off x="826920" y="260280"/>
            <a:ext cx="7632720" cy="115272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2800" indent="-982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c3300"/>
                </a:solidFill>
                <a:uFillTx/>
                <a:latin typeface="Tahoma"/>
              </a:rPr>
              <a:t>Задача 2.3:</a:t>
            </a:r>
            <a:r>
              <a:rPr b="1" lang="ru-RU" sz="2000" spc="-1" strike="noStrike">
                <a:solidFill>
                  <a:srgbClr val="cc3300"/>
                </a:solidFill>
                <a:latin typeface="Tahoma"/>
              </a:rPr>
              <a:t> Интенсивное и качественное лечение заболеваний, развитие специализированной и высокотехнологичной медицинской помощ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1" name="Picture 10" descr="DSCF0076"/>
          <p:cNvPicPr/>
          <p:nvPr/>
        </p:nvPicPr>
        <p:blipFill>
          <a:blip r:embed="rId3"/>
          <a:stretch/>
        </p:blipFill>
        <p:spPr>
          <a:xfrm>
            <a:off x="6929280" y="3467160"/>
            <a:ext cx="2035440" cy="2712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312" name="Picture 11" descr="DSC_0055"/>
          <p:cNvPicPr/>
          <p:nvPr/>
        </p:nvPicPr>
        <p:blipFill>
          <a:blip r:embed="rId4"/>
          <a:stretch/>
        </p:blipFill>
        <p:spPr>
          <a:xfrm>
            <a:off x="4757760" y="4724280"/>
            <a:ext cx="2550960" cy="16970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313" name="Picture 12" descr="Оборуд-е (томограф)2"/>
          <p:cNvPicPr/>
          <p:nvPr/>
        </p:nvPicPr>
        <p:blipFill>
          <a:blip r:embed="rId5"/>
          <a:stretch/>
        </p:blipFill>
        <p:spPr>
          <a:xfrm>
            <a:off x="108000" y="3789360"/>
            <a:ext cx="3024000" cy="2587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6bcbc">
                <a:alpha val="50000"/>
              </a:srgbClr>
            </a:outerShdw>
          </a:effectLst>
        </p:spPr>
      </p:pic>
      <p:pic>
        <p:nvPicPr>
          <p:cNvPr id="314" name="Picture 13" descr=""/>
          <p:cNvPicPr/>
          <p:nvPr/>
        </p:nvPicPr>
        <p:blipFill>
          <a:blip r:embed="rId6">
            <a:lum bright="18000"/>
          </a:blip>
          <a:stretch/>
        </p:blipFill>
        <p:spPr>
          <a:xfrm>
            <a:off x="3348000" y="5300640"/>
            <a:ext cx="1728720" cy="1378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e6bcbc">
                <a:alpha val="50000"/>
              </a:srgbClr>
            </a:outerShdw>
          </a:effectLst>
        </p:spPr>
      </p:pic>
      <p:sp>
        <p:nvSpPr>
          <p:cNvPr id="315" name="AutoShape 9"/>
          <p:cNvSpPr/>
          <p:nvPr/>
        </p:nvSpPr>
        <p:spPr>
          <a:xfrm>
            <a:off x="684360" y="1773360"/>
            <a:ext cx="7920000" cy="2087280"/>
          </a:xfrm>
          <a:prstGeom prst="roundRect">
            <a:avLst>
              <a:gd name="adj" fmla="val 10699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SzPct val="20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721e1e"/>
                </a:solidFill>
                <a:latin typeface="Arial"/>
              </a:rPr>
              <a:t>Экономические преобразования, создание конкурентной среды в здравоохранении стали основой для внедрения современных технологий, развития специализированной медицинской помощи в регионе, а также инструментом совершенствования системы управления качеством оказываемой медицинской помощ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0" y="3807000"/>
          <a:ext cx="9109080" cy="2393640"/>
        </p:xfrm>
        <a:graphic>
          <a:graphicData uri="http://schemas.openxmlformats.org/drawingml/2006/table">
            <a:tbl>
              <a:tblPr/>
              <a:tblGrid>
                <a:gridCol w="1763640"/>
                <a:gridCol w="59076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7394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272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жидаемая продолжительность  жизни при ррождении (лет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2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269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ладенческая смертность (на 1000 родившихся живым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7/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142" name="AutoShape 30"/>
          <p:cNvSpPr/>
          <p:nvPr/>
        </p:nvSpPr>
        <p:spPr>
          <a:xfrm>
            <a:off x="1042920" y="219564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62"/>
          <p:cNvSpPr/>
          <p:nvPr/>
        </p:nvSpPr>
        <p:spPr>
          <a:xfrm>
            <a:off x="-36360" y="16344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МИСС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63"/>
          <p:cNvSpPr/>
          <p:nvPr/>
        </p:nvSpPr>
        <p:spPr>
          <a:xfrm>
            <a:off x="1476360" y="173160"/>
            <a:ext cx="734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Улучшение состояния здоровья населения Калининградской области до уровня,  сопоставимого с показателями Европейских стран, повышение человеческого потенциа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64"/>
          <p:cNvSpPr/>
          <p:nvPr/>
        </p:nvSpPr>
        <p:spPr>
          <a:xfrm>
            <a:off x="874440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Object 2"/>
          <p:cNvGraphicFramePr/>
          <p:nvPr/>
        </p:nvGraphicFramePr>
        <p:xfrm>
          <a:off x="0" y="3513240"/>
          <a:ext cx="428148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513240"/>
                    <a:ext cx="428148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3"/>
          <p:cNvSpPr/>
          <p:nvPr/>
        </p:nvSpPr>
        <p:spPr>
          <a:xfrm>
            <a:off x="417600" y="2198520"/>
            <a:ext cx="3206520" cy="1101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Динамика смертности населения трудоспособного возра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(на 100 тыс. насел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5119560" y="1414440"/>
            <a:ext cx="3792600" cy="11019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Динамика смертности населения трудоспособного возраста по основным классам причин смер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(на 100 тыс. насел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0" name="Object 5"/>
          <p:cNvGraphicFramePr/>
          <p:nvPr/>
        </p:nvGraphicFramePr>
        <p:xfrm>
          <a:off x="3639960" y="2506680"/>
          <a:ext cx="5961240" cy="394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9960" y="2506680"/>
                    <a:ext cx="5961240" cy="39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Смертность населения трудоспособного возрас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в Калининградской области за период с 2006 по 2009 г.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44784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Text Box 3"/>
          <p:cNvSpPr/>
          <p:nvPr/>
        </p:nvSpPr>
        <p:spPr>
          <a:xfrm>
            <a:off x="519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1042920" y="187200"/>
            <a:ext cx="7921800" cy="108108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77840" indent="-10778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c3300"/>
                </a:solidFill>
                <a:latin typeface="Tahoma"/>
              </a:rPr>
              <a:t>Задача 2.3: Интенсивное и качественное лечение заболеваний, развитие специализированной и высокотехнологичной медицинской помощи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28" name="Object 6"/>
          <p:cNvGraphicFramePr/>
          <p:nvPr/>
        </p:nvGraphicFramePr>
        <p:xfrm>
          <a:off x="-27000" y="3479760"/>
          <a:ext cx="4599000" cy="292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7000" y="3479760"/>
                    <a:ext cx="459900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7"/>
          <p:cNvGraphicFramePr/>
          <p:nvPr/>
        </p:nvGraphicFramePr>
        <p:xfrm>
          <a:off x="4543560" y="3479760"/>
          <a:ext cx="4421160" cy="292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43560" y="3479760"/>
                    <a:ext cx="442116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Text Box 8"/>
          <p:cNvSpPr/>
          <p:nvPr/>
        </p:nvSpPr>
        <p:spPr>
          <a:xfrm>
            <a:off x="466560" y="1916280"/>
            <a:ext cx="3745080" cy="101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Первичный выход на инвалидность детей в возрасте 0-17 лет (включительно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(на 10 тыс. детей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Text Box 9"/>
          <p:cNvSpPr/>
          <p:nvPr/>
        </p:nvSpPr>
        <p:spPr>
          <a:xfrm>
            <a:off x="4788000" y="1919160"/>
            <a:ext cx="4032000" cy="101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99"/>
                </a:solidFill>
                <a:latin typeface="Arial"/>
              </a:rPr>
              <a:t>Экономические потери за счет неэффективной работы службы скорой помощи в регио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(тыс.руб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209520" y="1425600"/>
          <a:ext cx="8683560" cy="1957320"/>
        </p:xfrm>
        <a:graphic>
          <a:graphicData uri="http://schemas.openxmlformats.org/drawingml/2006/table">
            <a:tbl>
              <a:tblPr/>
              <a:tblGrid>
                <a:gridCol w="3646440"/>
                <a:gridCol w="987480"/>
                <a:gridCol w="990720"/>
                <a:gridCol w="988920"/>
                <a:gridCol w="988920"/>
                <a:gridCol w="10810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b55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b55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b55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b55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b553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db553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Проведено экспертиз качества оказания медицинской помо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11 5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20 7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47 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47 9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100 8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Выявлены дефекты качества оказания медицинской помощ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24,2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25,1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22,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20,5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db553f"/>
                          </a:solidFill>
                          <a:latin typeface="Tahoma"/>
                        </a:rPr>
                        <a:t>1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3300"/>
                      </a:solidFill>
                    </a:lnL>
                    <a:lnR w="5760">
                      <a:solidFill>
                        <a:srgbClr val="663300"/>
                      </a:solidFill>
                    </a:lnR>
                    <a:lnT w="5760">
                      <a:solidFill>
                        <a:srgbClr val="663300"/>
                      </a:solidFill>
                    </a:lnT>
                    <a:lnB w="5760">
                      <a:solidFill>
                        <a:srgbClr val="6633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335" name="Text Box 35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179280" y="189000"/>
            <a:ext cx="8713800" cy="576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cc99"/>
                </a:solidFill>
                <a:latin typeface="Tahoma"/>
              </a:rPr>
              <a:t>Количество экспертиз качества оказания медицинской помощ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7" name="Object 91"/>
          <p:cNvGraphicFramePr/>
          <p:nvPr/>
        </p:nvGraphicFramePr>
        <p:xfrm>
          <a:off x="266760" y="3584520"/>
          <a:ext cx="8726400" cy="2773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8" name="Object 9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3584520"/>
                    <a:ext cx="8726400" cy="2773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6bcb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30"/>
          <p:cNvSpPr/>
          <p:nvPr/>
        </p:nvSpPr>
        <p:spPr>
          <a:xfrm>
            <a:off x="1042920" y="32400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1844640"/>
          <a:ext cx="9109080" cy="460872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50472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5908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7c80"/>
                          </a:solidFill>
                          <a:latin typeface="Tahoma"/>
                        </a:rPr>
                        <a:t>Тактическая задача 2.3: Интенсивное и качественное лечение заболеваний, развитие специализированной и высокотехнологичной медицинской  помощи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63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ервичный выход на инвалидность детей в возрасте 0-17 лет (включи-тельно) на 10 тыс. детей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коэф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0/2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4176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редняя продол-жительность жиз-ни больных с хро-нической патоло-гией после устано-вления заболева-ния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ле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,0/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9208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мертность насе-ления трудоспо-собного возраста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 тыс. 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) в с е г о, в т.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4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70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9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9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41" name="Text Box 80"/>
          <p:cNvSpPr/>
          <p:nvPr/>
        </p:nvSpPr>
        <p:spPr>
          <a:xfrm>
            <a:off x="87444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0" y="1862280"/>
          <a:ext cx="9109080" cy="495432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4136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3255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) по основным классам причин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 тыс. нас.)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от болезней сис-темы   кровообра-щения,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т.ч.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1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6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3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0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3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2056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* от ишемической болезни сердц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5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7/9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1912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* от цереброваску-лярных болезн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1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9,5/3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4936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от новообразова-ний,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т.ч.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1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9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6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4756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* от злокачествен-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1,7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4936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от внешних при-чин смерти,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т.ч.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36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2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5,0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9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014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* в результате ДТ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0/1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43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Text Box 107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0" y="1125360"/>
          <a:ext cx="9109080" cy="572940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50328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20368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Сокращение эко-номических по-терь общества от снижения числа смертей лиц тр-удоспособного во-зраста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млрд. руб.)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</a:rPr>
                        <a:t>Валов. рег. продукт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работающих 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смертей лиц тру-оспособного возраста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65/1,6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1048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оля повторных госпитализаций в календарном году от общего числа госпитализаций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8/13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574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оля осложнений от общего числа пролеченных бо-льных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3/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3269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цент обнару-жения дефектов при вневедомст-венной экспертизе качества оказания медицинской по-мощи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2/1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0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46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Text Box 146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0" y="1125360"/>
          <a:ext cx="9109080" cy="571680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3200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6 ме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2794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оля обоснован-ных жалоб на ка-чество оказания медицинской по-мощи в общем чи-сле обращений граждан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0/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28124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ровень удовлет-воренности насе-ления области ка-чеством медици-нской помощи (по данным ФСО Рос-сии)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%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дан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5/2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4683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Экономические потери за счет: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2060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обоснованного увеличения сред-ней длительности пребывания боль-ного в стационаре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8674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600,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53352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</a:t>
                      </a:r>
                      <a:r>
                        <a:rPr b="1" lang="ru-RU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эффективной работы стационар-ных коек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388,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01640">
                <a:tc>
                  <a:txBody>
                    <a:bodyPr lIns="72000" rIns="72000" tIns="0" bIns="0" anchor="ctr">
                      <a:noAutofit/>
                    </a:bodyPr>
                    <a:p>
                      <a:pPr marL="95400" indent="-954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</a:t>
                      </a: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неэффективной работы службы скорой помощи в регионе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тыс. руб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654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3097,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7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349" name="AutoShape 30"/>
          <p:cNvSpPr/>
          <p:nvPr/>
        </p:nvSpPr>
        <p:spPr>
          <a:xfrm>
            <a:off x="1042920" y="395280"/>
            <a:ext cx="7921800" cy="6573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 </a:t>
            </a: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(продолжени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Text Box 114"/>
          <p:cNvSpPr/>
          <p:nvPr/>
        </p:nvSpPr>
        <p:spPr>
          <a:xfrm>
            <a:off x="875088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1104840" y="3881520"/>
          <a:ext cx="693252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3881520"/>
                    <a:ext cx="693252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3"/>
          <p:cNvSpPr/>
          <p:nvPr/>
        </p:nvSpPr>
        <p:spPr>
          <a:xfrm>
            <a:off x="59040" y="1159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ЦЕЛЬ 2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403280" y="11592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buSzPct val="20562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Развитие и совершенствование здравоохранения Калининградской области, как института охраны здоровья, профилактики и лечения заболев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330120" y="1023840"/>
          <a:ext cx="5070600" cy="285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120" y="1023840"/>
                    <a:ext cx="507060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AutoShape 7"/>
          <p:cNvSpPr/>
          <p:nvPr/>
        </p:nvSpPr>
        <p:spPr>
          <a:xfrm rot="16200000">
            <a:off x="6984720" y="2312280"/>
            <a:ext cx="863640" cy="2664000"/>
          </a:xfrm>
          <a:prstGeom prst="wedgeRectCallout">
            <a:avLst>
              <a:gd name="adj1" fmla="val -87134"/>
              <a:gd name="adj2" fmla="val -118296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56360" y="3294000"/>
            <a:ext cx="2449440" cy="64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Структура смерт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трудоспособного нас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на 2009 г. (в %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AutoShape 9"/>
          <p:cNvSpPr/>
          <p:nvPr/>
        </p:nvSpPr>
        <p:spPr>
          <a:xfrm rot="16200000">
            <a:off x="7023600" y="408600"/>
            <a:ext cx="712800" cy="2879640"/>
          </a:xfrm>
          <a:prstGeom prst="wedgeRectCallout">
            <a:avLst>
              <a:gd name="adj1" fmla="val -127509"/>
              <a:gd name="adj2" fmla="val -78115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Text Box 10"/>
          <p:cNvSpPr/>
          <p:nvPr/>
        </p:nvSpPr>
        <p:spPr>
          <a:xfrm>
            <a:off x="5940360" y="1492200"/>
            <a:ext cx="2592360" cy="641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Смерт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трудоспособного насе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99"/>
                </a:solidFill>
                <a:latin typeface="Arial"/>
              </a:rPr>
              <a:t>(на 100 тыс. нас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Object 2"/>
          <p:cNvGraphicFramePr/>
          <p:nvPr/>
        </p:nvGraphicFramePr>
        <p:xfrm>
          <a:off x="495360" y="1473120"/>
          <a:ext cx="820728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73120"/>
                    <a:ext cx="820728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Text Box 3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AutoShape 10"/>
          <p:cNvSpPr/>
          <p:nvPr/>
        </p:nvSpPr>
        <p:spPr>
          <a:xfrm>
            <a:off x="179280" y="189000"/>
            <a:ext cx="8713800" cy="86364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Удовлетворенность населения медицинской помощ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(процент от числа опрошенных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59040" y="115920"/>
            <a:ext cx="126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ЦЕЛЬ 2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Text Box 3"/>
          <p:cNvSpPr/>
          <p:nvPr/>
        </p:nvSpPr>
        <p:spPr>
          <a:xfrm>
            <a:off x="1403280" y="11592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buSzPct val="20562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Развитие и совершенствование здравоохранения Калининградской области, как института охраны здоровья, профилактики и лечения заболева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68" name="Object 3"/>
          <p:cNvGraphicFramePr/>
          <p:nvPr/>
        </p:nvGraphicFramePr>
        <p:xfrm>
          <a:off x="284040" y="1268280"/>
          <a:ext cx="8431200" cy="53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040" y="1268280"/>
                    <a:ext cx="8431200" cy="53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AutoShape 29"/>
          <p:cNvSpPr/>
          <p:nvPr/>
        </p:nvSpPr>
        <p:spPr>
          <a:xfrm>
            <a:off x="4716360" y="6205680"/>
            <a:ext cx="3200400" cy="3920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ff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21e1e"/>
                </a:solidFill>
                <a:latin typeface="Arial"/>
              </a:rPr>
              <a:t>ИТОГО: 4 732,6 млн. руб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0" y="3807000"/>
          <a:ext cx="9109080" cy="243036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644760"/>
                <a:gridCol w="792000"/>
                <a:gridCol w="598680"/>
                <a:gridCol w="716040"/>
                <a:gridCol w="687240"/>
                <a:gridCol w="689040"/>
                <a:gridCol w="687240"/>
                <a:gridCol w="654120"/>
              </a:tblGrid>
              <a:tr h="7394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6909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жителей Калининградской области, регуляр-но посещающих занятия в спортив-ных секциях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01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47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49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18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59460/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49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34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968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990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49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308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812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147" name="AutoShape 30"/>
          <p:cNvSpPr/>
          <p:nvPr/>
        </p:nvSpPr>
        <p:spPr>
          <a:xfrm>
            <a:off x="1042920" y="219564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70"/>
          <p:cNvSpPr/>
          <p:nvPr/>
        </p:nvSpPr>
        <p:spPr>
          <a:xfrm>
            <a:off x="-36000" y="16344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ЦЕЛЬ 1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171"/>
          <p:cNvSpPr/>
          <p:nvPr/>
        </p:nvSpPr>
        <p:spPr>
          <a:xfrm>
            <a:off x="1258920" y="17316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Популяризация и развитие физической культуры и спорта, как элемента духовно-нравственного и физического воспитания и совершенствования личности, профилактики заболеваний, улучшения здоровья населения и активного долголет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78"/>
          <p:cNvSpPr/>
          <p:nvPr/>
        </p:nvSpPr>
        <p:spPr>
          <a:xfrm>
            <a:off x="874440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290520" y="1135080"/>
          <a:ext cx="86504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135080"/>
                    <a:ext cx="86504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Text Box 4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Основные медико-демографические показ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по РФ и Калининградской области. 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</a:rPr>
              <a:t>Естественный прирос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Основные медико-демографические показ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по РФ, СЗФО и Калининградской области. 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</a:rPr>
              <a:t>Рождаемость и смер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09440" y="4138560"/>
          <a:ext cx="8379000" cy="267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440" y="4138560"/>
                    <a:ext cx="837900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7"/>
          <p:cNvGraphicFramePr/>
          <p:nvPr/>
        </p:nvGraphicFramePr>
        <p:xfrm>
          <a:off x="109440" y="1251000"/>
          <a:ext cx="8434440" cy="2674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9440" y="1251000"/>
                    <a:ext cx="84344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7"/>
          <p:cNvGraphicFramePr/>
          <p:nvPr/>
        </p:nvGraphicFramePr>
        <p:xfrm>
          <a:off x="4500720" y="1341360"/>
          <a:ext cx="4378320" cy="26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1341360"/>
                    <a:ext cx="43783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8"/>
          <p:cNvGraphicFramePr/>
          <p:nvPr/>
        </p:nvGraphicFramePr>
        <p:xfrm>
          <a:off x="193680" y="1341360"/>
          <a:ext cx="437832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680" y="1341360"/>
                    <a:ext cx="43783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9"/>
          <p:cNvGraphicFramePr/>
          <p:nvPr/>
        </p:nvGraphicFramePr>
        <p:xfrm>
          <a:off x="846000" y="4160880"/>
          <a:ext cx="7520040" cy="26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6000" y="4160880"/>
                    <a:ext cx="75200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10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AutoShape 10"/>
          <p:cNvSpPr/>
          <p:nvPr/>
        </p:nvSpPr>
        <p:spPr>
          <a:xfrm>
            <a:off x="179280" y="189000"/>
            <a:ext cx="8713800" cy="936360"/>
          </a:xfrm>
          <a:prstGeom prst="roundRect">
            <a:avLst>
              <a:gd name="adj" fmla="val 10699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Основные медико-демографические показ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по РФ, СЗФО и Калининградской област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ahoma"/>
              </a:rPr>
              <a:t>Смертность населения от основных причи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3"/>
          <p:cNvSpPr/>
          <p:nvPr/>
        </p:nvSpPr>
        <p:spPr>
          <a:xfrm>
            <a:off x="1041480" y="1542960"/>
            <a:ext cx="741672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Line 4"/>
          <p:cNvSpPr/>
          <p:nvPr/>
        </p:nvSpPr>
        <p:spPr>
          <a:xfrm>
            <a:off x="1041480" y="437184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1041480" y="397980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Line 6"/>
          <p:cNvSpPr/>
          <p:nvPr/>
        </p:nvSpPr>
        <p:spPr>
          <a:xfrm>
            <a:off x="1041480" y="357012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Line 7"/>
          <p:cNvSpPr/>
          <p:nvPr/>
        </p:nvSpPr>
        <p:spPr>
          <a:xfrm>
            <a:off x="1041480" y="316224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Line 8"/>
          <p:cNvSpPr/>
          <p:nvPr/>
        </p:nvSpPr>
        <p:spPr>
          <a:xfrm>
            <a:off x="1041480" y="275256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Line 9"/>
          <p:cNvSpPr/>
          <p:nvPr/>
        </p:nvSpPr>
        <p:spPr>
          <a:xfrm>
            <a:off x="1041480" y="236052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1041480" y="1951200"/>
            <a:ext cx="7416720" cy="144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Line 11"/>
          <p:cNvSpPr/>
          <p:nvPr/>
        </p:nvSpPr>
        <p:spPr>
          <a:xfrm>
            <a:off x="1041480" y="1542960"/>
            <a:ext cx="7416720" cy="1800"/>
          </a:xfrm>
          <a:prstGeom prst="line">
            <a:avLst/>
          </a:prstGeom>
          <a:ln cap="rnd" w="3240">
            <a:solidFill>
              <a:srgbClr val="ff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Line 12"/>
          <p:cNvSpPr/>
          <p:nvPr/>
        </p:nvSpPr>
        <p:spPr>
          <a:xfrm>
            <a:off x="1041480" y="1542960"/>
            <a:ext cx="1440" cy="3237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Line 13"/>
          <p:cNvSpPr/>
          <p:nvPr/>
        </p:nvSpPr>
        <p:spPr>
          <a:xfrm>
            <a:off x="976320" y="478008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Line 14"/>
          <p:cNvSpPr/>
          <p:nvPr/>
        </p:nvSpPr>
        <p:spPr>
          <a:xfrm>
            <a:off x="976320" y="437184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Line 15"/>
          <p:cNvSpPr/>
          <p:nvPr/>
        </p:nvSpPr>
        <p:spPr>
          <a:xfrm>
            <a:off x="976320" y="397980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Line 16"/>
          <p:cNvSpPr/>
          <p:nvPr/>
        </p:nvSpPr>
        <p:spPr>
          <a:xfrm>
            <a:off x="976320" y="35701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Line 17"/>
          <p:cNvSpPr/>
          <p:nvPr/>
        </p:nvSpPr>
        <p:spPr>
          <a:xfrm>
            <a:off x="976320" y="316224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976320" y="27525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976320" y="23605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976320" y="19512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976320" y="154296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1041480" y="4780080"/>
            <a:ext cx="741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Line 23"/>
          <p:cNvSpPr/>
          <p:nvPr/>
        </p:nvSpPr>
        <p:spPr>
          <a:xfrm flipV="1">
            <a:off x="1041480" y="47797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Line 24"/>
          <p:cNvSpPr/>
          <p:nvPr/>
        </p:nvSpPr>
        <p:spPr>
          <a:xfrm flipV="1">
            <a:off x="1779480" y="4779720"/>
            <a:ext cx="32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Line 25"/>
          <p:cNvSpPr/>
          <p:nvPr/>
        </p:nvSpPr>
        <p:spPr>
          <a:xfrm flipV="1">
            <a:off x="2532240" y="47797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6"/>
          <p:cNvSpPr/>
          <p:nvPr/>
        </p:nvSpPr>
        <p:spPr>
          <a:xfrm flipV="1">
            <a:off x="3268800" y="47797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Line 27"/>
          <p:cNvSpPr/>
          <p:nvPr/>
        </p:nvSpPr>
        <p:spPr>
          <a:xfrm flipV="1">
            <a:off x="4005360" y="47797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Line 28"/>
          <p:cNvSpPr/>
          <p:nvPr/>
        </p:nvSpPr>
        <p:spPr>
          <a:xfrm flipV="1">
            <a:off x="4757760" y="4779720"/>
            <a:ext cx="32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Line 29"/>
          <p:cNvSpPr/>
          <p:nvPr/>
        </p:nvSpPr>
        <p:spPr>
          <a:xfrm flipV="1">
            <a:off x="5497560" y="4779720"/>
            <a:ext cx="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6234120" y="4779720"/>
            <a:ext cx="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Line 31"/>
          <p:cNvSpPr/>
          <p:nvPr/>
        </p:nvSpPr>
        <p:spPr>
          <a:xfrm flipV="1">
            <a:off x="6970680" y="4779720"/>
            <a:ext cx="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Line 32"/>
          <p:cNvSpPr/>
          <p:nvPr/>
        </p:nvSpPr>
        <p:spPr>
          <a:xfrm flipV="1">
            <a:off x="7721640" y="47797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Line 33"/>
          <p:cNvSpPr/>
          <p:nvPr/>
        </p:nvSpPr>
        <p:spPr>
          <a:xfrm flipV="1">
            <a:off x="8458200" y="4779720"/>
            <a:ext cx="144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Freeform 34"/>
          <p:cNvSpPr/>
          <p:nvPr/>
        </p:nvSpPr>
        <p:spPr>
          <a:xfrm>
            <a:off x="1420920" y="3325680"/>
            <a:ext cx="6661080" cy="1373400"/>
          </a:xfrm>
          <a:prstGeom prst="pie">
            <a:avLst/>
          </a:prstGeom>
          <a:noFill/>
          <a:ln w="334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Freeform 35"/>
          <p:cNvSpPr/>
          <p:nvPr/>
        </p:nvSpPr>
        <p:spPr>
          <a:xfrm>
            <a:off x="1420920" y="2671920"/>
            <a:ext cx="6661080" cy="1863720"/>
          </a:xfrm>
          <a:prstGeom prst="pie">
            <a:avLst/>
          </a:prstGeom>
          <a:noFill/>
          <a:ln w="49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Freeform 36"/>
          <p:cNvSpPr/>
          <p:nvPr/>
        </p:nvSpPr>
        <p:spPr>
          <a:xfrm>
            <a:off x="1420920" y="1901880"/>
            <a:ext cx="6661080" cy="2828880"/>
          </a:xfrm>
          <a:prstGeom prst="pie">
            <a:avLst/>
          </a:prstGeom>
          <a:noFill/>
          <a:ln w="334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Freeform 37"/>
          <p:cNvSpPr/>
          <p:nvPr/>
        </p:nvSpPr>
        <p:spPr>
          <a:xfrm>
            <a:off x="1420920" y="3489480"/>
            <a:ext cx="6661080" cy="1241280"/>
          </a:xfrm>
          <a:prstGeom prst="pie">
            <a:avLst/>
          </a:prstGeom>
          <a:noFill/>
          <a:ln w="33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Freeform 38"/>
          <p:cNvSpPr/>
          <p:nvPr/>
        </p:nvSpPr>
        <p:spPr>
          <a:xfrm>
            <a:off x="1420920" y="3209760"/>
            <a:ext cx="6661080" cy="1505160"/>
          </a:xfrm>
          <a:prstGeom prst="pie">
            <a:avLst/>
          </a:prstGeom>
          <a:noFill/>
          <a:ln w="3348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Freeform 39"/>
          <p:cNvSpPr/>
          <p:nvPr/>
        </p:nvSpPr>
        <p:spPr>
          <a:xfrm>
            <a:off x="1420920" y="3848040"/>
            <a:ext cx="6661080" cy="882720"/>
          </a:xfrm>
          <a:prstGeom prst="pie">
            <a:avLst/>
          </a:prstGeom>
          <a:noFill/>
          <a:ln w="334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Oval 40"/>
          <p:cNvSpPr/>
          <p:nvPr/>
        </p:nvSpPr>
        <p:spPr>
          <a:xfrm>
            <a:off x="1370160" y="4551480"/>
            <a:ext cx="82440" cy="8244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Oval 41"/>
          <p:cNvSpPr/>
          <p:nvPr/>
        </p:nvSpPr>
        <p:spPr>
          <a:xfrm>
            <a:off x="2106720" y="4600440"/>
            <a:ext cx="82440" cy="82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Oval 42"/>
          <p:cNvSpPr/>
          <p:nvPr/>
        </p:nvSpPr>
        <p:spPr>
          <a:xfrm>
            <a:off x="2843280" y="4649760"/>
            <a:ext cx="82440" cy="810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Oval 43"/>
          <p:cNvSpPr/>
          <p:nvPr/>
        </p:nvSpPr>
        <p:spPr>
          <a:xfrm>
            <a:off x="3595680" y="4307040"/>
            <a:ext cx="82440" cy="8064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Oval 44"/>
          <p:cNvSpPr/>
          <p:nvPr/>
        </p:nvSpPr>
        <p:spPr>
          <a:xfrm>
            <a:off x="4332240" y="4338720"/>
            <a:ext cx="82440" cy="8244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Oval 45"/>
          <p:cNvSpPr/>
          <p:nvPr/>
        </p:nvSpPr>
        <p:spPr>
          <a:xfrm>
            <a:off x="5068800" y="4322880"/>
            <a:ext cx="82800" cy="810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Oval 46"/>
          <p:cNvSpPr/>
          <p:nvPr/>
        </p:nvSpPr>
        <p:spPr>
          <a:xfrm>
            <a:off x="5808600" y="4356000"/>
            <a:ext cx="79560" cy="810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Oval 47"/>
          <p:cNvSpPr/>
          <p:nvPr/>
        </p:nvSpPr>
        <p:spPr>
          <a:xfrm>
            <a:off x="6559560" y="4356000"/>
            <a:ext cx="81000" cy="810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Oval 48"/>
          <p:cNvSpPr/>
          <p:nvPr/>
        </p:nvSpPr>
        <p:spPr>
          <a:xfrm>
            <a:off x="7296120" y="4224240"/>
            <a:ext cx="82440" cy="82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Oval 49"/>
          <p:cNvSpPr/>
          <p:nvPr/>
        </p:nvSpPr>
        <p:spPr>
          <a:xfrm>
            <a:off x="8032680" y="3276720"/>
            <a:ext cx="82800" cy="810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Oval 50"/>
          <p:cNvSpPr/>
          <p:nvPr/>
        </p:nvSpPr>
        <p:spPr>
          <a:xfrm>
            <a:off x="1338120" y="3995640"/>
            <a:ext cx="14616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Oval 51"/>
          <p:cNvSpPr/>
          <p:nvPr/>
        </p:nvSpPr>
        <p:spPr>
          <a:xfrm>
            <a:off x="2075040" y="4387680"/>
            <a:ext cx="145800" cy="147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Oval 52"/>
          <p:cNvSpPr/>
          <p:nvPr/>
        </p:nvSpPr>
        <p:spPr>
          <a:xfrm>
            <a:off x="2811600" y="4452840"/>
            <a:ext cx="1458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Oval 53"/>
          <p:cNvSpPr/>
          <p:nvPr/>
        </p:nvSpPr>
        <p:spPr>
          <a:xfrm>
            <a:off x="3564000" y="3816360"/>
            <a:ext cx="14616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Oval 54"/>
          <p:cNvSpPr/>
          <p:nvPr/>
        </p:nvSpPr>
        <p:spPr>
          <a:xfrm>
            <a:off x="4300560" y="3341520"/>
            <a:ext cx="149040" cy="147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Oval 55"/>
          <p:cNvSpPr/>
          <p:nvPr/>
        </p:nvSpPr>
        <p:spPr>
          <a:xfrm>
            <a:off x="5037120" y="2882880"/>
            <a:ext cx="1494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Oval 56"/>
          <p:cNvSpPr/>
          <p:nvPr/>
        </p:nvSpPr>
        <p:spPr>
          <a:xfrm>
            <a:off x="5773680" y="2589120"/>
            <a:ext cx="149400" cy="147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Oval 57"/>
          <p:cNvSpPr/>
          <p:nvPr/>
        </p:nvSpPr>
        <p:spPr>
          <a:xfrm>
            <a:off x="6526080" y="2622600"/>
            <a:ext cx="14760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Oval 58"/>
          <p:cNvSpPr/>
          <p:nvPr/>
        </p:nvSpPr>
        <p:spPr>
          <a:xfrm>
            <a:off x="7262640" y="3276720"/>
            <a:ext cx="147960" cy="14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Oval 59"/>
          <p:cNvSpPr/>
          <p:nvPr/>
        </p:nvSpPr>
        <p:spPr>
          <a:xfrm>
            <a:off x="7999560" y="3538440"/>
            <a:ext cx="147600" cy="146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9c4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Oval 60"/>
          <p:cNvSpPr/>
          <p:nvPr/>
        </p:nvSpPr>
        <p:spPr>
          <a:xfrm>
            <a:off x="1370160" y="4584600"/>
            <a:ext cx="82440" cy="8100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Oval 61"/>
          <p:cNvSpPr/>
          <p:nvPr/>
        </p:nvSpPr>
        <p:spPr>
          <a:xfrm>
            <a:off x="2106720" y="4649760"/>
            <a:ext cx="82440" cy="8100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Oval 62"/>
          <p:cNvSpPr/>
          <p:nvPr/>
        </p:nvSpPr>
        <p:spPr>
          <a:xfrm>
            <a:off x="2843280" y="4683240"/>
            <a:ext cx="82440" cy="8100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Oval 63"/>
          <p:cNvSpPr/>
          <p:nvPr/>
        </p:nvSpPr>
        <p:spPr>
          <a:xfrm>
            <a:off x="3595680" y="4356000"/>
            <a:ext cx="82440" cy="8100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Oval 64"/>
          <p:cNvSpPr/>
          <p:nvPr/>
        </p:nvSpPr>
        <p:spPr>
          <a:xfrm>
            <a:off x="4332240" y="4403880"/>
            <a:ext cx="82440" cy="8244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Oval 65"/>
          <p:cNvSpPr/>
          <p:nvPr/>
        </p:nvSpPr>
        <p:spPr>
          <a:xfrm>
            <a:off x="5068800" y="4437000"/>
            <a:ext cx="82800" cy="8244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Oval 66"/>
          <p:cNvSpPr/>
          <p:nvPr/>
        </p:nvSpPr>
        <p:spPr>
          <a:xfrm>
            <a:off x="5808600" y="4371840"/>
            <a:ext cx="79560" cy="8100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Oval 67"/>
          <p:cNvSpPr/>
          <p:nvPr/>
        </p:nvSpPr>
        <p:spPr>
          <a:xfrm>
            <a:off x="6559560" y="4273560"/>
            <a:ext cx="81000" cy="8244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Oval 68"/>
          <p:cNvSpPr/>
          <p:nvPr/>
        </p:nvSpPr>
        <p:spPr>
          <a:xfrm>
            <a:off x="7296120" y="3930480"/>
            <a:ext cx="82440" cy="8100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Oval 69"/>
          <p:cNvSpPr/>
          <p:nvPr/>
        </p:nvSpPr>
        <p:spPr>
          <a:xfrm>
            <a:off x="8032680" y="1854360"/>
            <a:ext cx="82800" cy="80640"/>
          </a:xfrm>
          <a:prstGeom prst="ellipse">
            <a:avLst/>
          </a:prstGeom>
          <a:solidFill>
            <a:srgbClr val="ff9900"/>
          </a:solidFill>
          <a:ln w="158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Oval 70"/>
          <p:cNvSpPr/>
          <p:nvPr/>
        </p:nvSpPr>
        <p:spPr>
          <a:xfrm>
            <a:off x="1370160" y="4649760"/>
            <a:ext cx="8244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Oval 71"/>
          <p:cNvSpPr/>
          <p:nvPr/>
        </p:nvSpPr>
        <p:spPr>
          <a:xfrm>
            <a:off x="2106720" y="4649760"/>
            <a:ext cx="8244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Oval 72"/>
          <p:cNvSpPr/>
          <p:nvPr/>
        </p:nvSpPr>
        <p:spPr>
          <a:xfrm>
            <a:off x="2843280" y="4683240"/>
            <a:ext cx="8244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Oval 73"/>
          <p:cNvSpPr/>
          <p:nvPr/>
        </p:nvSpPr>
        <p:spPr>
          <a:xfrm>
            <a:off x="3595680" y="4387680"/>
            <a:ext cx="82440" cy="828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Oval 74"/>
          <p:cNvSpPr/>
          <p:nvPr/>
        </p:nvSpPr>
        <p:spPr>
          <a:xfrm>
            <a:off x="4332240" y="4519440"/>
            <a:ext cx="8244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Oval 75"/>
          <p:cNvSpPr/>
          <p:nvPr/>
        </p:nvSpPr>
        <p:spPr>
          <a:xfrm>
            <a:off x="5068800" y="4535640"/>
            <a:ext cx="82800" cy="8064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Oval 76"/>
          <p:cNvSpPr/>
          <p:nvPr/>
        </p:nvSpPr>
        <p:spPr>
          <a:xfrm>
            <a:off x="5808600" y="4519440"/>
            <a:ext cx="7956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Oval 77"/>
          <p:cNvSpPr/>
          <p:nvPr/>
        </p:nvSpPr>
        <p:spPr>
          <a:xfrm>
            <a:off x="6559560" y="4486320"/>
            <a:ext cx="8100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Oval 78"/>
          <p:cNvSpPr/>
          <p:nvPr/>
        </p:nvSpPr>
        <p:spPr>
          <a:xfrm>
            <a:off x="7296120" y="4403880"/>
            <a:ext cx="82440" cy="8244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Oval 79"/>
          <p:cNvSpPr/>
          <p:nvPr/>
        </p:nvSpPr>
        <p:spPr>
          <a:xfrm>
            <a:off x="8032680" y="3440160"/>
            <a:ext cx="82800" cy="8100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Oval 80"/>
          <p:cNvSpPr/>
          <p:nvPr/>
        </p:nvSpPr>
        <p:spPr>
          <a:xfrm>
            <a:off x="1370160" y="4633920"/>
            <a:ext cx="8244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Oval 81"/>
          <p:cNvSpPr/>
          <p:nvPr/>
        </p:nvSpPr>
        <p:spPr>
          <a:xfrm>
            <a:off x="2106720" y="4649760"/>
            <a:ext cx="8244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Oval 82"/>
          <p:cNvSpPr/>
          <p:nvPr/>
        </p:nvSpPr>
        <p:spPr>
          <a:xfrm>
            <a:off x="2843280" y="4665600"/>
            <a:ext cx="82440" cy="8244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Oval 83"/>
          <p:cNvSpPr/>
          <p:nvPr/>
        </p:nvSpPr>
        <p:spPr>
          <a:xfrm>
            <a:off x="3595680" y="4403880"/>
            <a:ext cx="82440" cy="8244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Oval 84"/>
          <p:cNvSpPr/>
          <p:nvPr/>
        </p:nvSpPr>
        <p:spPr>
          <a:xfrm>
            <a:off x="4332240" y="4470480"/>
            <a:ext cx="8244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Oval 85"/>
          <p:cNvSpPr/>
          <p:nvPr/>
        </p:nvSpPr>
        <p:spPr>
          <a:xfrm>
            <a:off x="5068800" y="4470480"/>
            <a:ext cx="8280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Oval 86"/>
          <p:cNvSpPr/>
          <p:nvPr/>
        </p:nvSpPr>
        <p:spPr>
          <a:xfrm>
            <a:off x="5808600" y="4486320"/>
            <a:ext cx="7956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Oval 87"/>
          <p:cNvSpPr/>
          <p:nvPr/>
        </p:nvSpPr>
        <p:spPr>
          <a:xfrm>
            <a:off x="6559560" y="4470480"/>
            <a:ext cx="8100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Oval 88"/>
          <p:cNvSpPr/>
          <p:nvPr/>
        </p:nvSpPr>
        <p:spPr>
          <a:xfrm>
            <a:off x="7296120" y="4307040"/>
            <a:ext cx="82440" cy="8064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Oval 89"/>
          <p:cNvSpPr/>
          <p:nvPr/>
        </p:nvSpPr>
        <p:spPr>
          <a:xfrm>
            <a:off x="8032680" y="3162240"/>
            <a:ext cx="82800" cy="81000"/>
          </a:xfrm>
          <a:prstGeom prst="ellipse">
            <a:avLst/>
          </a:prstGeom>
          <a:solidFill>
            <a:srgbClr val="993366"/>
          </a:solidFill>
          <a:ln w="158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Oval 90"/>
          <p:cNvSpPr/>
          <p:nvPr/>
        </p:nvSpPr>
        <p:spPr>
          <a:xfrm>
            <a:off x="1370160" y="4683240"/>
            <a:ext cx="82440" cy="810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Oval 91"/>
          <p:cNvSpPr/>
          <p:nvPr/>
        </p:nvSpPr>
        <p:spPr>
          <a:xfrm>
            <a:off x="2106720" y="4683240"/>
            <a:ext cx="82440" cy="810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Oval 92"/>
          <p:cNvSpPr/>
          <p:nvPr/>
        </p:nvSpPr>
        <p:spPr>
          <a:xfrm>
            <a:off x="2843280" y="4683240"/>
            <a:ext cx="82440" cy="810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Oval 93"/>
          <p:cNvSpPr/>
          <p:nvPr/>
        </p:nvSpPr>
        <p:spPr>
          <a:xfrm>
            <a:off x="3595680" y="4486320"/>
            <a:ext cx="82440" cy="810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Oval 94"/>
          <p:cNvSpPr/>
          <p:nvPr/>
        </p:nvSpPr>
        <p:spPr>
          <a:xfrm>
            <a:off x="4332240" y="4535640"/>
            <a:ext cx="82440" cy="8064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Oval 95"/>
          <p:cNvSpPr/>
          <p:nvPr/>
        </p:nvSpPr>
        <p:spPr>
          <a:xfrm>
            <a:off x="5068800" y="4567320"/>
            <a:ext cx="82800" cy="8244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Oval 96"/>
          <p:cNvSpPr/>
          <p:nvPr/>
        </p:nvSpPr>
        <p:spPr>
          <a:xfrm>
            <a:off x="5808600" y="4584600"/>
            <a:ext cx="79560" cy="810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Oval 97"/>
          <p:cNvSpPr/>
          <p:nvPr/>
        </p:nvSpPr>
        <p:spPr>
          <a:xfrm>
            <a:off x="6559560" y="4551480"/>
            <a:ext cx="81000" cy="8244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Oval 98"/>
          <p:cNvSpPr/>
          <p:nvPr/>
        </p:nvSpPr>
        <p:spPr>
          <a:xfrm>
            <a:off x="7296120" y="4470480"/>
            <a:ext cx="82440" cy="810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Oval 99"/>
          <p:cNvSpPr/>
          <p:nvPr/>
        </p:nvSpPr>
        <p:spPr>
          <a:xfrm>
            <a:off x="8032680" y="3798720"/>
            <a:ext cx="82800" cy="82800"/>
          </a:xfrm>
          <a:prstGeom prst="ellipse">
            <a:avLst/>
          </a:prstGeom>
          <a:solidFill>
            <a:srgbClr val="800000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100"/>
          <p:cNvSpPr/>
          <p:nvPr/>
        </p:nvSpPr>
        <p:spPr>
          <a:xfrm>
            <a:off x="583560" y="4649760"/>
            <a:ext cx="24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101"/>
          <p:cNvSpPr/>
          <p:nvPr/>
        </p:nvSpPr>
        <p:spPr>
          <a:xfrm>
            <a:off x="468720" y="4240080"/>
            <a:ext cx="3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5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102"/>
          <p:cNvSpPr/>
          <p:nvPr/>
        </p:nvSpPr>
        <p:spPr>
          <a:xfrm>
            <a:off x="353520" y="38480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10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103"/>
          <p:cNvSpPr/>
          <p:nvPr/>
        </p:nvSpPr>
        <p:spPr>
          <a:xfrm>
            <a:off x="353520" y="344016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15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104"/>
          <p:cNvSpPr/>
          <p:nvPr/>
        </p:nvSpPr>
        <p:spPr>
          <a:xfrm>
            <a:off x="353520" y="303048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20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353520" y="262260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25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106"/>
          <p:cNvSpPr/>
          <p:nvPr/>
        </p:nvSpPr>
        <p:spPr>
          <a:xfrm>
            <a:off x="353520" y="222876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30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07"/>
          <p:cNvSpPr/>
          <p:nvPr/>
        </p:nvSpPr>
        <p:spPr>
          <a:xfrm>
            <a:off x="353520" y="182088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35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108"/>
          <p:cNvSpPr/>
          <p:nvPr/>
        </p:nvSpPr>
        <p:spPr>
          <a:xfrm>
            <a:off x="1288080" y="4976640"/>
            <a:ext cx="21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Rectangle 109"/>
          <p:cNvSpPr/>
          <p:nvPr/>
        </p:nvSpPr>
        <p:spPr>
          <a:xfrm>
            <a:off x="1993680" y="4976640"/>
            <a:ext cx="27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-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Rectangle 110"/>
          <p:cNvSpPr/>
          <p:nvPr/>
        </p:nvSpPr>
        <p:spPr>
          <a:xfrm>
            <a:off x="2664000" y="4976640"/>
            <a:ext cx="37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-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Rectangle 111"/>
          <p:cNvSpPr/>
          <p:nvPr/>
        </p:nvSpPr>
        <p:spPr>
          <a:xfrm>
            <a:off x="3353400" y="497664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5-2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Rectangle 112"/>
          <p:cNvSpPr/>
          <p:nvPr/>
        </p:nvSpPr>
        <p:spPr>
          <a:xfrm>
            <a:off x="4090320" y="497664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25-3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Rectangle 113"/>
          <p:cNvSpPr/>
          <p:nvPr/>
        </p:nvSpPr>
        <p:spPr>
          <a:xfrm>
            <a:off x="4826880" y="497664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35-4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Rectangle 114"/>
          <p:cNvSpPr/>
          <p:nvPr/>
        </p:nvSpPr>
        <p:spPr>
          <a:xfrm>
            <a:off x="5563440" y="497664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45-5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Rectangle 115"/>
          <p:cNvSpPr/>
          <p:nvPr/>
        </p:nvSpPr>
        <p:spPr>
          <a:xfrm>
            <a:off x="6315120" y="497664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55-6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Rectangle 116"/>
          <p:cNvSpPr/>
          <p:nvPr/>
        </p:nvSpPr>
        <p:spPr>
          <a:xfrm>
            <a:off x="7051680" y="4976640"/>
            <a:ext cx="47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65-7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117"/>
          <p:cNvSpPr/>
          <p:nvPr/>
        </p:nvSpPr>
        <p:spPr>
          <a:xfrm>
            <a:off x="7885440" y="497664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75+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5" name="Group 118"/>
          <p:cNvGrpSpPr/>
          <p:nvPr/>
        </p:nvGrpSpPr>
        <p:grpSpPr>
          <a:xfrm>
            <a:off x="826920" y="5715000"/>
            <a:ext cx="474480" cy="82440"/>
            <a:chOff x="826920" y="5715000"/>
            <a:chExt cx="474480" cy="82440"/>
          </a:xfrm>
        </p:grpSpPr>
        <p:sp>
          <p:nvSpPr>
            <p:cNvPr id="506" name="Line 119"/>
            <p:cNvSpPr/>
            <p:nvPr/>
          </p:nvSpPr>
          <p:spPr>
            <a:xfrm>
              <a:off x="826920" y="5764320"/>
              <a:ext cx="474480" cy="1440"/>
            </a:xfrm>
            <a:prstGeom prst="line">
              <a:avLst/>
            </a:prstGeom>
            <a:ln w="334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07" name="Oval 120"/>
            <p:cNvSpPr/>
            <p:nvPr/>
          </p:nvSpPr>
          <p:spPr>
            <a:xfrm>
              <a:off x="1006200" y="5715000"/>
              <a:ext cx="82800" cy="82440"/>
            </a:xfrm>
            <a:prstGeom prst="ellipse">
              <a:avLst/>
            </a:prstGeom>
            <a:solidFill>
              <a:srgbClr val="ff00ff"/>
            </a:solidFill>
            <a:ln w="158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08" name="Rectangle 121"/>
          <p:cNvSpPr/>
          <p:nvPr/>
        </p:nvSpPr>
        <p:spPr>
          <a:xfrm>
            <a:off x="1478520" y="5634000"/>
            <a:ext cx="86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Израи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9" name="Group 122"/>
          <p:cNvGrpSpPr/>
          <p:nvPr/>
        </p:nvGrpSpPr>
        <p:grpSpPr>
          <a:xfrm>
            <a:off x="3421080" y="5715000"/>
            <a:ext cx="473040" cy="82440"/>
            <a:chOff x="3421080" y="5715000"/>
            <a:chExt cx="473040" cy="82440"/>
          </a:xfrm>
        </p:grpSpPr>
        <p:sp>
          <p:nvSpPr>
            <p:cNvPr id="510" name="Line 123"/>
            <p:cNvSpPr/>
            <p:nvPr/>
          </p:nvSpPr>
          <p:spPr>
            <a:xfrm>
              <a:off x="3421080" y="5764320"/>
              <a:ext cx="473040" cy="1440"/>
            </a:xfrm>
            <a:prstGeom prst="line">
              <a:avLst/>
            </a:prstGeom>
            <a:ln w="334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Oval 124"/>
            <p:cNvSpPr/>
            <p:nvPr/>
          </p:nvSpPr>
          <p:spPr>
            <a:xfrm>
              <a:off x="3601080" y="5715000"/>
              <a:ext cx="80640" cy="82440"/>
            </a:xfrm>
            <a:prstGeom prst="ellipse">
              <a:avLst/>
            </a:prstGeom>
            <a:solidFill>
              <a:srgbClr val="333399"/>
            </a:solidFill>
            <a:ln w="158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2" name="Rectangle 125"/>
          <p:cNvSpPr/>
          <p:nvPr/>
        </p:nvSpPr>
        <p:spPr>
          <a:xfrm>
            <a:off x="4526280" y="2343240"/>
            <a:ext cx="1096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Росс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3" name="Group 126"/>
          <p:cNvGrpSpPr/>
          <p:nvPr/>
        </p:nvGrpSpPr>
        <p:grpSpPr>
          <a:xfrm>
            <a:off x="5681520" y="5721480"/>
            <a:ext cx="475920" cy="82440"/>
            <a:chOff x="5681520" y="5721480"/>
            <a:chExt cx="475920" cy="82440"/>
          </a:xfrm>
        </p:grpSpPr>
        <p:sp>
          <p:nvSpPr>
            <p:cNvPr id="514" name="Line 127"/>
            <p:cNvSpPr/>
            <p:nvPr/>
          </p:nvSpPr>
          <p:spPr>
            <a:xfrm>
              <a:off x="5681520" y="5770800"/>
              <a:ext cx="475920" cy="1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Oval 128"/>
            <p:cNvSpPr/>
            <p:nvPr/>
          </p:nvSpPr>
          <p:spPr>
            <a:xfrm>
              <a:off x="5861160" y="5721480"/>
              <a:ext cx="82440" cy="82440"/>
            </a:xfrm>
            <a:prstGeom prst="ellipse">
              <a:avLst/>
            </a:prstGeom>
            <a:solidFill>
              <a:srgbClr val="ff9900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6" name="Rectangle 129"/>
          <p:cNvSpPr/>
          <p:nvPr/>
        </p:nvSpPr>
        <p:spPr>
          <a:xfrm>
            <a:off x="6373800" y="563400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Франц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17" name="Group 130"/>
          <p:cNvGrpSpPr/>
          <p:nvPr/>
        </p:nvGrpSpPr>
        <p:grpSpPr>
          <a:xfrm>
            <a:off x="826920" y="6075360"/>
            <a:ext cx="474480" cy="81000"/>
            <a:chOff x="826920" y="6075360"/>
            <a:chExt cx="474480" cy="81000"/>
          </a:xfrm>
        </p:grpSpPr>
        <p:sp>
          <p:nvSpPr>
            <p:cNvPr id="518" name="Line 131"/>
            <p:cNvSpPr/>
            <p:nvPr/>
          </p:nvSpPr>
          <p:spPr>
            <a:xfrm>
              <a:off x="826920" y="6124680"/>
              <a:ext cx="474480" cy="1440"/>
            </a:xfrm>
            <a:prstGeom prst="line">
              <a:avLst/>
            </a:prstGeom>
            <a:ln w="33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Oval 132"/>
            <p:cNvSpPr/>
            <p:nvPr/>
          </p:nvSpPr>
          <p:spPr>
            <a:xfrm>
              <a:off x="1006200" y="6075360"/>
              <a:ext cx="82800" cy="81000"/>
            </a:xfrm>
            <a:prstGeom prst="ellipse">
              <a:avLst/>
            </a:prstGeom>
            <a:solidFill>
              <a:srgbClr val="008000"/>
            </a:solidFill>
            <a:ln w="158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Rectangle 133"/>
          <p:cNvSpPr/>
          <p:nvPr/>
        </p:nvSpPr>
        <p:spPr>
          <a:xfrm>
            <a:off x="1479600" y="5992920"/>
            <a:ext cx="97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Герм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1" name="Group 134"/>
          <p:cNvGrpSpPr/>
          <p:nvPr/>
        </p:nvGrpSpPr>
        <p:grpSpPr>
          <a:xfrm>
            <a:off x="3421080" y="6075360"/>
            <a:ext cx="473040" cy="81000"/>
            <a:chOff x="3421080" y="6075360"/>
            <a:chExt cx="473040" cy="81000"/>
          </a:xfrm>
        </p:grpSpPr>
        <p:sp>
          <p:nvSpPr>
            <p:cNvPr id="522" name="Line 135"/>
            <p:cNvSpPr/>
            <p:nvPr/>
          </p:nvSpPr>
          <p:spPr>
            <a:xfrm>
              <a:off x="3421080" y="6124680"/>
              <a:ext cx="473040" cy="1440"/>
            </a:xfrm>
            <a:prstGeom prst="line">
              <a:avLst/>
            </a:prstGeom>
            <a:ln w="334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Oval 136"/>
            <p:cNvSpPr/>
            <p:nvPr/>
          </p:nvSpPr>
          <p:spPr>
            <a:xfrm>
              <a:off x="3601080" y="6075360"/>
              <a:ext cx="80640" cy="81000"/>
            </a:xfrm>
            <a:prstGeom prst="ellipse">
              <a:avLst/>
            </a:prstGeom>
            <a:solidFill>
              <a:srgbClr val="993366"/>
            </a:solidFill>
            <a:ln w="158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4" name="Rectangle 137"/>
          <p:cNvSpPr/>
          <p:nvPr/>
        </p:nvSpPr>
        <p:spPr>
          <a:xfrm>
            <a:off x="4138200" y="563400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СШ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Rectangle 138"/>
          <p:cNvSpPr/>
          <p:nvPr/>
        </p:nvSpPr>
        <p:spPr>
          <a:xfrm>
            <a:off x="4138560" y="599292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Кана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6" name="Group 139"/>
          <p:cNvGrpSpPr/>
          <p:nvPr/>
        </p:nvGrpSpPr>
        <p:grpSpPr>
          <a:xfrm>
            <a:off x="5681520" y="6075360"/>
            <a:ext cx="475920" cy="81000"/>
            <a:chOff x="5681520" y="6075360"/>
            <a:chExt cx="475920" cy="81000"/>
          </a:xfrm>
        </p:grpSpPr>
        <p:sp>
          <p:nvSpPr>
            <p:cNvPr id="527" name="Line 140"/>
            <p:cNvSpPr/>
            <p:nvPr/>
          </p:nvSpPr>
          <p:spPr>
            <a:xfrm>
              <a:off x="5681520" y="6124680"/>
              <a:ext cx="475920" cy="1440"/>
            </a:xfrm>
            <a:prstGeom prst="line">
              <a:avLst/>
            </a:prstGeom>
            <a:ln w="334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8" name="Oval 141"/>
            <p:cNvSpPr/>
            <p:nvPr/>
          </p:nvSpPr>
          <p:spPr>
            <a:xfrm>
              <a:off x="5861160" y="6075360"/>
              <a:ext cx="82440" cy="81000"/>
            </a:xfrm>
            <a:prstGeom prst="ellipse">
              <a:avLst/>
            </a:prstGeom>
            <a:solidFill>
              <a:srgbClr val="800000"/>
            </a:solidFill>
            <a:ln w="158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9" name="Rectangle 142"/>
          <p:cNvSpPr/>
          <p:nvPr/>
        </p:nvSpPr>
        <p:spPr>
          <a:xfrm>
            <a:off x="6375240" y="5992920"/>
            <a:ext cx="1689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99"/>
                </a:solidFill>
                <a:latin typeface="Arial"/>
              </a:rPr>
              <a:t>Великобр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Line 143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1" name="Picture 9" descr="logo-cnii"/>
          <p:cNvPicPr/>
          <p:nvPr/>
        </p:nvPicPr>
        <p:blipFill>
          <a:blip r:embed="rId1"/>
          <a:stretch/>
        </p:blipFill>
        <p:spPr>
          <a:xfrm>
            <a:off x="8275680" y="5856120"/>
            <a:ext cx="739800" cy="682920"/>
          </a:xfrm>
          <a:prstGeom prst="rect">
            <a:avLst/>
          </a:prstGeom>
          <a:ln w="0">
            <a:noFill/>
          </a:ln>
        </p:spPr>
      </p:pic>
      <p:sp>
        <p:nvSpPr>
          <p:cNvPr id="532" name="Line 145"/>
          <p:cNvSpPr/>
          <p:nvPr/>
        </p:nvSpPr>
        <p:spPr>
          <a:xfrm flipH="1">
            <a:off x="6573960" y="1087560"/>
            <a:ext cx="1440" cy="370980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Rectangle 107"/>
          <p:cNvSpPr/>
          <p:nvPr/>
        </p:nvSpPr>
        <p:spPr>
          <a:xfrm>
            <a:off x="373320" y="14000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33"/>
                </a:solidFill>
                <a:latin typeface="Arial Narrow"/>
              </a:rPr>
              <a:t>400,0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Freeform 147"/>
          <p:cNvSpPr/>
          <p:nvPr/>
        </p:nvSpPr>
        <p:spPr>
          <a:xfrm rot="21189000">
            <a:off x="1404720" y="4624560"/>
            <a:ext cx="844560" cy="79200"/>
          </a:xfrm>
          <a:prstGeom prst="pie">
            <a:avLst/>
          </a:prstGeom>
          <a:noFill/>
          <a:ln w="25560">
            <a:solidFill>
              <a:srgbClr val="008000"/>
            </a:solidFill>
            <a:round/>
          </a:ln>
          <a:effectLst>
            <a:outerShdw dist="0" dir="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Line 148"/>
          <p:cNvSpPr/>
          <p:nvPr/>
        </p:nvSpPr>
        <p:spPr>
          <a:xfrm>
            <a:off x="2146320" y="4691160"/>
            <a:ext cx="755640" cy="270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Line 149"/>
          <p:cNvSpPr/>
          <p:nvPr/>
        </p:nvSpPr>
        <p:spPr>
          <a:xfrm flipV="1">
            <a:off x="2097000" y="4657680"/>
            <a:ext cx="716040" cy="525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Line 150"/>
          <p:cNvSpPr/>
          <p:nvPr/>
        </p:nvSpPr>
        <p:spPr>
          <a:xfrm flipH="1">
            <a:off x="2865600" y="3382920"/>
            <a:ext cx="782640" cy="1285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Line 151"/>
          <p:cNvSpPr/>
          <p:nvPr/>
        </p:nvSpPr>
        <p:spPr>
          <a:xfrm flipH="1">
            <a:off x="3650760" y="2035080"/>
            <a:ext cx="584280" cy="1365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Line 152"/>
          <p:cNvSpPr/>
          <p:nvPr/>
        </p:nvSpPr>
        <p:spPr>
          <a:xfrm flipH="1">
            <a:off x="4247640" y="1812960"/>
            <a:ext cx="822600" cy="2397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Line 153"/>
          <p:cNvSpPr/>
          <p:nvPr/>
        </p:nvSpPr>
        <p:spPr>
          <a:xfrm flipH="1">
            <a:off x="5016240" y="1225440"/>
            <a:ext cx="834840" cy="601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4"/>
          <p:cNvSpPr/>
          <p:nvPr/>
        </p:nvSpPr>
        <p:spPr>
          <a:xfrm>
            <a:off x="5864400" y="1266840"/>
            <a:ext cx="687240" cy="825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Line 155"/>
          <p:cNvSpPr/>
          <p:nvPr/>
        </p:nvSpPr>
        <p:spPr>
          <a:xfrm>
            <a:off x="6526080" y="2009880"/>
            <a:ext cx="793800" cy="16034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6"/>
          <p:cNvSpPr/>
          <p:nvPr/>
        </p:nvSpPr>
        <p:spPr>
          <a:xfrm>
            <a:off x="7375680" y="3651120"/>
            <a:ext cx="728640" cy="4240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157"/>
          <p:cNvSpPr/>
          <p:nvPr/>
        </p:nvSpPr>
        <p:spPr>
          <a:xfrm>
            <a:off x="1979640" y="1359000"/>
            <a:ext cx="2617920" cy="703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bd373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Tahoma"/>
              </a:rPr>
              <a:t>Калининградская обла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Oval 51"/>
          <p:cNvSpPr/>
          <p:nvPr/>
        </p:nvSpPr>
        <p:spPr>
          <a:xfrm>
            <a:off x="1311120" y="4616280"/>
            <a:ext cx="146160" cy="14796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Oval 51"/>
          <p:cNvSpPr/>
          <p:nvPr/>
        </p:nvSpPr>
        <p:spPr>
          <a:xfrm>
            <a:off x="2027160" y="4629240"/>
            <a:ext cx="14616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Oval 51"/>
          <p:cNvSpPr/>
          <p:nvPr/>
        </p:nvSpPr>
        <p:spPr>
          <a:xfrm>
            <a:off x="2768760" y="4602240"/>
            <a:ext cx="14580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Oval 51"/>
          <p:cNvSpPr/>
          <p:nvPr/>
        </p:nvSpPr>
        <p:spPr>
          <a:xfrm>
            <a:off x="3551400" y="3335400"/>
            <a:ext cx="14580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Oval 51"/>
          <p:cNvSpPr/>
          <p:nvPr/>
        </p:nvSpPr>
        <p:spPr>
          <a:xfrm>
            <a:off x="4173480" y="1992240"/>
            <a:ext cx="14616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Oval 51"/>
          <p:cNvSpPr/>
          <p:nvPr/>
        </p:nvSpPr>
        <p:spPr>
          <a:xfrm>
            <a:off x="4978440" y="1725480"/>
            <a:ext cx="14616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Oval 51"/>
          <p:cNvSpPr/>
          <p:nvPr/>
        </p:nvSpPr>
        <p:spPr>
          <a:xfrm>
            <a:off x="5767560" y="1165320"/>
            <a:ext cx="14580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Oval 51"/>
          <p:cNvSpPr/>
          <p:nvPr/>
        </p:nvSpPr>
        <p:spPr>
          <a:xfrm>
            <a:off x="6481800" y="2022480"/>
            <a:ext cx="14616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Oval 51"/>
          <p:cNvSpPr/>
          <p:nvPr/>
        </p:nvSpPr>
        <p:spPr>
          <a:xfrm>
            <a:off x="7251840" y="3546360"/>
            <a:ext cx="14580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Oval 51"/>
          <p:cNvSpPr/>
          <p:nvPr/>
        </p:nvSpPr>
        <p:spPr>
          <a:xfrm>
            <a:off x="8007480" y="3997440"/>
            <a:ext cx="145800" cy="14760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ahoma"/>
              </a:rPr>
              <a:t>Повозрастные показатели смерт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Tahoma"/>
              </a:rPr>
              <a:t>от внешних причин в различных страна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170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0" y="3807000"/>
          <a:ext cx="9109080" cy="239364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73944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272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жидаемая  продолжитель-ность жизни при рождении 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ле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1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4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2/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8269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ладенческая смертность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0 родившихся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7/7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558" name="AutoShape 30"/>
          <p:cNvSpPr/>
          <p:nvPr/>
        </p:nvSpPr>
        <p:spPr>
          <a:xfrm>
            <a:off x="1042920" y="219564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Text Box 54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55"/>
          <p:cNvSpPr/>
          <p:nvPr/>
        </p:nvSpPr>
        <p:spPr>
          <a:xfrm>
            <a:off x="-36360" y="16344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МИСС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56"/>
          <p:cNvSpPr/>
          <p:nvPr/>
        </p:nvSpPr>
        <p:spPr>
          <a:xfrm>
            <a:off x="1403280" y="17316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Улучшение состояния здоровья населения</a:t>
            </a: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Калининградской области до уровня,  сопоставимого с показателями Европейских стран, повышение человеческого потенци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6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AutoShape 10"/>
          <p:cNvSpPr/>
          <p:nvPr/>
        </p:nvSpPr>
        <p:spPr>
          <a:xfrm>
            <a:off x="179280" y="189000"/>
            <a:ext cx="8713800" cy="71892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Ожидаемая продолжительность жизни при рожден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в Российской Федерации, Калининградской области, Литв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4" name="Рисунок 2" descr=""/>
          <p:cNvPicPr/>
          <p:nvPr/>
        </p:nvPicPr>
        <p:blipFill>
          <a:blip r:embed="rId2"/>
          <a:srcRect l="0" t="6422" r="0" b="0"/>
          <a:stretch/>
        </p:blipFill>
        <p:spPr>
          <a:xfrm>
            <a:off x="249120" y="1844640"/>
            <a:ext cx="8643960" cy="439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Object 162"/>
          <p:cNvGraphicFramePr/>
          <p:nvPr/>
        </p:nvGraphicFramePr>
        <p:xfrm>
          <a:off x="109440" y="3933720"/>
          <a:ext cx="887112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1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3933720"/>
                    <a:ext cx="887112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7" name="Object 163"/>
          <p:cNvGraphicFramePr/>
          <p:nvPr/>
        </p:nvGraphicFramePr>
        <p:xfrm>
          <a:off x="190440" y="1160640"/>
          <a:ext cx="873432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16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440" y="1160640"/>
                    <a:ext cx="873432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9" name="Text Box 168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AutoShape 10"/>
          <p:cNvSpPr/>
          <p:nvPr/>
        </p:nvSpPr>
        <p:spPr>
          <a:xfrm>
            <a:off x="179280" y="189000"/>
            <a:ext cx="8713800" cy="792000"/>
          </a:xfrm>
          <a:prstGeom prst="roundRect">
            <a:avLst>
              <a:gd name="adj" fmla="val 10699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Основные медико-демографические показател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Tahoma"/>
              </a:rPr>
              <a:t>по РФ, СЗФО и Калининградской области. </a:t>
            </a:r>
            <a:r>
              <a:rPr b="1" lang="en-US" sz="1800" spc="-1" strike="noStrike">
                <a:solidFill>
                  <a:srgbClr val="ff5050"/>
                </a:solidFill>
                <a:latin typeface="Tahoma"/>
              </a:rPr>
              <a:t>Смерт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"/>
          <p:cNvGraphicFramePr/>
          <p:nvPr/>
        </p:nvGraphicFramePr>
        <p:xfrm>
          <a:off x="1042920" y="2278080"/>
          <a:ext cx="7921800" cy="4103640"/>
        </p:xfrm>
        <a:graphic>
          <a:graphicData uri="http://schemas.openxmlformats.org/drawingml/2006/table">
            <a:tbl>
              <a:tblPr/>
              <a:tblGrid>
                <a:gridCol w="2087640"/>
                <a:gridCol w="1081080"/>
                <a:gridCol w="2031840"/>
                <a:gridCol w="849600"/>
                <a:gridCol w="934920"/>
                <a:gridCol w="936720"/>
              </a:tblGrid>
              <a:tr h="13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сновные показатели здоровья насел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Базовое знач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2005 г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Калининградская область (2009 г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РФ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Ли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</a:tr>
              <a:tr h="14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жидаемая </a:t>
                      </a: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родолжительность жизни (ле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7,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9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5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4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</a:tr>
              <a:tr h="131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Младенческая смерт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на 1000 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8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be6064"/>
                    </a:solidFill>
                  </a:tcPr>
                </a:tc>
              </a:tr>
            </a:tbl>
          </a:graphicData>
        </a:graphic>
      </p:graphicFrame>
      <p:sp>
        <p:nvSpPr>
          <p:cNvPr id="572" name="Text Box 32"/>
          <p:cNvSpPr/>
          <p:nvPr/>
        </p:nvSpPr>
        <p:spPr>
          <a:xfrm>
            <a:off x="8750880" y="652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Text Box 33"/>
          <p:cNvSpPr/>
          <p:nvPr/>
        </p:nvSpPr>
        <p:spPr>
          <a:xfrm>
            <a:off x="108000" y="368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МИСС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Text Box 34"/>
          <p:cNvSpPr/>
          <p:nvPr/>
        </p:nvSpPr>
        <p:spPr>
          <a:xfrm>
            <a:off x="1547640" y="31752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12960">
              <a:lnSpc>
                <a:spcPct val="100000"/>
              </a:lnSpc>
              <a:buSzPct val="20558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Улучшение состояния здоровья населения Калининградской области до уровня,  сопоставимого с показателями Европейских стран, повышение человеческого потенци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24000" y="1987560"/>
            <a:ext cx="8496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Адекватное финансирование отрасли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598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Дальнейшее решение кадровых проблем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598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Информатизация системы здравоохранения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598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Оснащение медицинским оборудованием лечебных учреждений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598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Строительство, капитальный ремонт и реконструкция учреждений здравоохранения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598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Совершенствование первичной медико-санитарной помощи (развитие общеврачебных практик, реорганизация службы скорой помощи, укрепление межрайонных центров)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598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598680" indent="-598680">
              <a:lnSpc>
                <a:spcPct val="80000"/>
              </a:lnSpc>
              <a:spcBef>
                <a:spcPts val="425"/>
              </a:spcBef>
              <a:buSzPct val="20571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cc"/>
                </a:solidFill>
                <a:latin typeface="Arial"/>
              </a:rPr>
              <a:t>Развитие и совершенствование специализированной медицинской помощи, в т.ч. включение Калининградской области в перечень субъектов, участвующих в реализации мероприятий, направленных на совершенствование организации онкологической помощи населению и медицинской помощи больным сосудистыми заболеваниями в рамках приоритетного национального проекта «Здоровье»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AutoShape 29"/>
          <p:cNvSpPr/>
          <p:nvPr/>
        </p:nvSpPr>
        <p:spPr>
          <a:xfrm>
            <a:off x="1300320" y="260280"/>
            <a:ext cx="7448400" cy="1152720"/>
          </a:xfrm>
          <a:prstGeom prst="roundRect">
            <a:avLst>
              <a:gd name="adj" fmla="val 10699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направления совершенствования системы здравоохранения Калининград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8750880" y="652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3"/>
          <p:cNvSpPr/>
          <p:nvPr/>
        </p:nvSpPr>
        <p:spPr>
          <a:xfrm>
            <a:off x="1301760" y="1114560"/>
            <a:ext cx="7058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324000" y="191772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39640" indent="-360360">
              <a:lnSpc>
                <a:spcPct val="80000"/>
              </a:lnSpc>
              <a:spcBef>
                <a:spcPts val="451"/>
              </a:spcBef>
              <a:buSzPct val="20562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С 2006 года в Калининградской области имеет место  кардинальное  динамичное улучшение основных медико-демографических показателей, что является объективным критерием эффективности работы системы здравоохранения наряду с реализацией Национального проек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9640" indent="-360360">
              <a:lnSpc>
                <a:spcPct val="80000"/>
              </a:lnSpc>
              <a:spcBef>
                <a:spcPts val="249"/>
              </a:spcBef>
              <a:buSzPct val="20558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539640" indent="-360360">
              <a:lnSpc>
                <a:spcPct val="80000"/>
              </a:lnSpc>
              <a:spcBef>
                <a:spcPts val="451"/>
              </a:spcBef>
              <a:buSzPct val="20562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остигнуто существенное улучшение показателей, характеризующих результативность борьбы с социально-значимой патологи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9640" indent="-360360">
              <a:lnSpc>
                <a:spcPct val="80000"/>
              </a:lnSpc>
              <a:spcBef>
                <a:spcPts val="249"/>
              </a:spcBef>
              <a:buSzPct val="20558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539640" indent="-360360">
              <a:lnSpc>
                <a:spcPct val="80000"/>
              </a:lnSpc>
              <a:spcBef>
                <a:spcPts val="451"/>
              </a:spcBef>
              <a:buSzPct val="20562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Предпринимаются значительные усилия, направленные на усиление кадрового потенциала здравоохранения Калининградской обла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39640" indent="-360360">
              <a:lnSpc>
                <a:spcPct val="80000"/>
              </a:lnSpc>
              <a:spcBef>
                <a:spcPts val="249"/>
              </a:spcBef>
              <a:buSzPct val="20558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539640" indent="-360360">
              <a:lnSpc>
                <a:spcPct val="80000"/>
              </a:lnSpc>
              <a:spcBef>
                <a:spcPts val="451"/>
              </a:spcBef>
              <a:buSzPct val="20562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Новая система финансирования повысила активность лечебно-профилактических учреждений Калининградской области и их руководителей, обеспечив экономическую мотивацию к здоровьесбережению населения, улучшению качества медицинской помощи, эффективному использованию ресурсов здравоохранения, оптимизации деятельности как лечебных учреждений, так и их сети в цел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611280" y="1386000"/>
            <a:ext cx="8353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AutoShape 29"/>
          <p:cNvSpPr/>
          <p:nvPr/>
        </p:nvSpPr>
        <p:spPr>
          <a:xfrm>
            <a:off x="1300320" y="260280"/>
            <a:ext cx="7448400" cy="1152720"/>
          </a:xfrm>
          <a:prstGeom prst="roundRect">
            <a:avLst>
              <a:gd name="adj" fmla="val 10699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Ы В О Д 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8750880" y="652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468360" y="2133720"/>
            <a:ext cx="8496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Целевая программа Калининградской области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«ФИЗИЧЕСКАЯ КУЛЬТУРА И СПОРТ -  ДЛЯ ВСЕХ»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007-2016 год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Целевая программа Калининград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«Мероприятия в области физической культуры и спорта 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2009 - 2012 годы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Областная инвестиционная програм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Федеральная целевая программа развития Калининградск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области на период до 2015 г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1116000" y="404640"/>
            <a:ext cx="7777080" cy="935280"/>
          </a:xfrm>
          <a:prstGeom prst="roundRect">
            <a:avLst>
              <a:gd name="adj" fmla="val 10699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Инструменты для решения зада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ahoma"/>
              </a:rPr>
              <a:t>по развитию физической культуры и спор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1042920" y="3429000"/>
            <a:ext cx="7264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700"/>
                            </p:stCondLst>
                            <p:childTnLst>
                              <p:par>
                                <p:cTn id="17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44784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33560" y="5157720"/>
            <a:ext cx="81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1912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179280" y="187200"/>
            <a:ext cx="3672000" cy="216216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cc3300"/>
                </a:solidFill>
                <a:uFillTx/>
                <a:latin typeface="Tahoma"/>
              </a:rPr>
              <a:t>Задача 1.1:</a:t>
            </a:r>
            <a:r>
              <a:rPr b="1" lang="ru-RU" sz="1300" spc="-1" strike="noStrike">
                <a:solidFill>
                  <a:srgbClr val="cc3300"/>
                </a:solidFill>
                <a:latin typeface="Tahoma"/>
              </a:rPr>
              <a:t> Создание средствами физической культуры и спорта достойного подражания образа гармоничного развитого в духовно-нравственном и физическом отношении человека, как основы для мотивации к здоровому образу жизни, физическому развитию и совершенствованию, отказу от вредных привычек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067280" y="360360"/>
            <a:ext cx="50767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Организована встреча с засл. мастером спорта В.Третьяком и демонстрация Кубка чемпионов мира по хоккею </a:t>
            </a:r>
            <a:r>
              <a:rPr b="1" lang="ru-RU" sz="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Организовано 5 встреч заслуженных мастеров спорта с молодежной аудиторией</a:t>
            </a:r>
            <a:r>
              <a:rPr b="1" lang="ru-RU" sz="9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(А. Шумилин, Д. Розинкевич, Д. Лапиков, Н. Ищенко, К. Жукова)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Проведено 4 спортивных праздников, посвященных знаменательным датам Калининградской области и России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cc"/>
                </a:solidFill>
                <a:latin typeface="Arial"/>
              </a:rPr>
              <a:t>Проведено на базе Центра медицинской профилактики 4 лектория профилактической направленности с участием молодежных организаций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179280" y="2924280"/>
            <a:ext cx="3672000" cy="1368360"/>
          </a:xfrm>
          <a:prstGeom prst="roundRect">
            <a:avLst>
              <a:gd name="adj" fmla="val 10699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3300"/>
                </a:solidFill>
                <a:uFillTx/>
                <a:latin typeface="Tahoma"/>
              </a:rPr>
              <a:t>Задача 1.2:</a:t>
            </a:r>
            <a:r>
              <a:rPr b="1" lang="ru-RU" sz="1400" spc="-1" strike="noStrike">
                <a:solidFill>
                  <a:srgbClr val="cc3300"/>
                </a:solidFill>
                <a:latin typeface="Tahoma"/>
              </a:rPr>
              <a:t> Привлечение населения к массовым занятиям физической культурой и спортом, улучшение показателей физической подготовленности и здоровья челов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4067280" y="2757600"/>
            <a:ext cx="507672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SzPct val="1027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cc"/>
                </a:solidFill>
                <a:latin typeface="Arial"/>
              </a:rPr>
              <a:t>Дополнительно открыто 2 отделений в спортивных школах, в муниципальных образованиях создано 166 спортивных секций при образовательных учреждениях, повышена эффективность их работы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Проведено 12 областных юношеских турниров и 5 массовых спортивных мероприятий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Обеспечено строительство Дворца спорта «Янтарный», универсального спортивного зала для РГУ им. И.Канта в г. Калининграде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067280" y="4869000"/>
            <a:ext cx="5002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Реорганизована деятельность спортивных школ в целях массового привлечения детей и подростков; на начальные этапы обучения дополнительно привлечено 1560 детей и подростков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Организовано на муниципальном уровне более 4228 мероприятий с участием более 164 тыс. жителей области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Проведено на территории области этап Кубка Европы по скалолазанию, этап Кубка мира по конному спорту, соревнования Чемпионата России и молодежного Чемпионата Европы  по пляжному волейболу, организовано 220 выездов спортсменов на всероссийские и международные соревнования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179280" y="5014800"/>
            <a:ext cx="3745080" cy="1582920"/>
          </a:xfrm>
          <a:prstGeom prst="roundRect">
            <a:avLst>
              <a:gd name="adj" fmla="val 10699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627120"/>
                <a:tab algn="l" pos="1254240"/>
                <a:tab algn="l" pos="1881360"/>
                <a:tab algn="l" pos="2508120"/>
                <a:tab algn="l" pos="3135240"/>
                <a:tab algn="l" pos="3762360"/>
                <a:tab algn="l" pos="4389480"/>
                <a:tab algn="l" pos="5016600"/>
                <a:tab algn="l" pos="5643720"/>
                <a:tab algn="l" pos="6270480"/>
                <a:tab algn="l" pos="6897600"/>
                <a:tab algn="l" pos="7524720"/>
                <a:tab algn="l" pos="8151840"/>
                <a:tab algn="l" pos="8778960"/>
                <a:tab algn="l" pos="9406080"/>
                <a:tab algn="l" pos="10032840"/>
                <a:tab algn="l" pos="10659960"/>
              </a:tabLst>
            </a:pPr>
            <a:r>
              <a:rPr b="1" lang="ru-RU" sz="1400" spc="-1" strike="noStrike" u="sng">
                <a:solidFill>
                  <a:srgbClr val="cc3300"/>
                </a:solidFill>
                <a:uFillTx/>
                <a:latin typeface="Tahoma"/>
              </a:rPr>
              <a:t>Задача 1.3</a:t>
            </a:r>
            <a:r>
              <a:rPr b="1" lang="ru-RU" sz="1400" spc="-1" strike="noStrike">
                <a:solidFill>
                  <a:srgbClr val="cc3300"/>
                </a:solidFill>
                <a:latin typeface="Tahoma"/>
              </a:rPr>
              <a:t>: Развитие спорта высших достижений, как элемента героико-патриотического воспитания молодежи, формирование лидерских качеств, мужества, настойчивости в достижении цели, успешно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3492360" y="2565360"/>
            <a:ext cx="17272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Line 17"/>
          <p:cNvSpPr/>
          <p:nvPr/>
        </p:nvSpPr>
        <p:spPr>
          <a:xfrm>
            <a:off x="3492360" y="4653000"/>
            <a:ext cx="1727280" cy="0"/>
          </a:xfrm>
          <a:prstGeom prst="line">
            <a:avLst/>
          </a:prstGeom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7505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30"/>
          <p:cNvSpPr/>
          <p:nvPr/>
        </p:nvSpPr>
        <p:spPr>
          <a:xfrm>
            <a:off x="1042920" y="32400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0" y="1484280"/>
          <a:ext cx="9109080" cy="533412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41076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71748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cc99"/>
                          </a:solidFill>
                          <a:latin typeface="Tahoma"/>
                        </a:rPr>
                        <a:t>Стратегическая цель: Популяризация и развитие физической культуры и спорта, как элемента духовно-нравственного и физического воспитания и совершенствования личности, профилактики заболеваний, улучшения здоровья населения и активного долголетия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7c80"/>
                          </a:solidFill>
                          <a:latin typeface="Tahoma"/>
                        </a:rPr>
                        <a:t>Тактическая задача 1.1: Создание средствами физической культуры и спорта достойного подражания образа гармоничного развитого в духовно-нравственном и физическом отношении человека, как основы для мотивации к здоровому образу жизни, физическому развитию и совершенствованию, отказу от вредных привычек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280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нкетирование це-левых групп моло-дежи по вопросу регулярных заня-тий физическими упражнениями в любой форме     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% от опрошенных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/4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7953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Анкетирование це-левых групп моло-дежи на наличие вредных привы-чек (табакокуре-ние, алкоголизм, употребление нар-котиков) 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% от оп-рошенных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7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60/5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5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2"/>
          <p:cNvSpPr/>
          <p:nvPr/>
        </p:nvSpPr>
        <p:spPr>
          <a:xfrm>
            <a:off x="874440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30"/>
          <p:cNvSpPr/>
          <p:nvPr/>
        </p:nvSpPr>
        <p:spPr>
          <a:xfrm>
            <a:off x="1042920" y="324000"/>
            <a:ext cx="7921800" cy="65700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bd3737"/>
                </a:solidFill>
                <a:latin typeface="Arial"/>
              </a:rPr>
              <a:t>Основные индикаторы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1484280"/>
          <a:ext cx="9109080" cy="5318280"/>
        </p:xfrm>
        <a:graphic>
          <a:graphicData uri="http://schemas.openxmlformats.org/drawingml/2006/table">
            <a:tbl>
              <a:tblPr/>
              <a:tblGrid>
                <a:gridCol w="1681200"/>
                <a:gridCol w="673200"/>
                <a:gridCol w="674640"/>
                <a:gridCol w="610920"/>
                <a:gridCol w="571680"/>
                <a:gridCol w="776160"/>
                <a:gridCol w="687600"/>
                <a:gridCol w="716040"/>
                <a:gridCol w="687240"/>
                <a:gridCol w="689040"/>
                <a:gridCol w="687240"/>
                <a:gridCol w="654120"/>
              </a:tblGrid>
              <a:tr h="365760"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(ед. изм.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6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7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8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09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план/фак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0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1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3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4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015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21752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хват детей и под-ростков всеми фо-рмами физкульту-рно-оздоровитель-ной работы 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% от  числа жителей 1-17 лет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7/3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98360">
                <a:tc gridSpan="12">
                  <a:txBody>
                    <a:bodyPr lIns="72000" rIns="72000" tIns="0" bIns="0" anchor="ctr">
                      <a:noAutofit/>
                    </a:bodyPr>
                    <a:p>
                      <a:pPr marL="355680" indent="-35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ff7c80"/>
                          </a:solidFill>
                          <a:latin typeface="Tahoma"/>
                        </a:rPr>
                        <a:t>Тактическая задача 1.2: Привлечение населения к массовым занятиям физической культурой и спортом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Число штатных ра-ботников физичес-кой культуры и спорта 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тыс. чел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.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8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9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02/2,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3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,3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095480">
                <a:tc>
                  <a:txBody>
                    <a:bodyPr lIns="72000" rIns="72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Удельный вес на-селения, система-тически занимаю-щегося физичес-кой культурой и спортом (</a:t>
                      </a:r>
                      <a:r>
                        <a:rPr b="1" lang="ru-RU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%</a:t>
                      </a:r>
                      <a:r>
                        <a:rPr b="1" lang="ru-RU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3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7,5/17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8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2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3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  <a:tr h="1247760">
                <a:tc>
                  <a:txBody>
                    <a:bodyPr lIns="72000" rIns="72000" tIns="0" bIns="0" anchor="ctr">
                      <a:noAutofit/>
                    </a:bodyPr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еспеченность спортивными сооружениями, в т.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177840" indent="-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 спортивные залы (</a:t>
                      </a: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тыс. кв.м. на 10 тыс. нас.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2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3/1,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gradFill rotWithShape="0">
                      <a:gsLst>
                        <a:gs pos="0">
                          <a:srgbClr val="c0666a"/>
                        </a:gs>
                        <a:gs pos="100000">
                          <a:srgbClr val="ffcc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1,4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c0666a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95"/>
          <p:cNvSpPr/>
          <p:nvPr/>
        </p:nvSpPr>
        <p:spPr>
          <a:xfrm>
            <a:off x="874440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99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07:09:59Z</dcterms:created>
  <dc:creator>Ivanowa</dc:creator>
  <dc:description/>
  <dc:language>en-US</dc:language>
  <cp:lastModifiedBy>Маскевич</cp:lastModifiedBy>
  <dcterms:modified xsi:type="dcterms:W3CDTF">2010-08-10T13:59:33Z</dcterms:modified>
  <cp:revision>1282</cp:revision>
  <dc:subject/>
  <dc:title>Слайд 1</dc:title>
</cp:coreProperties>
</file>