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1.jpeg" ContentType="image/jpeg"/>
  <Override PartName="/ppt/media/image23.wmf" ContentType="image/x-wmf"/>
  <Override PartName="/ppt/media/image6.jpeg" ContentType="image/jpeg"/>
  <Override PartName="/ppt/media/image24.wmf" ContentType="image/x-wmf"/>
  <Override PartName="/ppt/media/image22.wmf" ContentType="image/x-wmf"/>
  <Override PartName="/ppt/media/image21.png" ContentType="image/png"/>
  <Override PartName="/ppt/media/image4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6.wmf" ContentType="image/x-wmf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437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88ED-E848-4814-A3C5-E807C2030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3C9F-6952-4841-8BE8-F5DB011B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7CE-9E34-4084-B09E-A69E4852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FF62-D468-44C9-A9CE-2844CD21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3347-AA76-40CE-8644-46BA4966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0631-EE69-46C8-A074-DC45A0C2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377-3AAC-4042-B59F-BB28ECBE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BCB1-4A27-45B0-BF71-D32A0DAE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085C-222D-497F-906B-B47821FD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38AD-05EB-4184-A1E5-CBC7242A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640-90CC-4782-851D-4230F4C7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942-C400-4697-B91D-2279C5A2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30A2-DC78-4C07-BE1B-3E044D615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>
              <a:alphaModFix amt="86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539640" y="3068640"/>
            <a:ext cx="86043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Реализация приоритетного национального проекта «Здоровье»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в Калининградской области </a:t>
            </a:r>
            <a:br>
              <a:rPr sz="3100"/>
            </a:b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en-US" sz="3100" spc="-1" strike="noStrike">
                <a:solidFill>
                  <a:srgbClr val="ffffff"/>
                </a:solidFill>
                <a:latin typeface="Tahoma"/>
              </a:rPr>
              <a:t>200</a:t>
            </a:r>
            <a:r>
              <a:rPr b="1" lang="ru-RU" sz="3100" spc="-1" strike="noStrike">
                <a:solidFill>
                  <a:srgbClr val="ffffff"/>
                </a:solidFill>
                <a:latin typeface="Tahoma"/>
              </a:rPr>
              <a:t>9 году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9"/>
          <p:cNvSpPr/>
          <p:nvPr/>
        </p:nvSpPr>
        <p:spPr>
          <a:xfrm>
            <a:off x="539640" y="2421000"/>
            <a:ext cx="0" cy="2808360"/>
          </a:xfrm>
          <a:prstGeom prst="line">
            <a:avLst/>
          </a:prstGeom>
          <a:ln w="22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24360" y="5224320"/>
            <a:ext cx="302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1bd0b"/>
                </a:solidFill>
                <a:latin typeface="Tahoma"/>
              </a:rPr>
              <a:t>Министр Е.А. Клюй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348000" y="1989000"/>
            <a:ext cx="5796000" cy="1030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Чаша со змеей (эмблема)"/>
          <p:cNvPicPr/>
          <p:nvPr/>
        </p:nvPicPr>
        <p:blipFill>
          <a:blip r:embed="rId3"/>
          <a:stretch/>
        </p:blipFill>
        <p:spPr>
          <a:xfrm>
            <a:off x="179280" y="368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51280" y="6308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8156"/>
                </a:solidFill>
                <a:latin typeface="Tahoma"/>
              </a:rPr>
              <a:t>12.10.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solidFill>
            <a:srgbClr val="22864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24000" y="83664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ahoma"/>
              </a:rPr>
              <a:t>МИНИСТЕРСТВО ЗДРАВООХРАНЕНИЯ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1011240"/>
            <a:ext cx="8713800" cy="4140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105823"/>
                </a:solidFill>
                <a:latin typeface="Arial"/>
              </a:rPr>
              <a:t>Дополнительная иммунизация  населения области в 2009 год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95280" y="1857240"/>
          <a:ext cx="8424720" cy="4092840"/>
        </p:xfrm>
        <a:graphic>
          <a:graphicData uri="http://schemas.openxmlformats.org/drawingml/2006/table">
            <a:tbl>
              <a:tblPr/>
              <a:tblGrid>
                <a:gridCol w="3094200"/>
                <a:gridCol w="3409920"/>
                <a:gridCol w="1920600"/>
              </a:tblGrid>
              <a:tr h="1014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Наименование вакцин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7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одлежат вакцинации (категории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оличество лиц, под-лежащих вакцин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(чел.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Полиомиели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дети до 1 год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136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Гепатит 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от 18 до 55 л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9565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Кор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до 35 лет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ранее не привитые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16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Грип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дети, подростки, взрослые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до 60 ле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190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 Cyr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05823"/>
                        </a:gs>
                        <a:gs pos="50000">
                          <a:srgbClr val="99ff99"/>
                        </a:gs>
                        <a:gs pos="100000">
                          <a:srgbClr val="105823"/>
                        </a:gs>
                      </a:gsLst>
                      <a:lin ang="10800000"/>
                    </a:gra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 Cyr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0582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 Cyr"/>
                        </a:rPr>
                        <a:t>3008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105823"/>
                        </a:gs>
                        <a:gs pos="50000">
                          <a:srgbClr val="99ff99"/>
                        </a:gs>
                        <a:gs pos="100000">
                          <a:srgbClr val="105823"/>
                        </a:gs>
                      </a:gsLst>
                      <a:lin ang="10800000"/>
                    </a:gra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60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108000" y="692280"/>
          <a:ext cx="8964720" cy="6121440"/>
        </p:xfrm>
        <a:graphic>
          <a:graphicData uri="http://schemas.openxmlformats.org/drawingml/2006/table">
            <a:tbl>
              <a:tblPr/>
              <a:tblGrid>
                <a:gridCol w="498600"/>
                <a:gridCol w="3392280"/>
                <a:gridCol w="1797120"/>
                <a:gridCol w="1728720"/>
                <a:gridCol w="1548000"/>
              </a:tblGrid>
              <a:tr h="6242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ит вакци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вито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7.10.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олн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2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15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3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1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1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15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1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1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13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зе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3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1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3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а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7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3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1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9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3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1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1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Янтарны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181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252360" y="44280"/>
            <a:ext cx="8640720" cy="61236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cc00"/>
                </a:solidFill>
                <a:latin typeface="Arial"/>
              </a:rPr>
              <a:t>Вакцинация против грипп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cc00"/>
                </a:solidFill>
                <a:latin typeface="Arial"/>
              </a:rPr>
              <a:t>детей дошкольного и младшего школьного возраста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 (по состоянию на 7.10.2009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73080" y="476280"/>
          <a:ext cx="9036000" cy="6340320"/>
        </p:xfrm>
        <a:graphic>
          <a:graphicData uri="http://schemas.openxmlformats.org/drawingml/2006/table">
            <a:tbl>
              <a:tblPr/>
              <a:tblGrid>
                <a:gridCol w="368280"/>
                <a:gridCol w="2008080"/>
                <a:gridCol w="709560"/>
                <a:gridCol w="514440"/>
                <a:gridCol w="720720"/>
                <a:gridCol w="1041480"/>
                <a:gridCol w="758880"/>
                <a:gridCol w="936360"/>
                <a:gridCol w="719280"/>
                <a:gridCol w="598680"/>
                <a:gridCol w="660240"/>
              </a:tblGrid>
              <a:tr h="45720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л-во больных ВИЧ-ин-фекци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стоит на диспансерном учет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лежат об-следованию на имунный ста-тус и вирус-ную нагрузк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бследовано с целью на-значения противовирус-ного ле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ждается в ле-чении из обслед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чают лече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б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заре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в 200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подлежащи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аб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подлеж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99cc00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99cc00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99cc00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5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7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9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55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5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4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зе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6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</a:tr>
              <a:tr h="204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5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а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26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8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2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5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04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Янтарны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05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</a:tr>
              <a:tr h="204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УФС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199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ОМ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250920" y="44280"/>
            <a:ext cx="8713800" cy="3682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Обследование и лечение ВИЧ-инфицированных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(по состоянию на 7.10.2009)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34920" y="534960"/>
          <a:ext cx="9074160" cy="6289560"/>
        </p:xfrm>
        <a:graphic>
          <a:graphicData uri="http://schemas.openxmlformats.org/drawingml/2006/table">
            <a:tbl>
              <a:tblPr/>
              <a:tblGrid>
                <a:gridCol w="446040"/>
                <a:gridCol w="2289240"/>
                <a:gridCol w="1057320"/>
                <a:gridCol w="527040"/>
                <a:gridCol w="792000"/>
                <a:gridCol w="792360"/>
                <a:gridCol w="720720"/>
                <a:gridCol w="576360"/>
                <a:gridCol w="718920"/>
                <a:gridCol w="576360"/>
                <a:gridCol w="577800"/>
              </a:tblGrid>
              <a:tr h="6937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уждаются в лечении или переводе в группу неактив-ных боль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лу-чают лече-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нуждаю-щихс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трывы от лечения (абс.число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по-лучаю-щих лечени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ерег. очагов 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сего обследо-вано оча-гов 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 т.ч. бацил-ляр-ны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 от зарег.-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44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зе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1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а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Янтарный 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ОМЖ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ff9999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252360" y="79200"/>
            <a:ext cx="8640720" cy="3988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Мониторинг лечения больных туберкулезом </a:t>
            </a: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(по состоянию на 7.10.2009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816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71280" y="765000"/>
          <a:ext cx="9036360" cy="6010560"/>
        </p:xfrm>
        <a:graphic>
          <a:graphicData uri="http://schemas.openxmlformats.org/drawingml/2006/table">
            <a:tbl>
              <a:tblPr/>
              <a:tblGrid>
                <a:gridCol w="422280"/>
                <a:gridCol w="2349720"/>
                <a:gridCol w="1441440"/>
                <a:gridCol w="1439640"/>
                <a:gridCol w="935280"/>
                <a:gridCol w="1225440"/>
                <a:gridCol w="1222560"/>
              </a:tblGrid>
              <a:tr h="719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лежат диспансериз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200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шли диспансеризацию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2009 г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выпол-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выдан-ных паспортов здоров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выданных паспортов здоровь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6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996633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996633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996633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d9"/>
                        </a:gs>
                        <a:gs pos="50000">
                          <a:srgbClr val="996633"/>
                        </a:gs>
                        <a:gs pos="100000">
                          <a:srgbClr val="ffffd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2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зе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а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8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6633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99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Янтарны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252360" y="44280"/>
            <a:ext cx="8640720" cy="64260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Дополнительная диспансеризация работающих гражд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(по состоянию на 7.10.2009)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108000" y="692280"/>
          <a:ext cx="8964720" cy="6099120"/>
        </p:xfrm>
        <a:graphic>
          <a:graphicData uri="http://schemas.openxmlformats.org/drawingml/2006/table">
            <a:tbl>
              <a:tblPr/>
              <a:tblGrid>
                <a:gridCol w="504720"/>
                <a:gridCol w="2374920"/>
                <a:gridCol w="1081080"/>
                <a:gridCol w="1008000"/>
                <a:gridCol w="1008000"/>
                <a:gridCol w="1079640"/>
                <a:gridCol w="1008000"/>
                <a:gridCol w="900360"/>
              </a:tblGrid>
              <a:tr h="240480"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gridSpan="3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дано разрешен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ведено медосмот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пред-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абот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(тыс.руб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пред-прият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аботн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умма (тыс.руб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22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32,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36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4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2,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</a:tr>
              <a:tr h="224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9,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21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,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64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,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,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,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,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зе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4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,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,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,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а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0,5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98,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</a:tr>
              <a:tr h="226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,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</a:tr>
              <a:tr h="2217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d9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,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8,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6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9999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4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Янтарны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3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9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</a:tr>
              <a:tr h="2188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Выполнение в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52360" y="39600"/>
            <a:ext cx="8640720" cy="5806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Углубленные медицинские осмотры работников, занятых с вредными и (или) опасными производственными факторами в 2009 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744400" y="6518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484360" y="1844640"/>
            <a:ext cx="2925720" cy="241956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87280" y="1341360"/>
            <a:ext cx="1079640" cy="309564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868320"/>
            <a:ext cx="8064720" cy="39888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05823"/>
                </a:solidFill>
                <a:latin typeface="Arial"/>
              </a:rPr>
              <a:t>Обеспечение высокотехнологичной  медицинской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8920" y="4437000"/>
            <a:ext cx="4608360" cy="1767240"/>
          </a:xfrm>
          <a:prstGeom prst="rect">
            <a:avLst/>
          </a:prstGeom>
          <a:solidFill>
            <a:srgbClr val="ffcc66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823"/>
                </a:solidFill>
                <a:latin typeface="Arial"/>
              </a:rPr>
              <a:t>Калининградская областная клиническая боль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05823"/>
                </a:solidFill>
                <a:latin typeface="Arial"/>
              </a:rPr>
              <a:t>РЕАЛИЗАЦИЯ ФЕДЕРАЛЬНЫХ ОБЪЕМ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823"/>
                </a:solidFill>
                <a:latin typeface="Arial"/>
              </a:rPr>
              <a:t>Сердечно-сосудистая хирургия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05823"/>
                </a:solidFill>
                <a:latin typeface="Arial"/>
              </a:rPr>
              <a:t>план – 91 чел., факт. – 45 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823"/>
                </a:solidFill>
                <a:latin typeface="Arial"/>
              </a:rPr>
              <a:t>Ортопедия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5823"/>
                </a:solidFill>
                <a:latin typeface="Arial"/>
              </a:rPr>
              <a:t>план – 69 чел., факт. –  33 че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1341360"/>
            <a:ext cx="2736720" cy="43200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75088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9280" y="128520"/>
            <a:ext cx="863640" cy="69552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90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724360" y="1773360"/>
            <a:ext cx="3095640" cy="1006920"/>
          </a:xfrm>
          <a:prstGeom prst="rect">
            <a:avLst/>
          </a:prstGeom>
          <a:solidFill>
            <a:srgbClr val="ffcc66">
              <a:alpha val="86000"/>
            </a:srgbClr>
          </a:solidFill>
          <a:ln w="0">
            <a:noFill/>
          </a:ln>
          <a:effectLst>
            <a:outerShdw dist="17819" dir="27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5823"/>
                </a:solidFill>
                <a:latin typeface="Arial"/>
              </a:rPr>
              <a:t>Направлено в федеральные центры в соответствии с объемами 1538 человек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5823"/>
                </a:solidFill>
                <a:latin typeface="Arial"/>
              </a:rPr>
              <a:t>(в т.ч. 368 детей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1440" y="2997360"/>
            <a:ext cx="1978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Калининград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ластная клин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боль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2760" y="2997360"/>
            <a:ext cx="210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Tahoma"/>
              </a:rPr>
              <a:t>Калининград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Tahoma"/>
              </a:rPr>
              <a:t>областная клиниче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3300"/>
                </a:solidFill>
                <a:latin typeface="Tahoma"/>
              </a:rPr>
              <a:t>боль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24000" y="1628640"/>
            <a:ext cx="2919240" cy="2133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5508720" y="3429000"/>
            <a:ext cx="33526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909720"/>
            <a:ext cx="8207280" cy="4291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05823"/>
                </a:solidFill>
                <a:latin typeface="Arial"/>
              </a:rPr>
              <a:t>Оказание медицинской помощи пострадавшим в ДТ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4581360"/>
            <a:ext cx="5400720" cy="16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Больница скорой медицинской помощ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Центральная городская больниц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Городская станция скорой медицинской помощ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Гвардейская ЦР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Гусевская ЦР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Черняховская ЦР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1500" spc="-1" strike="noStrike">
                <a:solidFill>
                  <a:srgbClr val="800000"/>
                </a:solidFill>
                <a:latin typeface="Arial"/>
              </a:rPr>
              <a:t>Советская ЦГ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4360" y="2095560"/>
            <a:ext cx="7991280" cy="368280"/>
          </a:xfrm>
          <a:prstGeom prst="rect">
            <a:avLst/>
          </a:prstGeom>
          <a:solidFill>
            <a:srgbClr val="339966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20562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105823"/>
                </a:solidFill>
                <a:latin typeface="Arial"/>
              </a:rPr>
              <a:t>Областной бюджет           –                      34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2637000"/>
            <a:ext cx="7991280" cy="368280"/>
          </a:xfrm>
          <a:prstGeom prst="rect">
            <a:avLst/>
          </a:prstGeom>
          <a:solidFill>
            <a:srgbClr val="339966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20562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105823"/>
                </a:solidFill>
                <a:latin typeface="Arial"/>
              </a:rPr>
              <a:t>Местные бюджеты          –                      14,6 млн. 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4360" y="1519200"/>
            <a:ext cx="7991280" cy="368280"/>
          </a:xfrm>
          <a:prstGeom prst="rect">
            <a:avLst/>
          </a:prstGeom>
          <a:solidFill>
            <a:srgbClr val="339966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20562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105823"/>
                </a:solidFill>
                <a:latin typeface="Arial"/>
              </a:rPr>
              <a:t>Федеральный бюджет     –                    198,7 млн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3319560"/>
            <a:ext cx="8785440" cy="1067400"/>
          </a:xfrm>
          <a:prstGeom prst="rect">
            <a:avLst/>
          </a:prstGeom>
          <a:solidFill>
            <a:srgbClr val="66330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тавлено: 8 реанимобилей, 2 компьютерных томографа (64 среза), 14 наркозных аппаратов, 17 аппаратов ИВЛ, 8 инфузионных станций, 21 монитор слежения, 1 рентгенаппарат, 9 дефибрилляторов, 6 операционных столов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6 светильников операцио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70804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0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3"/>
          <a:stretch/>
        </p:blipFill>
        <p:spPr>
          <a:xfrm>
            <a:off x="1187280" y="4724280"/>
            <a:ext cx="137484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"/>
          <p:cNvGraphicFramePr/>
          <p:nvPr/>
        </p:nvGraphicFramePr>
        <p:xfrm>
          <a:off x="108000" y="981000"/>
          <a:ext cx="8928000" cy="5869080"/>
        </p:xfrm>
        <a:graphic>
          <a:graphicData uri="http://schemas.openxmlformats.org/drawingml/2006/table">
            <a:tbl>
              <a:tblPr/>
              <a:tblGrid>
                <a:gridCol w="934920"/>
                <a:gridCol w="3889440"/>
                <a:gridCol w="1295280"/>
                <a:gridCol w="2808360"/>
              </a:tblGrid>
              <a:tr h="5760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 отчетный период (январь-сент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погибших в результате дорожно-транспортных происшествий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,8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погибших на месте дорожно-транспортного происшеств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7,4 % от числа погиб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пострадавших в дорожно-транспортных происшествиях, умерших на госпитальном этапе,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 умерших во время перевозки (транспортиров-ки)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выездов на дорожно-транспортные происшествия, выполненные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пострадавших, которым оказана медици-нская помощь бригадами скорой медицинской помощ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пострадавших с сочетанной травмой, доставленных в травмоцентр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-го уровня (БСМП г. Калинингр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6,4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-го уровня (ЦГБ г. Калинингра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,7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-го уровня (Черняховская ЦРБ, Гусевская ЦРБ, ЦГБ Советского Г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,9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оперативных вмешательств пр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 множественной 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,7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0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 сочетанной 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,5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marL="35568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.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33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66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йротрав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,8 % от числа пострадавш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431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33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исло пострадавших в дорожно-транспортных происшествиях, умерших в стациона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marL="723960" indent="-72396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,6 % от числа доставленных в травмоцен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52360" y="39600"/>
            <a:ext cx="8640720" cy="88596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c00"/>
                </a:solidFill>
                <a:latin typeface="Arial"/>
              </a:rPr>
              <a:t>Мониторинг основных целевых показателей деятельности учреждений здравоохранения Калининградской области, участвующих в реализации мероприятий, направленных на совершенствование организации медицинской помощи пострадавшим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cc00"/>
                </a:solidFill>
                <a:latin typeface="Arial"/>
              </a:rPr>
              <a:t>при дорожно-транспортных происшествиях (январь-сентябрь 2009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7444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873000"/>
            <a:ext cx="8424720" cy="4597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5823"/>
                </a:solidFill>
                <a:latin typeface="Arial"/>
              </a:rPr>
              <a:t>Демографические показ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773360"/>
          <a:ext cx="8362800" cy="4162320"/>
        </p:xfrm>
        <a:graphic>
          <a:graphicData uri="http://schemas.openxmlformats.org/drawingml/2006/table">
            <a:tbl>
              <a:tblPr/>
              <a:tblGrid>
                <a:gridCol w="2746440"/>
                <a:gridCol w="2881080"/>
                <a:gridCol w="2735280"/>
              </a:tblGrid>
              <a:tr h="6886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оказате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Калининградская обла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8 (9 мес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9 (9 мес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>
                        <a:alpha val="50000"/>
                      </a:srgbClr>
                    </a:solidFill>
                  </a:tcPr>
                </a:tc>
              </a:tr>
              <a:tr h="4572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"/>
                        </a:rPr>
                        <a:t>Родилось всего (чел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7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722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Рождаем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на 1000 населен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11,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11,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Младенческ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на 1000 родившихс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6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6,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Материнск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на 100 000 родов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Общая смертность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105823"/>
                          </a:solidFill>
                          <a:latin typeface="Arial Cyr"/>
                        </a:rPr>
                        <a:t>(на 1000 населени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15,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14,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221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H="1">
            <a:off x="1115640" y="2781360"/>
            <a:ext cx="1800360" cy="309564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94920" y="2781360"/>
            <a:ext cx="2521080" cy="223200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836640"/>
            <a:ext cx="8280360" cy="3373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823"/>
                </a:solidFill>
                <a:latin typeface="Arial"/>
              </a:rPr>
              <a:t>Направления реализации приоритетного национального  проекта «Здоровь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060640"/>
            <a:ext cx="3456000" cy="642600"/>
          </a:xfrm>
          <a:prstGeom prst="rect">
            <a:avLst/>
          </a:prstGeom>
          <a:solidFill>
            <a:srgbClr val="008000">
              <a:alpha val="40000"/>
            </a:srgbClr>
          </a:solidFill>
          <a:ln w="5724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Arial"/>
              </a:rPr>
              <a:t>Развитие первич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05823"/>
                </a:solidFill>
                <a:latin typeface="Arial"/>
              </a:rPr>
              <a:t>медицинской пом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2060640"/>
            <a:ext cx="4537080" cy="916920"/>
          </a:xfrm>
          <a:prstGeom prst="rect">
            <a:avLst/>
          </a:prstGeom>
          <a:solidFill>
            <a:srgbClr val="008000">
              <a:alpha val="40000"/>
            </a:srgbClr>
          </a:solidFill>
          <a:ln w="5724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Arial"/>
              </a:rPr>
              <a:t>Обеспечение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Arial"/>
              </a:rPr>
              <a:t>высокотехнологичной медици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05823"/>
                </a:solidFill>
                <a:latin typeface="Arial"/>
              </a:rPr>
              <a:t>помощ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79640" y="1268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516720" y="1268280"/>
            <a:ext cx="360360" cy="720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3068640"/>
            <a:ext cx="1655640" cy="55044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ff99"/>
                </a:solidFill>
                <a:latin typeface="Arial"/>
              </a:rPr>
              <a:t>Неонатальный скринин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4989600"/>
            <a:ext cx="3384720" cy="55044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Дополнительна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диспансеризация  населен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4297320"/>
            <a:ext cx="3168720" cy="55044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Оплата родовых сертифика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3549600"/>
            <a:ext cx="4033800" cy="77868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ff99"/>
                </a:solidFill>
                <a:latin typeface="Arial"/>
              </a:rPr>
              <a:t>Денежные выплаты работника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ff99"/>
                </a:solidFill>
                <a:latin typeface="Arial"/>
              </a:rPr>
              <a:t>участковой службы, скорой помощи, ФАП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4797360"/>
            <a:ext cx="3673440" cy="55044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Дополнительна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иммунизация насе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5853240"/>
            <a:ext cx="3529080" cy="55044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Профилактика, выявление и лечение больных ВИЧ, гепатит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5853240"/>
            <a:ext cx="3672000" cy="77868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Подготовка и переподготовка враче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66ff99"/>
                </a:solidFill>
                <a:latin typeface="Arial"/>
              </a:rPr>
              <a:t>участковой служб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050920" y="2781360"/>
            <a:ext cx="865440" cy="28728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51280" y="2781360"/>
            <a:ext cx="1008000" cy="79200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1618920" y="2781360"/>
            <a:ext cx="1297080" cy="151128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51280" y="2781360"/>
            <a:ext cx="1368360" cy="237636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2781360"/>
            <a:ext cx="1512720" cy="345600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3213000"/>
            <a:ext cx="1871640" cy="778680"/>
          </a:xfrm>
          <a:prstGeom prst="rect">
            <a:avLst/>
          </a:prstGeom>
          <a:solidFill>
            <a:srgbClr val="a9bb25">
              <a:alpha val="80000"/>
            </a:srgbClr>
          </a:solidFill>
          <a:ln w="0">
            <a:noFill/>
          </a:ln>
          <a:effectLst>
            <a:outerShdw dist="17819" dir="2700000" blurRad="0" rotWithShape="0">
              <a:srgbClr val="656f1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66ff99"/>
                </a:solidFill>
                <a:latin typeface="Arial"/>
              </a:rPr>
              <a:t>Аудиологичес-кий скрининг новорожденны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16360" y="2781360"/>
            <a:ext cx="503280" cy="431640"/>
          </a:xfrm>
          <a:prstGeom prst="line">
            <a:avLst/>
          </a:prstGeom>
          <a:ln w="12600">
            <a:solidFill>
              <a:srgbClr val="1058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79280" y="127080"/>
            <a:ext cx="863640" cy="69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-36360" y="1557360"/>
          <a:ext cx="903600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360" y="1557360"/>
                    <a:ext cx="9036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324000" y="907920"/>
            <a:ext cx="8569080" cy="6426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казатель результативности деятельности муниципальных учреждений здравоохранения области за август 2009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79280" y="981000"/>
          <a:ext cx="8713800" cy="567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981000"/>
                    <a:ext cx="8713800" cy="567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324000" y="909720"/>
            <a:ext cx="8569080" cy="6426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казатель результативности деятельности муниципальных учреждений здравоохранения г. Калининграда за август 2009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-174600" y="1773360"/>
          <a:ext cx="9347040" cy="51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4600" y="1773360"/>
                    <a:ext cx="93470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95280" y="890640"/>
            <a:ext cx="8569440" cy="52020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оличество рецептов (%) на отсроченном отпуске по программе ОНЛС в разрезе  муниципальных образований на 7 октября 2009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4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6" descr="ЭМБЛЕМА нац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7"/>
          <p:cNvSpPr/>
          <p:nvPr/>
        </p:nvSpPr>
        <p:spPr>
          <a:xfrm>
            <a:off x="324000" y="855720"/>
            <a:ext cx="8569080" cy="48996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по Калининградской области от минимальной цены на них же по регионам (август/июль 200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8677800" y="64911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1346040"/>
          <a:ext cx="8675640" cy="5427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46040"/>
                    <a:ext cx="8675640" cy="54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4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ЭМБЛЕМА нац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7"/>
          <p:cNvSpPr/>
          <p:nvPr/>
        </p:nvSpPr>
        <p:spPr>
          <a:xfrm>
            <a:off x="324000" y="855720"/>
            <a:ext cx="8569080" cy="48996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по Калининградской области от минимальной цены на них же по регионам (август/июль 200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0" y="1214280"/>
          <a:ext cx="8964720" cy="588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14280"/>
                    <a:ext cx="896472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4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ЭМБЛЕМА нац"/>
          <p:cNvPicPr/>
          <p:nvPr/>
        </p:nvPicPr>
        <p:blipFill>
          <a:blip r:embed="rId2"/>
          <a:stretch/>
        </p:blipFill>
        <p:spPr>
          <a:xfrm>
            <a:off x="34920" y="-27000"/>
            <a:ext cx="1152360" cy="9302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0" y="793800"/>
            <a:ext cx="9144000" cy="48996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по Калининградской области от минимальной цены на них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же по регионам (август/июль 200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0" y="1181160"/>
          <a:ext cx="8964720" cy="5911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81160"/>
                    <a:ext cx="8964720" cy="591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8"/>
          <p:cNvSpPr/>
          <p:nvPr/>
        </p:nvSpPr>
        <p:spPr>
          <a:xfrm>
            <a:off x="8677800" y="64911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5"/>
          <p:cNvSpPr/>
          <p:nvPr/>
        </p:nvSpPr>
        <p:spPr>
          <a:xfrm>
            <a:off x="0" y="0"/>
            <a:ext cx="9144000" cy="863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4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6" descr="ЭМБЛЕМА нац"/>
          <p:cNvPicPr/>
          <p:nvPr/>
        </p:nvPicPr>
        <p:blipFill>
          <a:blip r:embed="rId2"/>
          <a:stretch/>
        </p:blipFill>
        <p:spPr>
          <a:xfrm>
            <a:off x="34920" y="-27000"/>
            <a:ext cx="1152360" cy="93024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4"/>
          <p:cNvSpPr/>
          <p:nvPr/>
        </p:nvSpPr>
        <p:spPr>
          <a:xfrm>
            <a:off x="0" y="793800"/>
            <a:ext cx="9144000" cy="48996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по Калининградской области от минимальной цены на них </a:t>
            </a: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Arial"/>
              </a:rPr>
              <a:t>же по регионам (август/июль 200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76280" y="1633680"/>
          <a:ext cx="7767720" cy="4964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633680"/>
                    <a:ext cx="776772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Text Box 8"/>
          <p:cNvSpPr/>
          <p:nvPr/>
        </p:nvSpPr>
        <p:spPr>
          <a:xfrm>
            <a:off x="8677800" y="64911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4"/>
          <p:cNvSpPr/>
          <p:nvPr/>
        </p:nvSpPr>
        <p:spPr>
          <a:xfrm>
            <a:off x="324000" y="855720"/>
            <a:ext cx="8569080" cy="48996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Сравнение отклонения цен на лекарственные средств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по Калининградской области от минимальной цены на них же по регионам (август/июль 2009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4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ЭМБЛЕМА нац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8677800" y="649116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79280" y="1547640"/>
          <a:ext cx="8064720" cy="5154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547640"/>
                    <a:ext cx="8064720" cy="51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0" y="1712880"/>
            <a:ext cx="9144000" cy="428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1332000" y="3429000"/>
            <a:ext cx="712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СПАСИБО ЗА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4"/>
          <p:cNvSpPr/>
          <p:nvPr/>
        </p:nvSpPr>
        <p:spPr>
          <a:xfrm>
            <a:off x="6516720" y="5950080"/>
            <a:ext cx="1627200" cy="12060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684360" y="2276640"/>
            <a:ext cx="0" cy="2879640"/>
          </a:xfrm>
          <a:prstGeom prst="line">
            <a:avLst/>
          </a:prstGeom>
          <a:ln w="158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11"/>
          <p:cNvSpPr/>
          <p:nvPr/>
        </p:nvSpPr>
        <p:spPr>
          <a:xfrm>
            <a:off x="0" y="1712880"/>
            <a:ext cx="9144000" cy="285840"/>
          </a:xfrm>
          <a:prstGeom prst="rect">
            <a:avLst/>
          </a:prstGeom>
          <a:solidFill>
            <a:srgbClr val="228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5229360"/>
            <a:ext cx="626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Чаша со змеей (эмблема)"/>
          <p:cNvPicPr/>
          <p:nvPr/>
        </p:nvPicPr>
        <p:blipFill>
          <a:blip r:embed="rId2"/>
          <a:stretch/>
        </p:blipFill>
        <p:spPr>
          <a:xfrm>
            <a:off x="179280" y="368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224000" y="83664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ahoma"/>
              </a:rPr>
              <a:t>МИНИСТЕРСТВО ЗДРАВООХРАНЕНИЯ КАЛИНИНГРАДСКОЙ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mph" presetID="3" presetSubtype="2" repeatCount="3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04000" y="2781360"/>
            <a:ext cx="2133720" cy="1450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50920" y="2781360"/>
            <a:ext cx="2011320" cy="146376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1063800"/>
            <a:ext cx="7561440" cy="45972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5823"/>
                </a:solidFill>
                <a:latin typeface="Arial"/>
              </a:rPr>
              <a:t>«Развитие первичной медицинской помощ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5526000"/>
            <a:ext cx="7488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916280"/>
            <a:ext cx="7846920" cy="58140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5823"/>
                </a:solidFill>
                <a:latin typeface="Arial"/>
              </a:rPr>
              <a:t>  </a:t>
            </a:r>
            <a:r>
              <a:rPr b="1" lang="en-US" sz="1500" spc="-1" strike="noStrike">
                <a:solidFill>
                  <a:srgbClr val="105823"/>
                </a:solidFill>
                <a:latin typeface="Arial"/>
              </a:rPr>
              <a:t>Регистр медицинских  работников участковой службы - </a:t>
            </a:r>
            <a:r>
              <a:rPr b="1" lang="en-US" sz="1700" spc="-1" strike="noStrike">
                <a:solidFill>
                  <a:srgbClr val="105823"/>
                </a:solidFill>
                <a:latin typeface="Arial"/>
              </a:rPr>
              <a:t>829</a:t>
            </a:r>
            <a:r>
              <a:rPr b="1" lang="en-US" sz="1500" spc="-1" strike="noStrike">
                <a:solidFill>
                  <a:srgbClr val="105823"/>
                </a:solidFill>
                <a:latin typeface="Arial"/>
              </a:rPr>
              <a:t> человек (416 врачей и 413 медицинских сестер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4508640"/>
            <a:ext cx="7846920" cy="58140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9900"/>
              </a:buClr>
              <a:buSzPct val="1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Регистр сотрудников службы скорой медицинской помощи и фельдшерско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акушерских пунктов – </a:t>
            </a:r>
            <a:r>
              <a:rPr b="1" lang="ru-RU" sz="1700" spc="-1" strike="noStrike">
                <a:solidFill>
                  <a:srgbClr val="105823"/>
                </a:solidFill>
                <a:latin typeface="Arial"/>
              </a:rPr>
              <a:t>734</a:t>
            </a:r>
            <a:r>
              <a:rPr b="1" lang="ru-RU" sz="1500" spc="-1" strike="noStrike">
                <a:solidFill>
                  <a:srgbClr val="105823"/>
                </a:solidFill>
                <a:latin typeface="Arial"/>
              </a:rPr>
              <a:t> челове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3357720"/>
            <a:ext cx="4248360" cy="358560"/>
          </a:xfrm>
          <a:prstGeom prst="rect">
            <a:avLst/>
          </a:prstGeom>
          <a:gradFill rotWithShape="0">
            <a:gsLst>
              <a:gs pos="0">
                <a:srgbClr val="996633">
                  <a:alpha val="60392"/>
                </a:srgbClr>
              </a:gs>
              <a:gs pos="50000">
                <a:srgbClr val="ffffff"/>
              </a:gs>
              <a:gs pos="100000">
                <a:srgbClr val="996633">
                  <a:alpha val="60392"/>
                </a:srgbClr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182520" y="130320"/>
            <a:ext cx="860400" cy="691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55640" y="5445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За январь-сентябрь 2009 года дополнительные выплаты средств федерального бюджета  составили 78,7 млн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90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3429000"/>
            <a:ext cx="1542960" cy="11764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988920"/>
            <a:ext cx="8424720" cy="551160"/>
          </a:xfrm>
          <a:prstGeom prst="rect">
            <a:avLst/>
          </a:prstGeom>
          <a:solidFill>
            <a:srgbClr val="7e2a00">
              <a:alpha val="5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Программа «Родовые сертификаты» – 74,443 млн.руб.</a:t>
            </a:r>
            <a:br>
              <a:rPr sz="1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050920" y="1916280"/>
            <a:ext cx="2952720" cy="7642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Женские консультации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35640" y="2060640"/>
            <a:ext cx="2952720" cy="3988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19,791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50920" y="3613320"/>
            <a:ext cx="2952720" cy="7642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Родильные дома и отделения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5227560"/>
            <a:ext cx="2952720" cy="7642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</a:rPr>
              <a:t>Детские поликлиники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35640" y="3787920"/>
            <a:ext cx="2952720" cy="3988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41,970 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5418000"/>
            <a:ext cx="2952720" cy="39888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12,682 млн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2924280"/>
            <a:ext cx="7705800" cy="358560"/>
          </a:xfrm>
          <a:prstGeom prst="rect">
            <a:avLst/>
          </a:prstGeom>
          <a:gradFill rotWithShape="0">
            <a:gsLst>
              <a:gs pos="0">
                <a:srgbClr val="996633">
                  <a:alpha val="60392"/>
                </a:srgbClr>
              </a:gs>
              <a:gs pos="50000">
                <a:srgbClr val="ffffff"/>
              </a:gs>
              <a:gs pos="100000">
                <a:srgbClr val="996633">
                  <a:alpha val="60392"/>
                </a:srgbClr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4726080"/>
            <a:ext cx="7705800" cy="358560"/>
          </a:xfrm>
          <a:prstGeom prst="rect">
            <a:avLst/>
          </a:prstGeom>
          <a:gradFill rotWithShape="0">
            <a:gsLst>
              <a:gs pos="0">
                <a:srgbClr val="996633">
                  <a:alpha val="60392"/>
                </a:srgbClr>
              </a:gs>
              <a:gs pos="50000">
                <a:srgbClr val="ffffff"/>
              </a:gs>
              <a:gs pos="100000">
                <a:srgbClr val="996633">
                  <a:alpha val="60392"/>
                </a:srgbClr>
              </a:gs>
            </a:gsLst>
            <a:lin ang="5400000"/>
          </a:gra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07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79280" y="131760"/>
            <a:ext cx="858960" cy="690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1114560" y="52992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1114560" y="198756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79280" y="657360"/>
          <a:ext cx="8785440" cy="6084720"/>
        </p:xfrm>
        <a:graphic>
          <a:graphicData uri="http://schemas.openxmlformats.org/drawingml/2006/table">
            <a:tbl>
              <a:tblPr/>
              <a:tblGrid>
                <a:gridCol w="433440"/>
                <a:gridCol w="2951280"/>
                <a:gridCol w="1224000"/>
                <a:gridCol w="1296720"/>
                <a:gridCol w="792360"/>
                <a:gridCol w="1368360"/>
                <a:gridCol w="719280"/>
              </a:tblGrid>
              <a:tr h="7300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о беременных, состоящих на уч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ледова-лись в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имес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следова-лись во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тримест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4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зе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а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Янтарный 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5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3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33"/>
                        </a:gs>
                        <a:gs pos="50000">
                          <a:srgbClr val="ffffcc"/>
                        </a:gs>
                        <a:gs pos="100000">
                          <a:srgbClr val="ff9933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52360" y="39600"/>
            <a:ext cx="8640720" cy="5806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Пренатальный скрининг на материнские сывороточные маркеры 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I 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и</a:t>
            </a: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 II</a:t>
            </a:r>
            <a:r>
              <a:rPr b="1" lang="ru-RU" sz="1600" spc="-1" strike="noStrike">
                <a:solidFill>
                  <a:srgbClr val="ffcc00"/>
                </a:solidFill>
                <a:latin typeface="Arial"/>
              </a:rPr>
              <a:t> триместра (оперативные данные на 7.10.2009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7112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944640"/>
            <a:ext cx="7704000" cy="11142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105823"/>
                </a:solidFill>
                <a:latin typeface="Arial"/>
              </a:rPr>
              <a:t>Неонатальный скрининг</a:t>
            </a:r>
            <a:r>
              <a:rPr b="1" lang="ru-RU" sz="2400" spc="-1" strike="noStrike">
                <a:solidFill>
                  <a:srgbClr val="105823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200" spc="-1" strike="noStrike">
                <a:solidFill>
                  <a:srgbClr val="105823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105823"/>
                </a:solidFill>
                <a:latin typeface="Arial"/>
              </a:rPr>
              <a:t>массовое обследование новорожденных </a:t>
            </a:r>
            <a:br>
              <a:rPr sz="1200"/>
            </a:br>
            <a:r>
              <a:rPr b="1" i="1" lang="ru-RU" sz="1200" spc="-1" strike="noStrike">
                <a:solidFill>
                  <a:srgbClr val="105823"/>
                </a:solidFill>
                <a:latin typeface="Arial"/>
              </a:rPr>
              <a:t>на врожденные заболевания обмена веществ</a:t>
            </a:r>
            <a:r>
              <a:rPr b="1" lang="ru-RU" sz="1200" spc="-1" strike="noStrike">
                <a:solidFill>
                  <a:srgbClr val="105823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0560" y="2276640"/>
            <a:ext cx="7561440" cy="2136240"/>
          </a:xfrm>
          <a:prstGeom prst="rect">
            <a:avLst/>
          </a:prstGeom>
          <a:solidFill>
            <a:srgbClr val="105823">
              <a:alpha val="15000"/>
            </a:srgbClr>
          </a:solidFill>
          <a:ln w="7632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05823"/>
                </a:solidFill>
                <a:latin typeface="Arial"/>
              </a:rPr>
              <a:t>В 2009 году</a:t>
            </a:r>
            <a:r>
              <a:rPr b="1" lang="en-US" sz="4000" spc="-1" strike="noStrike">
                <a:solidFill>
                  <a:srgbClr val="10582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05823"/>
                </a:solidFill>
                <a:latin typeface="Arial"/>
              </a:rPr>
              <a:t>по данным родильных домов (на 7.10.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105823"/>
                </a:solidFill>
                <a:latin typeface="Arial"/>
              </a:rPr>
              <a:t>родилось 8195 детей, обследовано 99,5 %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7640" y="4797360"/>
            <a:ext cx="7848720" cy="1450440"/>
          </a:xfrm>
          <a:prstGeom prst="rect">
            <a:avLst/>
          </a:prstGeom>
          <a:solidFill>
            <a:srgbClr val="66330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28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явле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2800">
              <a:buClr>
                <a:srgbClr val="ddb60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фенилкетонурия – 1 больной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612800">
              <a:buClr>
                <a:srgbClr val="ddb60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Arial"/>
              </a:rPr>
              <a:t>врожденный гипотиреоз – 1 больно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6128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руппе риска наблюдается 15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128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24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79280" y="147600"/>
            <a:ext cx="8636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907920"/>
            <a:ext cx="8064360" cy="97740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5823"/>
                </a:solidFill>
                <a:latin typeface="Arial"/>
              </a:rPr>
              <a:t>Аудиологический скрининг</a:t>
            </a:r>
            <a:r>
              <a:rPr b="1" lang="ru-RU" sz="2400" spc="-1" strike="noStrike">
                <a:solidFill>
                  <a:srgbClr val="105823"/>
                </a:solidFill>
                <a:latin typeface="Arial"/>
              </a:rPr>
              <a:t> </a:t>
            </a:r>
            <a:br>
              <a:rPr sz="2400"/>
            </a:br>
            <a:r>
              <a:rPr b="1" i="1" lang="ru-RU" sz="1400" spc="-1" strike="noStrike">
                <a:solidFill>
                  <a:srgbClr val="105823"/>
                </a:solidFill>
                <a:latin typeface="Arial"/>
              </a:rPr>
              <a:t>(раннее выявление врожденной тугоухост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920" y="2425680"/>
            <a:ext cx="7561440" cy="1434600"/>
          </a:xfrm>
          <a:prstGeom prst="rect">
            <a:avLst/>
          </a:prstGeom>
          <a:solidFill>
            <a:srgbClr val="105823">
              <a:alpha val="15000"/>
            </a:srgbClr>
          </a:solidFill>
          <a:ln w="7632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5823"/>
                </a:solidFill>
                <a:latin typeface="Arial"/>
              </a:rPr>
              <a:t>В 2009 году проведен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05823"/>
                </a:solidFill>
                <a:latin typeface="Arial"/>
              </a:rPr>
              <a:t>4400 исследов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4254480"/>
            <a:ext cx="8245440" cy="1739880"/>
          </a:xfrm>
          <a:prstGeom prst="rect">
            <a:avLst/>
          </a:prstGeom>
          <a:solidFill>
            <a:srgbClr val="663300">
              <a:alpha val="73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 детей   направлены в федеральный медицинский центр для решения вопроса о необходимости оперативного лечения (за счет средств федерального бюджета, квоты выделен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 детей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оперирова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ребенка  находятся под наблюд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60640" indent="-116064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36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08000" y="692280"/>
          <a:ext cx="8928000" cy="6103800"/>
        </p:xfrm>
        <a:graphic>
          <a:graphicData uri="http://schemas.openxmlformats.org/drawingml/2006/table">
            <a:tbl>
              <a:tblPr/>
              <a:tblGrid>
                <a:gridCol w="436680"/>
                <a:gridCol w="2465280"/>
                <a:gridCol w="976320"/>
                <a:gridCol w="1131840"/>
                <a:gridCol w="650880"/>
                <a:gridCol w="1015920"/>
                <a:gridCol w="1171800"/>
                <a:gridCol w="502920"/>
                <a:gridCol w="576360"/>
              </a:tblGrid>
              <a:tr h="8373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униципального образо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о-дившихся детей в марте 20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пред-ставленных к оплате тало-нов № 3-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ро-дившихся детей в сент. 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-во пред-ставленных к оплате тало-нов № 3-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-дни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008000">
                        <a:alpha val="50000"/>
                      </a:srgbClr>
                    </a:solidFill>
                  </a:tcPr>
                </a:tc>
              </a:tr>
              <a:tr h="228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О «Город Калининград»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428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гратион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8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Балтий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1998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вардей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рь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8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Гусе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Зеленоград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Краснознаме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ман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86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Нестеров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Озе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олес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равдинский райо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8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гор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36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а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Черняховский М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Ладушкин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184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мон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Пионер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5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04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ветлов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3220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оветски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ffcc"/>
                        </a:gs>
                        <a:gs pos="50000">
                          <a:srgbClr val="ffcc00"/>
                        </a:gs>
                        <a:gs pos="100000">
                          <a:srgbClr val="ffffcc"/>
                        </a:gs>
                      </a:gsLst>
                      <a:lin ang="5400000"/>
                    </a:gradFill>
                  </a:tcPr>
                </a:tc>
              </a:tr>
              <a:tr h="228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Янтарный 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ffffcc">
                        <a:alpha val="50000"/>
                      </a:srgbClr>
                    </a:solidFill>
                  </a:tcPr>
                </a:tc>
              </a:tr>
              <a:tr h="228960"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solidFill>
                      <a:srgbClr val="99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ИТО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5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1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7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6600"/>
                      </a:solidFill>
                    </a:lnL>
                    <a:lnR w="5760">
                      <a:solidFill>
                        <a:srgbClr val="006600"/>
                      </a:solidFill>
                    </a:lnR>
                    <a:lnT w="5760">
                      <a:solidFill>
                        <a:srgbClr val="006600"/>
                      </a:solidFill>
                    </a:lnT>
                    <a:lnB w="5760">
                      <a:solidFill>
                        <a:srgbClr val="006600"/>
                      </a:solidFill>
                    </a:lnB>
                    <a:gradFill rotWithShape="0">
                      <a:gsLst>
                        <a:gs pos="0">
                          <a:srgbClr val="ff9999"/>
                        </a:gs>
                        <a:gs pos="50000">
                          <a:srgbClr val="ffffcc"/>
                        </a:gs>
                        <a:gs pos="100000">
                          <a:srgbClr val="ff99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1280" y="39600"/>
            <a:ext cx="7967520" cy="580680"/>
          </a:xfrm>
          <a:prstGeom prst="rect">
            <a:avLst/>
          </a:prstGeom>
          <a:gradFill rotWithShape="0">
            <a:gsLst>
              <a:gs pos="0">
                <a:srgbClr val="40ac5a"/>
              </a:gs>
              <a:gs pos="50000">
                <a:srgbClr val="006600"/>
              </a:gs>
              <a:gs pos="100000">
                <a:srgbClr val="40ac5a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003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Анализ состояния диспансеризации детей первого года жизни в 2009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(дети, завершившие диспансеризацию к 6 мес. и 1 го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4"/>
          <p:cNvSpPr/>
          <p:nvPr/>
        </p:nvSpPr>
        <p:spPr>
          <a:xfrm>
            <a:off x="1000080" y="0"/>
            <a:ext cx="14288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9872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440" y="139680"/>
            <a:ext cx="8764560" cy="69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103f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981000"/>
            <a:ext cx="8064360" cy="825480"/>
          </a:xfrm>
          <a:prstGeom prst="rect">
            <a:avLst/>
          </a:prstGeom>
          <a:solidFill>
            <a:srgbClr val="ffcc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5823"/>
                </a:solidFill>
                <a:latin typeface="Arial"/>
              </a:rPr>
              <a:t>Диспансеризация детей-сирот и детей, находящихся в трудной жизненной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3500280"/>
            <a:ext cx="7848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5823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4149720"/>
            <a:ext cx="7561440" cy="1617480"/>
          </a:xfrm>
          <a:prstGeom prst="rect">
            <a:avLst/>
          </a:prstGeom>
          <a:solidFill>
            <a:srgbClr val="105823">
              <a:alpha val="79000"/>
            </a:srgbClr>
          </a:solidFill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Выполнение плана – </a:t>
            </a:r>
            <a:r>
              <a:rPr b="1" lang="en-US" sz="3600" spc="-1" strike="noStrike">
                <a:solidFill>
                  <a:srgbClr val="ffcc66"/>
                </a:solidFill>
                <a:latin typeface="Arial"/>
              </a:rPr>
              <a:t>91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83476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6308640"/>
            <a:ext cx="9144000" cy="260280"/>
            <a:chOff x="0" y="6308640"/>
            <a:chExt cx="9144000" cy="260280"/>
          </a:xfrm>
        </p:grpSpPr>
        <p:sp>
          <p:nvSpPr>
            <p:cNvPr id="150" name=""/>
            <p:cNvSpPr/>
            <p:nvPr/>
          </p:nvSpPr>
          <p:spPr>
            <a:xfrm>
              <a:off x="468360" y="6308640"/>
              <a:ext cx="574560" cy="260280"/>
            </a:xfrm>
            <a:prstGeom prst="rect">
              <a:avLst/>
            </a:prstGeom>
            <a:solidFill>
              <a:srgbClr val="ff99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6308640"/>
              <a:ext cx="503280" cy="260280"/>
            </a:xfrm>
            <a:prstGeom prst="rect">
              <a:avLst/>
            </a:prstGeom>
            <a:solidFill>
              <a:srgbClr val="008000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42920" y="6308640"/>
              <a:ext cx="8101080" cy="260280"/>
            </a:xfrm>
            <a:prstGeom prst="rect">
              <a:avLst/>
            </a:prstGeom>
            <a:solidFill>
              <a:srgbClr val="b2b2b2">
                <a:alpha val="9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79280" y="130320"/>
            <a:ext cx="865440" cy="6984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26920" y="2573280"/>
            <a:ext cx="7561440" cy="1130040"/>
          </a:xfrm>
          <a:prstGeom prst="rect">
            <a:avLst/>
          </a:prstGeom>
          <a:solidFill>
            <a:srgbClr val="105823">
              <a:alpha val="15000"/>
            </a:srgbClr>
          </a:solidFill>
          <a:ln w="76320">
            <a:solidFill>
              <a:srgbClr val="1058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5823"/>
                </a:solidFill>
                <a:latin typeface="Arial"/>
              </a:rPr>
              <a:t>На 7.10.2009 число подлежащих диспансеризации детей – </a:t>
            </a:r>
            <a:r>
              <a:rPr b="1" lang="en-US" sz="3600" spc="-1" strike="noStrike">
                <a:solidFill>
                  <a:srgbClr val="105823"/>
                </a:solidFill>
                <a:latin typeface="Arial"/>
              </a:rPr>
              <a:t>2426</a:t>
            </a:r>
            <a:r>
              <a:rPr b="1" lang="en-US" sz="3200" spc="-1" strike="noStrike">
                <a:solidFill>
                  <a:srgbClr val="105823"/>
                </a:solidFill>
                <a:latin typeface="Arial"/>
              </a:rPr>
              <a:t> че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12:32:48Z</dcterms:created>
  <dc:creator>Ivanowa</dc:creator>
  <dc:description/>
  <dc:language>en-US</dc:language>
  <cp:lastModifiedBy>Маскевич</cp:lastModifiedBy>
  <dcterms:modified xsi:type="dcterms:W3CDTF">2009-10-12T10:27:54Z</dcterms:modified>
  <cp:revision>1863</cp:revision>
  <dc:subject/>
  <dc:title>Слайд 1</dc:title>
</cp:coreProperties>
</file>