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wmf" ContentType="image/x-wmf"/>
  <Override PartName="/ppt/media/image4.png" ContentType="image/png"/>
  <Override PartName="/ppt/media/image11.wmf" ContentType="image/x-wmf"/>
  <Override PartName="/ppt/media/image3.png" ContentType="image/png"/>
  <Override PartName="/ppt/media/image17.jpeg" ContentType="image/jpeg"/>
  <Override PartName="/ppt/media/image7.png" ContentType="image/png"/>
  <Override PartName="/ppt/media/image21.png" ContentType="image/png"/>
  <Override PartName="/ppt/media/image19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18.jpeg" ContentType="image/jpeg"/>
  <Override PartName="/ppt/media/image16.wmf" ContentType="image/x-wmf"/>
  <Override PartName="/ppt/media/image20.png" ContentType="image/png"/>
  <Override PartName="/ppt/media/image15.gif" ContentType="image/gif"/>
  <Override PartName="/ppt/media/image1.png" ContentType="image/png"/>
  <Override PartName="/ppt/media/image2.png" ContentType="image/png"/>
  <Override PartName="/ppt/media/image9.jpeg" ContentType="image/jpeg"/>
  <Override PartName="/ppt/media/image6.png" ContentType="image/png"/>
  <Override PartName="/ppt/media/image1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43713" cy="9982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7346-57FA-4AFE-9D8D-03DFBE606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17F0-3287-4A05-B160-AF0086E75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B22F-6F3F-4E30-B840-5FDF37B14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3655-3305-4733-BFDB-94E298597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3D3B-1456-4F5F-B3F1-5E2E2781E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9957-DC4E-4AF4-A587-AF1F06006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F3A2-C2C3-494A-A2CA-F969E6AD2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7C08-EE26-481F-99CD-10DD259BB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C69E-37CC-40F5-AA71-2984EE686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1872-52EC-4FF9-A417-280AB47B9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43E2-B604-42B2-BAF6-9DB47398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4221-F92D-4880-B2B5-671CC4CC2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C1581-6051-41CD-ABB1-CCC5167308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14.wmf"/><Relationship Id="rId6" Type="http://schemas.openxmlformats.org/officeDocument/2006/relationships/image" Target="../media/image15.gi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3"/>
          <p:cNvSpPr/>
          <p:nvPr/>
        </p:nvSpPr>
        <p:spPr>
          <a:xfrm>
            <a:off x="0" y="1712880"/>
            <a:ext cx="9144000" cy="4286160"/>
          </a:xfrm>
          <a:prstGeom prst="rect">
            <a:avLst/>
          </a:prstGeom>
          <a:blipFill rotWithShape="0">
            <a:blip r:embed="rId1">
              <a:alphaModFix amt="85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Заголовок 1"/>
          <p:cNvSpPr/>
          <p:nvPr/>
        </p:nvSpPr>
        <p:spPr>
          <a:xfrm>
            <a:off x="2413080" y="2637000"/>
            <a:ext cx="611964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ahoma"/>
              </a:rPr>
              <a:t>Реализация приоритетного  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Tahoma"/>
              </a:rPr>
              <a:t>    национального проекта  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Tahoma"/>
              </a:rPr>
              <a:t>        «Здоровье»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Tahoma"/>
              </a:rPr>
              <a:t>    в Калининградской       области в 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20</a:t>
            </a:r>
            <a:r>
              <a:rPr b="1" lang="ru-RU" sz="30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0</a:t>
            </a:r>
            <a:r>
              <a:rPr b="1" lang="ru-RU" sz="3000" spc="-1" strike="noStrike">
                <a:solidFill>
                  <a:srgbClr val="ffffff"/>
                </a:solidFill>
                <a:latin typeface="Tahoma"/>
              </a:rPr>
              <a:t> год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4"/>
          <p:cNvSpPr/>
          <p:nvPr/>
        </p:nvSpPr>
        <p:spPr>
          <a:xfrm>
            <a:off x="6516720" y="5950080"/>
            <a:ext cx="1627200" cy="120600"/>
          </a:xfrm>
          <a:prstGeom prst="rect">
            <a:avLst/>
          </a:prstGeom>
          <a:solidFill>
            <a:srgbClr val="ffc000"/>
          </a:solidFill>
          <a:ln w="0">
            <a:noFill/>
          </a:ln>
          <a:effectLst>
            <a:outerShdw dist="17819" dir="2700000" blurRad="0" rotWithShape="0">
              <a:srgbClr val="9872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ая соединительная линия 9"/>
          <p:cNvSpPr/>
          <p:nvPr/>
        </p:nvSpPr>
        <p:spPr>
          <a:xfrm>
            <a:off x="539640" y="2925720"/>
            <a:ext cx="0" cy="1800360"/>
          </a:xfrm>
          <a:prstGeom prst="line">
            <a:avLst/>
          </a:prstGeom>
          <a:ln w="22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47640" y="5229360"/>
            <a:ext cx="626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24360" y="5224320"/>
            <a:ext cx="482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a4cac0"/>
                </a:solidFill>
                <a:latin typeface="Tahoma"/>
              </a:rPr>
              <a:t>Министр В.Е. Голи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2720" y="630864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11355"/>
                </a:solidFill>
                <a:latin typeface="Tahoma"/>
              </a:rPr>
              <a:t>22.10.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1"/>
          <p:cNvSpPr/>
          <p:nvPr/>
        </p:nvSpPr>
        <p:spPr>
          <a:xfrm>
            <a:off x="0" y="1712880"/>
            <a:ext cx="9144000" cy="285840"/>
          </a:xfrm>
          <a:prstGeom prst="rect">
            <a:avLst/>
          </a:prstGeom>
          <a:blipFill rotWithShape="0">
            <a:blip r:embed="rId2">
              <a:alphaModFix amt="8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24000" y="1282680"/>
            <a:ext cx="608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Tahoma"/>
              </a:rPr>
              <a:t>МИНИСТЕРСТВО  ЗДРАВООХРАНЕНИЯ  КАЛИНИНГРАДСКОЙ  ОБ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Чаша со змеей (эмблема)"/>
          <p:cNvPicPr/>
          <p:nvPr/>
        </p:nvPicPr>
        <p:blipFill>
          <a:blip r:embed="rId3"/>
          <a:srcRect l="3149" t="2142" r="0" b="1058"/>
          <a:stretch/>
        </p:blipFill>
        <p:spPr>
          <a:xfrm>
            <a:off x="468360" y="982800"/>
            <a:ext cx="574560" cy="574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466560" y="2741760"/>
            <a:ext cx="2305080" cy="219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3" presetSubtype="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867780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9640" y="1989000"/>
            <a:ext cx="8064720" cy="3567240"/>
          </a:xfrm>
          <a:prstGeom prst="rect">
            <a:avLst/>
          </a:prstGeom>
          <a:solidFill>
            <a:srgbClr val="df9dbe">
              <a:alpha val="86000"/>
            </a:srgbClr>
          </a:solidFill>
          <a:ln w="0">
            <a:noFill/>
          </a:ln>
          <a:effectLst>
            <a:outerShdw dist="17819" dir="2700000" blurRad="0" rotWithShape="0">
              <a:srgbClr val="855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cc66"/>
                </a:solidFill>
                <a:latin typeface="Arial"/>
              </a:rPr>
              <a:t>ПОДЛЕЖАТ ПРОТИВОВИРУСНОЙ ТЕРАПИИ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 1033 ВИЧ-ИНФИЦИРОВАННЫХ, ПОЛУЧАЮТ ЛЕЧЕНИЕ 919 (89,0 %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cc66"/>
                </a:solidFill>
                <a:latin typeface="Arial"/>
              </a:rPr>
              <a:t>НИЖЕ СРЕДНЕОБЛАСТНОГО ПОКАЗАТЕЛЯ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 ОХВАТ ЛЕЧЕНИЕМ В г. Калининграде (87,5 %), Озерском (60 %), Полесском (77,8 %), Светлогорском (80,0 %), Черняховском (85,3 %), Пионерском (83,3 %), Неманском (84,6 %) муниципальных образованиях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В системе УФСИН лечение получает 141 ВИЧ-инфицированный пациент (99,3 % от подлежащих)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0" y="6308640"/>
            <a:ext cx="9144000" cy="260280"/>
            <a:chOff x="0" y="6308640"/>
            <a:chExt cx="9144000" cy="260280"/>
          </a:xfrm>
        </p:grpSpPr>
        <p:sp>
          <p:nvSpPr>
            <p:cNvPr id="139" name=""/>
            <p:cNvSpPr/>
            <p:nvPr/>
          </p:nvSpPr>
          <p:spPr>
            <a:xfrm>
              <a:off x="468360" y="6308640"/>
              <a:ext cx="574560" cy="260280"/>
            </a:xfrm>
            <a:prstGeom prst="rect">
              <a:avLst/>
            </a:prstGeom>
            <a:solidFill>
              <a:srgbClr val="ab7d98">
                <a:alpha val="8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0" y="6308640"/>
              <a:ext cx="503280" cy="260280"/>
            </a:xfrm>
            <a:prstGeom prst="rect">
              <a:avLst/>
            </a:prstGeom>
            <a:solidFill>
              <a:srgbClr val="008080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042920" y="6308640"/>
              <a:ext cx="8101080" cy="260280"/>
            </a:xfrm>
            <a:prstGeom prst="rect">
              <a:avLst/>
            </a:prstGeom>
            <a:solidFill>
              <a:srgbClr val="dddddd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252360" y="155520"/>
            <a:ext cx="8640720" cy="88596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006666"/>
              </a:gs>
              <a:gs pos="100000">
                <a:srgbClr val="009999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003c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cc00"/>
                </a:solidFill>
                <a:latin typeface="Arial"/>
              </a:rPr>
              <a:t>Количество ВИЧ-инфицированных,         подлежащих лечению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867780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1773360"/>
            <a:ext cx="8064720" cy="3750120"/>
          </a:xfrm>
          <a:prstGeom prst="rect">
            <a:avLst/>
          </a:prstGeom>
          <a:solidFill>
            <a:srgbClr val="df9dbe">
              <a:alpha val="86000"/>
            </a:srgbClr>
          </a:solidFill>
          <a:ln w="0">
            <a:noFill/>
          </a:ln>
          <a:effectLst>
            <a:outerShdw dist="17819" dir="2700000" blurRad="0" rotWithShape="0">
              <a:srgbClr val="855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cc66"/>
                </a:solidFill>
                <a:latin typeface="Arial"/>
              </a:rPr>
              <a:t>ОБСЛЕДОВАНО НА ВИЧ, ГЕПАТИТЫ В и С                                     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ЗА ИСТЕКШИЙ ПЕРИОД 2010 ГОДА                                                 </a:t>
            </a:r>
            <a:r>
              <a:rPr b="1" lang="en-US" sz="2500" spc="-1" strike="noStrike">
                <a:solidFill>
                  <a:srgbClr val="ffd685"/>
                </a:solidFill>
                <a:latin typeface="Arial"/>
              </a:rPr>
              <a:t>109519</a:t>
            </a:r>
            <a:r>
              <a:rPr b="1" lang="en-US" sz="1900" spc="-1" strike="noStrike">
                <a:solidFill>
                  <a:srgbClr val="ffd685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ЧЕЛОВЕК                                                                                   (78 %</a:t>
            </a:r>
            <a:r>
              <a:rPr b="1" lang="en-US" sz="19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ОТ ПЛАНОВОЙ ГОДОВОЙ ЧИСЛЕННОСТИ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ФИНАНСИРОВАНИЕ НА ЭТИ ЦЕЛИ ИЗ ФЕДЕРАЛЬНОГО БЮДЖЕТА СОСТАВИЛО </a:t>
            </a:r>
            <a:r>
              <a:rPr b="1" lang="en-US" sz="2500" spc="-1" strike="noStrike">
                <a:solidFill>
                  <a:srgbClr val="ffd685"/>
                </a:solidFill>
                <a:latin typeface="Arial"/>
              </a:rPr>
              <a:t>31945,9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 тыс.руб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0" y="6308640"/>
            <a:ext cx="9144000" cy="260280"/>
            <a:chOff x="0" y="6308640"/>
            <a:chExt cx="9144000" cy="260280"/>
          </a:xfrm>
        </p:grpSpPr>
        <p:sp>
          <p:nvSpPr>
            <p:cNvPr id="146" name=""/>
            <p:cNvSpPr/>
            <p:nvPr/>
          </p:nvSpPr>
          <p:spPr>
            <a:xfrm>
              <a:off x="468360" y="6308640"/>
              <a:ext cx="574560" cy="260280"/>
            </a:xfrm>
            <a:prstGeom prst="rect">
              <a:avLst/>
            </a:prstGeom>
            <a:solidFill>
              <a:srgbClr val="ab7d98">
                <a:alpha val="8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0" y="6308640"/>
              <a:ext cx="503280" cy="260280"/>
            </a:xfrm>
            <a:prstGeom prst="rect">
              <a:avLst/>
            </a:prstGeom>
            <a:solidFill>
              <a:srgbClr val="008080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42920" y="6308640"/>
              <a:ext cx="8101080" cy="260280"/>
            </a:xfrm>
            <a:prstGeom prst="rect">
              <a:avLst/>
            </a:prstGeom>
            <a:solidFill>
              <a:srgbClr val="dddddd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52360" y="155520"/>
            <a:ext cx="8640720" cy="48996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006666"/>
              </a:gs>
              <a:gs pos="100000">
                <a:srgbClr val="009999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003c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cc00"/>
                </a:solidFill>
                <a:latin typeface="Arial"/>
              </a:rPr>
              <a:t>Выявление ВИЧ-инфекции, гепатитов В и 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867780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9640" y="1557360"/>
            <a:ext cx="8064720" cy="4146120"/>
          </a:xfrm>
          <a:prstGeom prst="rect">
            <a:avLst/>
          </a:prstGeom>
          <a:solidFill>
            <a:srgbClr val="df9dbe">
              <a:alpha val="86000"/>
            </a:srgbClr>
          </a:solidFill>
          <a:ln w="0">
            <a:noFill/>
          </a:ln>
          <a:effectLst>
            <a:outerShdw dist="17819" dir="2700000" blurRad="0" rotWithShape="0">
              <a:srgbClr val="855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Из 1598 человек, нуждающихся в лечении туберкулеза, специфической терапией </a:t>
            </a:r>
            <a:r>
              <a:rPr b="1" lang="ru-RU" sz="1900" spc="-1" strike="noStrike">
                <a:solidFill>
                  <a:srgbClr val="ffcc66"/>
                </a:solidFill>
                <a:latin typeface="Arial"/>
              </a:rPr>
              <a:t>охвачено 1349 пациентов (84,4 %)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В 2009 году на этот период из 1736 больных туберкулезом, нуждающихся в лечении, получали его 1444 человека (83,2 %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cc66"/>
                </a:solidFill>
                <a:latin typeface="Arial"/>
              </a:rPr>
              <a:t>НИЖЕ СРЕДНЕОБЛАСТНОГО ПОКАЗАТЕЛЯ 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ОХВАТ ЛЕЧЕНИЕМ БОЛЬНЫХ ТУБЕРКУЛЕЗОМ В Балтийском (81,8 %), Гвардейском (88,0 %), Краснознаменском (82 %), Неманском (81,8 %), Озерском (88,1 %), Правдинском (80,6 %), Славском (86,4 %), Мамоновском (88,5 %), Пионерском (85,7 %), Советском (90,6 %), Янтарном (75,0 %) муниципальных образованиях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0" y="6308640"/>
            <a:ext cx="9144000" cy="260280"/>
            <a:chOff x="0" y="6308640"/>
            <a:chExt cx="9144000" cy="260280"/>
          </a:xfrm>
        </p:grpSpPr>
        <p:sp>
          <p:nvSpPr>
            <p:cNvPr id="153" name=""/>
            <p:cNvSpPr/>
            <p:nvPr/>
          </p:nvSpPr>
          <p:spPr>
            <a:xfrm>
              <a:off x="468360" y="6308640"/>
              <a:ext cx="574560" cy="260280"/>
            </a:xfrm>
            <a:prstGeom prst="rect">
              <a:avLst/>
            </a:prstGeom>
            <a:solidFill>
              <a:srgbClr val="ab7d98">
                <a:alpha val="8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0" y="6308640"/>
              <a:ext cx="503280" cy="260280"/>
            </a:xfrm>
            <a:prstGeom prst="rect">
              <a:avLst/>
            </a:prstGeom>
            <a:solidFill>
              <a:srgbClr val="008080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042920" y="6308640"/>
              <a:ext cx="8101080" cy="260280"/>
            </a:xfrm>
            <a:prstGeom prst="rect">
              <a:avLst/>
            </a:prstGeom>
            <a:solidFill>
              <a:srgbClr val="dddddd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52360" y="155520"/>
            <a:ext cx="8640720" cy="48996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006666"/>
              </a:gs>
              <a:gs pos="100000">
                <a:srgbClr val="009999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003c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cc00"/>
                </a:solidFill>
                <a:latin typeface="Arial"/>
              </a:rPr>
              <a:t>ЛЕЧЕНИЕ БОЛЬНЫХ ТУБЕРКУЛЕЗО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867312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9640" y="1916280"/>
            <a:ext cx="8064720" cy="3460680"/>
          </a:xfrm>
          <a:prstGeom prst="rect">
            <a:avLst/>
          </a:prstGeom>
          <a:solidFill>
            <a:srgbClr val="df9dbe">
              <a:alpha val="86000"/>
            </a:srgbClr>
          </a:solidFill>
          <a:ln w="0">
            <a:noFill/>
          </a:ln>
          <a:effectLst>
            <a:outerShdw dist="17819" dir="2700000" blurRad="0" rotWithShape="0">
              <a:srgbClr val="855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cc66"/>
                </a:solidFill>
                <a:latin typeface="Arial"/>
              </a:rPr>
              <a:t>В текущем году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 нуждались в лечении </a:t>
            </a:r>
            <a:r>
              <a:rPr b="1" lang="en-US" sz="2500" spc="-1" strike="noStrike">
                <a:solidFill>
                  <a:srgbClr val="ffd685"/>
                </a:solidFill>
                <a:latin typeface="Arial"/>
              </a:rPr>
              <a:t>234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 лиц БОМЖ, из них    на лечении в областном противотуберкулезном диспансере находилось </a:t>
            </a:r>
            <a:r>
              <a:rPr b="1" lang="en-US" sz="2500" spc="-1" strike="noStrike">
                <a:solidFill>
                  <a:srgbClr val="ffd685"/>
                </a:solidFill>
                <a:latin typeface="Arial"/>
              </a:rPr>
              <a:t>108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 человек (46,2 % от подлежащих)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В 2009 году на этот период нуждались в лечении 244 БОМЖ,     из них 110 (45,1 %) находились на лечени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0" y="6308640"/>
            <a:ext cx="9144000" cy="260280"/>
            <a:chOff x="0" y="6308640"/>
            <a:chExt cx="9144000" cy="260280"/>
          </a:xfrm>
        </p:grpSpPr>
        <p:sp>
          <p:nvSpPr>
            <p:cNvPr id="160" name=""/>
            <p:cNvSpPr/>
            <p:nvPr/>
          </p:nvSpPr>
          <p:spPr>
            <a:xfrm>
              <a:off x="468360" y="6308640"/>
              <a:ext cx="574560" cy="260280"/>
            </a:xfrm>
            <a:prstGeom prst="rect">
              <a:avLst/>
            </a:prstGeom>
            <a:solidFill>
              <a:srgbClr val="ab7d98">
                <a:alpha val="8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0" y="6308640"/>
              <a:ext cx="503280" cy="260280"/>
            </a:xfrm>
            <a:prstGeom prst="rect">
              <a:avLst/>
            </a:prstGeom>
            <a:solidFill>
              <a:srgbClr val="008080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42920" y="6308640"/>
              <a:ext cx="8101080" cy="260280"/>
            </a:xfrm>
            <a:prstGeom prst="rect">
              <a:avLst/>
            </a:prstGeom>
            <a:solidFill>
              <a:srgbClr val="dddddd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252360" y="155520"/>
            <a:ext cx="8640720" cy="48996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006666"/>
              </a:gs>
              <a:gs pos="100000">
                <a:srgbClr val="009999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003c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cc00"/>
                </a:solidFill>
                <a:latin typeface="Arial"/>
              </a:rPr>
              <a:t>Лечение лиц БОМЖ от туберкулез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867780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9640" y="1700280"/>
            <a:ext cx="8064720" cy="3856680"/>
          </a:xfrm>
          <a:prstGeom prst="rect">
            <a:avLst/>
          </a:prstGeom>
          <a:solidFill>
            <a:srgbClr val="df9dbe">
              <a:alpha val="86000"/>
            </a:srgbClr>
          </a:solidFill>
          <a:ln w="0">
            <a:noFill/>
          </a:ln>
          <a:effectLst>
            <a:outerShdw dist="17819" dir="2700000" blurRad="0" rotWithShape="0">
              <a:srgbClr val="855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В 2010 году зарегистрированы </a:t>
            </a:r>
            <a:r>
              <a:rPr b="1" lang="ru-RU" sz="1900" spc="-1" strike="noStrike">
                <a:solidFill>
                  <a:srgbClr val="ffcc66"/>
                </a:solidFill>
                <a:latin typeface="Arial"/>
              </a:rPr>
              <a:t>отрывы от лечения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 в городе Калининграде и Гурьевском районе по два случая, в Багратионовском, Озерском, Краснознаменском, Черняховском и Ладушкинском муниципальных образованиях по 1 случаю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Всего отрывов – 17, в т.ч. 9 в муниципальных образованиях       и 8 среди БОМЖ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В 2009 году имели место 20 случаев </a:t>
            </a:r>
            <a:r>
              <a:rPr b="1" lang="ru-RU" sz="1900" spc="-1" strike="noStrike">
                <a:solidFill>
                  <a:srgbClr val="ffcc66"/>
                </a:solidFill>
                <a:latin typeface="Arial"/>
              </a:rPr>
              <a:t>отрывов от лечения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 за этот период, в т.ч. 9 (0,7 %) - в муниципальных образованиях              и 11 - среди лиц БОМЖ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0" y="6308640"/>
            <a:ext cx="9144000" cy="260280"/>
            <a:chOff x="0" y="6308640"/>
            <a:chExt cx="9144000" cy="260280"/>
          </a:xfrm>
        </p:grpSpPr>
        <p:sp>
          <p:nvSpPr>
            <p:cNvPr id="167" name=""/>
            <p:cNvSpPr/>
            <p:nvPr/>
          </p:nvSpPr>
          <p:spPr>
            <a:xfrm>
              <a:off x="468360" y="6308640"/>
              <a:ext cx="574560" cy="260280"/>
            </a:xfrm>
            <a:prstGeom prst="rect">
              <a:avLst/>
            </a:prstGeom>
            <a:solidFill>
              <a:srgbClr val="ab7d98">
                <a:alpha val="8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6308640"/>
              <a:ext cx="503280" cy="260280"/>
            </a:xfrm>
            <a:prstGeom prst="rect">
              <a:avLst/>
            </a:prstGeom>
            <a:solidFill>
              <a:srgbClr val="008080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042920" y="6308640"/>
              <a:ext cx="8101080" cy="260280"/>
            </a:xfrm>
            <a:prstGeom prst="rect">
              <a:avLst/>
            </a:prstGeom>
            <a:solidFill>
              <a:srgbClr val="dddddd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252360" y="155520"/>
            <a:ext cx="8640720" cy="48996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006666"/>
              </a:gs>
              <a:gs pos="100000">
                <a:srgbClr val="009999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003c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cc00"/>
                </a:solidFill>
                <a:latin typeface="Arial"/>
              </a:rPr>
              <a:t>Отрывы от лечения туберкулез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71280" y="549360"/>
          <a:ext cx="9036360" cy="6257880"/>
        </p:xfrm>
        <a:graphic>
          <a:graphicData uri="http://schemas.openxmlformats.org/drawingml/2006/table">
            <a:tbl>
              <a:tblPr/>
              <a:tblGrid>
                <a:gridCol w="422280"/>
                <a:gridCol w="2349720"/>
                <a:gridCol w="1224000"/>
                <a:gridCol w="1441440"/>
                <a:gridCol w="1150920"/>
                <a:gridCol w="1297080"/>
                <a:gridCol w="1150920"/>
              </a:tblGrid>
              <a:tr h="7365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униципального образ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лежат диспансериза-ции в 2010 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шли диспансеризацию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2010 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полнен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исло выдан-ных паспортов здоровь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выданных паспортов здоровь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</a:tr>
              <a:tr h="2714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ГО «Город Калининград»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5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51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8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9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83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Багратионовский МР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f69eb3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f69eb3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f69eb3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3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f69eb3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47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Балтийский МР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5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50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Гвардейский район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51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50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Гурьевский МР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2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79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Гусевский МР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f69eb3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f69eb3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f69eb3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4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f69eb3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588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Зеленоградский район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0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65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Краснознаменский МР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2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50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Неманский МР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65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Нестеровский район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6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134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Озерский МР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65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Полесский МР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f69eb3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f69eb3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f69eb3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5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f69eb3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3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Правдинский район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57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649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Светлогорский МР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8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50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Славский МР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f69eb3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f69eb3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f69eb3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9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f69eb3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700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Черняховский МР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8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47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Ладушкинский 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8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83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Мамоновский 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f69eb3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f69eb3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f69eb3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2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f69eb3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3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Пионерский 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1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d9b38d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65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Светловский 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7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50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Советский 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9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65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Янтарный 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5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40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ИТОГО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gradFill rotWithShape="0">
                      <a:gsLst>
                        <a:gs pos="0">
                          <a:srgbClr val="ffafff"/>
                        </a:gs>
                        <a:gs pos="50000">
                          <a:srgbClr val="f4e7e7"/>
                        </a:gs>
                        <a:gs pos="100000">
                          <a:srgbClr val="ffa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5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gradFill rotWithShape="0">
                      <a:gsLst>
                        <a:gs pos="0">
                          <a:srgbClr val="ffafff"/>
                        </a:gs>
                        <a:gs pos="50000">
                          <a:srgbClr val="f4e7e7"/>
                        </a:gs>
                        <a:gs pos="100000">
                          <a:srgbClr val="ffa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24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gradFill rotWithShape="0">
                      <a:gsLst>
                        <a:gs pos="0">
                          <a:srgbClr val="ffafff"/>
                        </a:gs>
                        <a:gs pos="50000">
                          <a:srgbClr val="f4e7e7"/>
                        </a:gs>
                        <a:gs pos="100000">
                          <a:srgbClr val="ffa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gradFill rotWithShape="0">
                      <a:gsLst>
                        <a:gs pos="0">
                          <a:srgbClr val="ffafff"/>
                        </a:gs>
                        <a:gs pos="50000">
                          <a:srgbClr val="f4e7e7"/>
                        </a:gs>
                        <a:gs pos="100000">
                          <a:srgbClr val="ffa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17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gradFill rotWithShape="0">
                      <a:gsLst>
                        <a:gs pos="0">
                          <a:srgbClr val="ffafff"/>
                        </a:gs>
                        <a:gs pos="50000">
                          <a:srgbClr val="f4e7e7"/>
                        </a:gs>
                        <a:gs pos="100000">
                          <a:srgbClr val="ffa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11355"/>
                      </a:solidFill>
                    </a:lnL>
                    <a:lnR w="5760">
                      <a:solidFill>
                        <a:srgbClr val="411355"/>
                      </a:solidFill>
                    </a:lnR>
                    <a:lnT w="5760">
                      <a:solidFill>
                        <a:srgbClr val="411355"/>
                      </a:solidFill>
                    </a:lnT>
                    <a:lnB w="5760">
                      <a:solidFill>
                        <a:srgbClr val="411355"/>
                      </a:solidFill>
                    </a:lnB>
                    <a:gradFill rotWithShape="0">
                      <a:gsLst>
                        <a:gs pos="0">
                          <a:srgbClr val="ffafff"/>
                        </a:gs>
                        <a:gs pos="50000">
                          <a:srgbClr val="f4e7e7"/>
                        </a:gs>
                        <a:gs pos="100000">
                          <a:srgbClr val="ffaf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72" name=""/>
          <p:cNvSpPr/>
          <p:nvPr/>
        </p:nvSpPr>
        <p:spPr>
          <a:xfrm>
            <a:off x="142920" y="122400"/>
            <a:ext cx="8893080" cy="38340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006666"/>
              </a:gs>
              <a:gs pos="100000">
                <a:srgbClr val="009999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003c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cc00"/>
                </a:solidFill>
                <a:latin typeface="Arial"/>
              </a:rPr>
              <a:t>Дополнительная диспансеризация работающих граждан в 2010 году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67780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867780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2133720"/>
            <a:ext cx="7200720" cy="3934440"/>
          </a:xfrm>
          <a:prstGeom prst="rect">
            <a:avLst/>
          </a:prstGeom>
          <a:solidFill>
            <a:srgbClr val="df9dbe">
              <a:alpha val="86000"/>
            </a:srgbClr>
          </a:solidFill>
          <a:ln w="0">
            <a:noFill/>
          </a:ln>
          <a:effectLst>
            <a:outerShdw dist="17819" dir="2700000" blurRad="0" rotWithShape="0">
              <a:srgbClr val="855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cc66"/>
                </a:solidFill>
                <a:latin typeface="Arial"/>
              </a:rPr>
              <a:t>Наиболее интенсивно</a:t>
            </a: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 диспансеризация проводилась в Славском, Мамоновском, Багратионовском, Полесском, Гусевском муниципальных образованиях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cc66"/>
                </a:solidFill>
                <a:latin typeface="Arial"/>
              </a:rPr>
              <a:t>Остается недостаточной активность работы </a:t>
            </a: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 по диспансеризации работающих в Гурьевском, Светлогорском, Озерском, Пионерском муниципальных образованиях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0" y="6308640"/>
            <a:ext cx="9144000" cy="260280"/>
            <a:chOff x="0" y="6308640"/>
            <a:chExt cx="9144000" cy="260280"/>
          </a:xfrm>
        </p:grpSpPr>
        <p:sp>
          <p:nvSpPr>
            <p:cNvPr id="177" name=""/>
            <p:cNvSpPr/>
            <p:nvPr/>
          </p:nvSpPr>
          <p:spPr>
            <a:xfrm>
              <a:off x="468360" y="6308640"/>
              <a:ext cx="574560" cy="260280"/>
            </a:xfrm>
            <a:prstGeom prst="rect">
              <a:avLst/>
            </a:prstGeom>
            <a:solidFill>
              <a:srgbClr val="ab7d98">
                <a:alpha val="8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0" y="6308640"/>
              <a:ext cx="503280" cy="260280"/>
            </a:xfrm>
            <a:prstGeom prst="rect">
              <a:avLst/>
            </a:prstGeom>
            <a:solidFill>
              <a:srgbClr val="008080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042920" y="6308640"/>
              <a:ext cx="8101080" cy="260280"/>
            </a:xfrm>
            <a:prstGeom prst="rect">
              <a:avLst/>
            </a:prstGeom>
            <a:solidFill>
              <a:srgbClr val="dddddd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142920" y="168120"/>
            <a:ext cx="8893080" cy="73404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006666"/>
              </a:gs>
              <a:gs pos="100000">
                <a:srgbClr val="009999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003c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cc00"/>
                </a:solidFill>
                <a:latin typeface="Arial"/>
              </a:rPr>
              <a:t>Дополнительная диспансеризация                                      работающих граждан в 2010 году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6465960" y="981000"/>
            <a:ext cx="2570040" cy="26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867780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0" y="6308640"/>
            <a:ext cx="9144000" cy="260280"/>
            <a:chOff x="0" y="6308640"/>
            <a:chExt cx="9144000" cy="260280"/>
          </a:xfrm>
        </p:grpSpPr>
        <p:sp>
          <p:nvSpPr>
            <p:cNvPr id="184" name=""/>
            <p:cNvSpPr/>
            <p:nvPr/>
          </p:nvSpPr>
          <p:spPr>
            <a:xfrm>
              <a:off x="468360" y="6308640"/>
              <a:ext cx="574560" cy="260280"/>
            </a:xfrm>
            <a:prstGeom prst="rect">
              <a:avLst/>
            </a:prstGeom>
            <a:solidFill>
              <a:srgbClr val="ab7d98">
                <a:alpha val="8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0" y="6308640"/>
              <a:ext cx="503280" cy="260280"/>
            </a:xfrm>
            <a:prstGeom prst="rect">
              <a:avLst/>
            </a:prstGeom>
            <a:solidFill>
              <a:srgbClr val="008080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042920" y="6308640"/>
              <a:ext cx="8101080" cy="260280"/>
            </a:xfrm>
            <a:prstGeom prst="rect">
              <a:avLst/>
            </a:prstGeom>
            <a:solidFill>
              <a:srgbClr val="dddddd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142920" y="168120"/>
            <a:ext cx="8893080" cy="70344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006666"/>
              </a:gs>
              <a:gs pos="100000">
                <a:srgbClr val="009999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003c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cc00"/>
                </a:solidFill>
                <a:latin typeface="Arial"/>
              </a:rPr>
              <a:t>Структура групп здоровья работающих граждан                          </a:t>
            </a:r>
            <a:r>
              <a:rPr b="1" lang="en-US" sz="1900" spc="-1" strike="noStrike">
                <a:solidFill>
                  <a:srgbClr val="ffcc00"/>
                </a:solidFill>
                <a:latin typeface="Arial"/>
              </a:rPr>
              <a:t>(по результатам диспансеризации за 9 месяцев 2010 г.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227640" y="1628640"/>
            <a:ext cx="1944720" cy="6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Arial"/>
              </a:rPr>
              <a:t>V</a:t>
            </a:r>
            <a:r>
              <a:rPr b="1" lang="ru-RU" sz="1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6666"/>
                </a:solidFill>
                <a:latin typeface="Arial"/>
              </a:rPr>
              <a:t>групп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66"/>
                </a:solidFill>
                <a:latin typeface="Arial"/>
              </a:rPr>
              <a:t>(нуждаются в ВМП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68360" y="1628640"/>
            <a:ext cx="2158920" cy="9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Arial"/>
              </a:rPr>
              <a:t>IV</a:t>
            </a:r>
            <a:r>
              <a:rPr b="1" lang="ru-RU" sz="1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6666"/>
                </a:solidFill>
                <a:latin typeface="Arial"/>
              </a:rPr>
              <a:t>групп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66"/>
                </a:solidFill>
                <a:latin typeface="Arial"/>
              </a:rPr>
              <a:t>(нуждаются в обследовании и стационарном лечен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804000" y="5229360"/>
            <a:ext cx="1440000" cy="7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Arial"/>
              </a:rPr>
              <a:t>II</a:t>
            </a:r>
            <a:r>
              <a:rPr b="1" lang="ru-RU" sz="1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6666"/>
                </a:solidFill>
                <a:latin typeface="Arial"/>
              </a:rPr>
              <a:t>групп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66"/>
                </a:solidFill>
                <a:latin typeface="Arial"/>
              </a:rPr>
              <a:t>(риск развития заболеван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020000" y="3394080"/>
            <a:ext cx="1297080" cy="7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Arial"/>
              </a:rPr>
              <a:t>I </a:t>
            </a:r>
            <a:r>
              <a:rPr b="1" lang="ru-RU" sz="1600" spc="-1" strike="noStrike">
                <a:solidFill>
                  <a:srgbClr val="006666"/>
                </a:solidFill>
                <a:latin typeface="Arial"/>
              </a:rPr>
              <a:t>групп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66"/>
                </a:solidFill>
                <a:latin typeface="Arial"/>
              </a:rPr>
              <a:t>(практически здоровы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08000" y="4365720"/>
            <a:ext cx="2232000" cy="9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Arial"/>
              </a:rPr>
              <a:t>III</a:t>
            </a:r>
            <a:r>
              <a:rPr b="1" lang="ru-RU" sz="1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6666"/>
                </a:solidFill>
                <a:latin typeface="Arial"/>
              </a:rPr>
              <a:t>групп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66"/>
                </a:solidFill>
                <a:latin typeface="Arial"/>
              </a:rPr>
              <a:t>(нуждаются в обследовании, амбулаторном лечен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116000" y="1917720"/>
          <a:ext cx="7682040" cy="467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917720"/>
                    <a:ext cx="7682040" cy="46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867780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0" y="6308640"/>
            <a:ext cx="9144000" cy="260280"/>
            <a:chOff x="0" y="6308640"/>
            <a:chExt cx="9144000" cy="260280"/>
          </a:xfrm>
        </p:grpSpPr>
        <p:sp>
          <p:nvSpPr>
            <p:cNvPr id="197" name=""/>
            <p:cNvSpPr/>
            <p:nvPr/>
          </p:nvSpPr>
          <p:spPr>
            <a:xfrm>
              <a:off x="468360" y="6308640"/>
              <a:ext cx="574560" cy="260280"/>
            </a:xfrm>
            <a:prstGeom prst="rect">
              <a:avLst/>
            </a:prstGeom>
            <a:solidFill>
              <a:srgbClr val="ab7d98">
                <a:alpha val="8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0" y="6308640"/>
              <a:ext cx="503280" cy="260280"/>
            </a:xfrm>
            <a:prstGeom prst="rect">
              <a:avLst/>
            </a:prstGeom>
            <a:solidFill>
              <a:srgbClr val="008080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042920" y="6308640"/>
              <a:ext cx="8101080" cy="260280"/>
            </a:xfrm>
            <a:prstGeom prst="rect">
              <a:avLst/>
            </a:prstGeom>
            <a:solidFill>
              <a:srgbClr val="dddddd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142920" y="168120"/>
            <a:ext cx="8893080" cy="73404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006666"/>
              </a:gs>
              <a:gs pos="100000">
                <a:srgbClr val="009999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003c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cc00"/>
                </a:solidFill>
                <a:latin typeface="Arial"/>
              </a:rPr>
              <a:t>Основные группы  патологии, выявленные при диспансеризации работающих граждан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31760" y="907920"/>
          <a:ext cx="8761320" cy="544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1760" y="907920"/>
                    <a:ext cx="8761320" cy="544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1258920" y="2577960"/>
            <a:ext cx="7634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тклонения от нормы, выявленные при проведении функциональных исследований сердечно-сосудистой систем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258920" y="1181160"/>
            <a:ext cx="76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болезни, характеризующиеся повышенным кровяным давлени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258920" y="2060640"/>
            <a:ext cx="7634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тклонения от нормы, выявленные при получении диагностического  изображения в ходе исследования молочной желез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258920" y="3716280"/>
            <a:ext cx="29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шемическая болезнь сердц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258920" y="1684440"/>
            <a:ext cx="76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нарушения обмена вещест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258920" y="422100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жире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258920" y="472428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анем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258920" y="522936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ахарный диаб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258920" y="5661000"/>
            <a:ext cx="7634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тклонения от нормы, выявленные при получении диагностического  изображения в ходе исследования легки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258920" y="3213000"/>
            <a:ext cx="39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овышение содержания глюкозы в кров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  <a:effectLst>
            <a:outerShdw dist="17819" dir="2700000" blurRad="0" rotWithShape="0">
              <a:srgbClr val="9872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50920" y="1135080"/>
            <a:ext cx="8642160" cy="551160"/>
          </a:xfrm>
          <a:prstGeom prst="rect">
            <a:avLst/>
          </a:prstGeom>
          <a:solidFill>
            <a:srgbClr val="411355">
              <a:alpha val="53000"/>
            </a:srgbClr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рограмма «Родовые сертификаты»  в 2010 г. – 79,451 млн.руб.</a:t>
            </a:r>
            <a:br>
              <a:rPr sz="1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050920" y="2060640"/>
            <a:ext cx="2952720" cy="764280"/>
          </a:xfrm>
          <a:prstGeom prst="rect">
            <a:avLst/>
          </a:prstGeom>
          <a:solidFill>
            <a:srgbClr val="ffddff"/>
          </a:solidFill>
          <a:ln w="0">
            <a:noFill/>
          </a:ln>
          <a:effectLst>
            <a:outerShdw dist="17819" dir="2700000" blurRad="0" rotWithShape="0">
              <a:srgbClr val="9884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Женские консультации 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435640" y="2205000"/>
            <a:ext cx="2952720" cy="398880"/>
          </a:xfrm>
          <a:prstGeom prst="rect">
            <a:avLst/>
          </a:prstGeom>
          <a:solidFill>
            <a:srgbClr val="ffddff"/>
          </a:solidFill>
          <a:ln w="0">
            <a:noFill/>
          </a:ln>
          <a:effectLst>
            <a:outerShdw dist="17819" dir="2700000" blurRad="0" rotWithShape="0">
              <a:srgbClr val="9884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66"/>
                </a:solidFill>
                <a:latin typeface="Arial"/>
              </a:rPr>
              <a:t>21,201 млн.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050920" y="3684600"/>
            <a:ext cx="2952720" cy="764280"/>
          </a:xfrm>
          <a:prstGeom prst="rect">
            <a:avLst/>
          </a:prstGeom>
          <a:solidFill>
            <a:srgbClr val="ffddff"/>
          </a:solidFill>
          <a:ln w="0">
            <a:noFill/>
          </a:ln>
          <a:effectLst>
            <a:outerShdw dist="17819" dir="2700000" blurRad="0" rotWithShape="0">
              <a:srgbClr val="9884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Родильные      дома и отделения 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050920" y="5227560"/>
            <a:ext cx="2952720" cy="764280"/>
          </a:xfrm>
          <a:prstGeom prst="rect">
            <a:avLst/>
          </a:prstGeom>
          <a:solidFill>
            <a:srgbClr val="ffddff"/>
          </a:solidFill>
          <a:ln w="0">
            <a:noFill/>
          </a:ln>
          <a:effectLst>
            <a:outerShdw dist="17819" dir="2700000" blurRad="0" rotWithShape="0">
              <a:srgbClr val="9884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Детские поликлиники 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435640" y="3859200"/>
            <a:ext cx="2952720" cy="398880"/>
          </a:xfrm>
          <a:prstGeom prst="rect">
            <a:avLst/>
          </a:prstGeom>
          <a:solidFill>
            <a:srgbClr val="ffddff"/>
          </a:solidFill>
          <a:ln w="0">
            <a:noFill/>
          </a:ln>
          <a:effectLst>
            <a:outerShdw dist="17819" dir="2700000" blurRad="0" rotWithShape="0">
              <a:srgbClr val="9884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66"/>
                </a:solidFill>
                <a:latin typeface="Arial"/>
              </a:rPr>
              <a:t>44,514  млн.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5418000"/>
            <a:ext cx="2952720" cy="398880"/>
          </a:xfrm>
          <a:prstGeom prst="rect">
            <a:avLst/>
          </a:prstGeom>
          <a:solidFill>
            <a:srgbClr val="ffddff"/>
          </a:solidFill>
          <a:ln w="0">
            <a:noFill/>
          </a:ln>
          <a:effectLst>
            <a:outerShdw dist="17819" dir="2700000" blurRad="0" rotWithShape="0">
              <a:srgbClr val="9884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66"/>
                </a:solidFill>
                <a:latin typeface="Arial"/>
              </a:rPr>
              <a:t>13,736 млн.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867780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114560" y="529920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1114560" y="213192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90440" y="139680"/>
            <a:ext cx="8764560" cy="6969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5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4"/>
          <a:stretch/>
        </p:blipFill>
        <p:spPr>
          <a:xfrm>
            <a:off x="182520" y="130320"/>
            <a:ext cx="860400" cy="691920"/>
          </a:xfrm>
          <a:prstGeom prst="rect">
            <a:avLst/>
          </a:prstGeom>
          <a:ln w="0">
            <a:noFill/>
          </a:ln>
        </p:spPr>
      </p:pic>
      <p:grpSp>
        <p:nvGrpSpPr>
          <p:cNvPr id="226" name=""/>
          <p:cNvGrpSpPr/>
          <p:nvPr/>
        </p:nvGrpSpPr>
        <p:grpSpPr>
          <a:xfrm>
            <a:off x="0" y="6308640"/>
            <a:ext cx="9144000" cy="260280"/>
            <a:chOff x="0" y="6308640"/>
            <a:chExt cx="9144000" cy="260280"/>
          </a:xfrm>
        </p:grpSpPr>
        <p:sp>
          <p:nvSpPr>
            <p:cNvPr id="227" name=""/>
            <p:cNvSpPr/>
            <p:nvPr/>
          </p:nvSpPr>
          <p:spPr>
            <a:xfrm>
              <a:off x="468360" y="6308640"/>
              <a:ext cx="574560" cy="260280"/>
            </a:xfrm>
            <a:prstGeom prst="rect">
              <a:avLst/>
            </a:prstGeom>
            <a:solidFill>
              <a:srgbClr val="ab7d98">
                <a:alpha val="8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0" y="6308640"/>
              <a:ext cx="503280" cy="260280"/>
            </a:xfrm>
            <a:prstGeom prst="rect">
              <a:avLst/>
            </a:prstGeom>
            <a:solidFill>
              <a:srgbClr val="008080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042920" y="6308640"/>
              <a:ext cx="8101080" cy="260280"/>
            </a:xfrm>
            <a:prstGeom prst="rect">
              <a:avLst/>
            </a:prstGeom>
            <a:solidFill>
              <a:srgbClr val="dddddd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2627280" y="31680"/>
            <a:ext cx="6481800" cy="580680"/>
          </a:xfrm>
          <a:prstGeom prst="rect">
            <a:avLst/>
          </a:prstGeom>
          <a:solidFill>
            <a:srgbClr val="008080">
              <a:alpha val="78000"/>
            </a:srgbClr>
          </a:solidFill>
          <a:ln w="0">
            <a:noFill/>
          </a:ln>
          <a:effectLst>
            <a:outerShdw dist="17819" dir="2700000" blurRad="0" rotWithShape="0">
              <a:srgbClr val="00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50fffa"/>
                </a:solidFill>
                <a:latin typeface="Arial"/>
              </a:rPr>
              <a:t>Совершенствование медицинской помощ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50fffa"/>
                </a:solidFill>
                <a:latin typeface="Arial"/>
              </a:rPr>
              <a:t>матерям и детя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3168720" y="-63720"/>
            <a:ext cx="215640" cy="720720"/>
          </a:xfrm>
          <a:prstGeom prst="downArrow">
            <a:avLst>
              <a:gd name="adj1" fmla="val 50000"/>
              <a:gd name="adj2" fmla="val 83556"/>
            </a:avLst>
          </a:prstGeom>
          <a:solidFill>
            <a:srgbClr val="00ffff"/>
          </a:solidFill>
          <a:ln w="0">
            <a:noFill/>
          </a:ln>
          <a:effectLst>
            <a:outerShdw dist="17819" dir="2700000" blurRad="0" rotWithShape="0">
              <a:srgbClr val="00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5"/>
          <a:stretch/>
        </p:blipFill>
        <p:spPr>
          <a:xfrm>
            <a:off x="1042920" y="3710160"/>
            <a:ext cx="647640" cy="72684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6"/>
          <a:stretch/>
        </p:blipFill>
        <p:spPr>
          <a:xfrm>
            <a:off x="2252520" y="3716280"/>
            <a:ext cx="2318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  <a:effectLst>
            <a:outerShdw dist="17819" dir="2700000" blurRad="0" rotWithShape="0">
              <a:srgbClr val="9872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836640"/>
            <a:ext cx="8136000" cy="672840"/>
          </a:xfrm>
          <a:prstGeom prst="rect">
            <a:avLst/>
          </a:prstGeom>
          <a:solidFill>
            <a:srgbClr val="ebb3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660066"/>
                </a:solidFill>
                <a:latin typeface="Arial"/>
              </a:rPr>
              <a:t>Основные направления приоритетного национального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660066"/>
                </a:solidFill>
                <a:latin typeface="Arial"/>
              </a:rPr>
              <a:t>проекта «Здоровье» в 2010 году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90560" y="1700280"/>
            <a:ext cx="6913800" cy="703800"/>
          </a:xfrm>
          <a:prstGeom prst="rect">
            <a:avLst/>
          </a:prstGeom>
          <a:solidFill>
            <a:srgbClr val="ab7d98"/>
          </a:solidFill>
          <a:ln w="0">
            <a:noFill/>
          </a:ln>
          <a:effectLst>
            <a:outerShdw dist="17819" dir="2700000" blurRad="0" rotWithShape="0">
              <a:srgbClr val="664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d685"/>
                </a:solidFill>
                <a:latin typeface="Arial"/>
              </a:rPr>
              <a:t>Развитие первичной медико-санитарной помощи и совершенствование профилактики заболев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0560" y="5769000"/>
            <a:ext cx="6913800" cy="398880"/>
          </a:xfrm>
          <a:prstGeom prst="rect">
            <a:avLst/>
          </a:prstGeom>
          <a:solidFill>
            <a:srgbClr val="ab7d98"/>
          </a:solidFill>
          <a:ln w="0">
            <a:noFill/>
          </a:ln>
          <a:effectLst>
            <a:outerShdw dist="17819" dir="2700000" blurRad="0" rotWithShape="0">
              <a:srgbClr val="664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d685"/>
                </a:solidFill>
                <a:latin typeface="Arial"/>
              </a:rPr>
              <a:t>Формирование здорового образа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16200000">
            <a:off x="791280" y="360864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ebb3ff"/>
              </a:gs>
              <a:gs pos="100000">
                <a:srgbClr val="ffcc66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8c6a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16200000">
            <a:off x="791280" y="166392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ebb3ff"/>
              </a:gs>
              <a:gs pos="100000">
                <a:srgbClr val="ffcc66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8c6a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834760" y="649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0440" y="139680"/>
            <a:ext cx="8764560" cy="696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5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82520" y="130320"/>
            <a:ext cx="860400" cy="691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690560" y="3429000"/>
            <a:ext cx="6913800" cy="1008720"/>
          </a:xfrm>
          <a:prstGeom prst="rect">
            <a:avLst/>
          </a:prstGeom>
          <a:solidFill>
            <a:srgbClr val="ab7d98"/>
          </a:solidFill>
          <a:ln w="0">
            <a:noFill/>
          </a:ln>
          <a:effectLst>
            <a:outerShdw dist="17819" dir="2700000" blurRad="0" rotWithShape="0">
              <a:srgbClr val="664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d685"/>
                </a:solidFill>
                <a:latin typeface="Arial"/>
              </a:rPr>
              <a:t>Повышение доступности и качества специализированной, в т.ч. высокотехнологичной медицинской помощ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6200000">
            <a:off x="791280" y="556920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ebb3ff"/>
              </a:gs>
              <a:gs pos="100000">
                <a:srgbClr val="ffcc66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8c6a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834760" y="649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0" y="6308640"/>
            <a:ext cx="9144000" cy="260280"/>
            <a:chOff x="0" y="6308640"/>
            <a:chExt cx="9144000" cy="260280"/>
          </a:xfrm>
        </p:grpSpPr>
        <p:sp>
          <p:nvSpPr>
            <p:cNvPr id="65" name=""/>
            <p:cNvSpPr/>
            <p:nvPr/>
          </p:nvSpPr>
          <p:spPr>
            <a:xfrm>
              <a:off x="468360" y="6308640"/>
              <a:ext cx="574560" cy="260280"/>
            </a:xfrm>
            <a:prstGeom prst="rect">
              <a:avLst/>
            </a:prstGeom>
            <a:solidFill>
              <a:srgbClr val="ab7d98">
                <a:alpha val="8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6308640"/>
              <a:ext cx="503280" cy="260280"/>
            </a:xfrm>
            <a:prstGeom prst="rect">
              <a:avLst/>
            </a:prstGeom>
            <a:solidFill>
              <a:srgbClr val="008080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042920" y="6308640"/>
              <a:ext cx="8101080" cy="260280"/>
            </a:xfrm>
            <a:prstGeom prst="rect">
              <a:avLst/>
            </a:prstGeom>
            <a:solidFill>
              <a:srgbClr val="dddddd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1690560" y="4581360"/>
            <a:ext cx="6913800" cy="1008720"/>
          </a:xfrm>
          <a:prstGeom prst="rect">
            <a:avLst/>
          </a:prstGeom>
          <a:solidFill>
            <a:srgbClr val="ab7d98"/>
          </a:solidFill>
          <a:ln w="0">
            <a:noFill/>
          </a:ln>
          <a:effectLst>
            <a:outerShdw dist="17819" dir="2700000" blurRad="0" rotWithShape="0">
              <a:srgbClr val="664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d685"/>
                </a:solidFill>
                <a:latin typeface="Arial"/>
              </a:rPr>
              <a:t>Реализация программы совершенствования медицинской помощи пострадавшим при дорожно-транспортных происшеств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16200000">
            <a:off x="791280" y="475956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ebb3ff"/>
              </a:gs>
              <a:gs pos="100000">
                <a:srgbClr val="ffcc66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8c6a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90560" y="2565360"/>
            <a:ext cx="6913800" cy="703800"/>
          </a:xfrm>
          <a:prstGeom prst="rect">
            <a:avLst/>
          </a:prstGeom>
          <a:solidFill>
            <a:srgbClr val="ab7d98"/>
          </a:solidFill>
          <a:ln w="0">
            <a:noFill/>
          </a:ln>
          <a:effectLst>
            <a:outerShdw dist="17819" dir="2700000" blurRad="0" rotWithShape="0">
              <a:srgbClr val="664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d685"/>
                </a:solidFill>
                <a:latin typeface="Arial"/>
              </a:rPr>
              <a:t>Совершенствование медицинской помощи матерям и дет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6200000">
            <a:off x="791280" y="252756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ebb3ff"/>
              </a:gs>
              <a:gs pos="100000">
                <a:srgbClr val="ffcc66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8c6a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867780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47640" y="1500120"/>
            <a:ext cx="7056720" cy="383400"/>
          </a:xfrm>
          <a:prstGeom prst="rect">
            <a:avLst/>
          </a:prstGeom>
          <a:solidFill>
            <a:srgbClr val="ab7d98">
              <a:alpha val="86000"/>
            </a:srgbClr>
          </a:solidFill>
          <a:ln w="0">
            <a:noFill/>
          </a:ln>
          <a:effectLst>
            <a:outerShdw dist="17819" dir="2700000" blurRad="0" rotWithShape="0">
              <a:srgbClr val="664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- на заработную плату сотрудников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0" y="6308640"/>
            <a:ext cx="9144000" cy="260280"/>
            <a:chOff x="0" y="6308640"/>
            <a:chExt cx="9144000" cy="260280"/>
          </a:xfrm>
        </p:grpSpPr>
        <p:sp>
          <p:nvSpPr>
            <p:cNvPr id="237" name=""/>
            <p:cNvSpPr/>
            <p:nvPr/>
          </p:nvSpPr>
          <p:spPr>
            <a:xfrm>
              <a:off x="468360" y="6308640"/>
              <a:ext cx="574560" cy="260280"/>
            </a:xfrm>
            <a:prstGeom prst="rect">
              <a:avLst/>
            </a:prstGeom>
            <a:solidFill>
              <a:srgbClr val="ab7d98">
                <a:alpha val="8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0" y="6308640"/>
              <a:ext cx="503280" cy="260280"/>
            </a:xfrm>
            <a:prstGeom prst="rect">
              <a:avLst/>
            </a:prstGeom>
            <a:solidFill>
              <a:srgbClr val="008080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42920" y="6308640"/>
              <a:ext cx="8101080" cy="260280"/>
            </a:xfrm>
            <a:prstGeom prst="rect">
              <a:avLst/>
            </a:prstGeom>
            <a:solidFill>
              <a:srgbClr val="dddddd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142920" y="168120"/>
            <a:ext cx="8893080" cy="73404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006666"/>
              </a:gs>
              <a:gs pos="100000">
                <a:srgbClr val="009999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003c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cc00"/>
                </a:solidFill>
                <a:latin typeface="Arial"/>
              </a:rPr>
              <a:t>Расходование средств родовых сертификатов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cc00"/>
                </a:solidFill>
                <a:latin typeface="Arial"/>
              </a:rPr>
              <a:t>(по данным лечебно-профилактических учреждений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rot="16200000">
            <a:off x="648360" y="1176480"/>
            <a:ext cx="647640" cy="1008000"/>
          </a:xfrm>
          <a:prstGeom prst="downArrow">
            <a:avLst>
              <a:gd name="adj1" fmla="val 50000"/>
              <a:gd name="adj2" fmla="val 38911"/>
            </a:avLst>
          </a:prstGeom>
          <a:gradFill rotWithShape="0">
            <a:gsLst>
              <a:gs pos="0">
                <a:srgbClr val="ebb3ff"/>
              </a:gs>
              <a:gs pos="100000">
                <a:srgbClr val="ffcc66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8c6a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5280" y="1494000"/>
            <a:ext cx="10080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905c7b"/>
                </a:solidFill>
                <a:latin typeface="Arial"/>
              </a:rPr>
              <a:t>45 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547640" y="4797360"/>
            <a:ext cx="7056720" cy="962280"/>
          </a:xfrm>
          <a:prstGeom prst="rect">
            <a:avLst/>
          </a:prstGeom>
          <a:solidFill>
            <a:srgbClr val="ab7d98">
              <a:alpha val="86000"/>
            </a:srgbClr>
          </a:solidFill>
          <a:ln w="0">
            <a:noFill/>
          </a:ln>
          <a:effectLst>
            <a:outerShdw dist="17819" dir="2700000" blurRad="0" rotWithShape="0">
              <a:srgbClr val="664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- на дополнительное питание рожениц в акушерских и может быть использована на необходимые закупки поздне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648360" y="3657960"/>
            <a:ext cx="647640" cy="1008000"/>
          </a:xfrm>
          <a:prstGeom prst="downArrow">
            <a:avLst>
              <a:gd name="adj1" fmla="val 50000"/>
              <a:gd name="adj2" fmla="val 38911"/>
            </a:avLst>
          </a:prstGeom>
          <a:gradFill rotWithShape="0">
            <a:gsLst>
              <a:gs pos="0">
                <a:srgbClr val="ebb3ff"/>
              </a:gs>
              <a:gs pos="100000">
                <a:srgbClr val="ffcc66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8c6a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5280" y="3976560"/>
            <a:ext cx="10080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905c7b"/>
                </a:solidFill>
                <a:latin typeface="Arial"/>
              </a:rPr>
              <a:t>7,5 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547640" y="2203560"/>
            <a:ext cx="7056720" cy="672840"/>
          </a:xfrm>
          <a:prstGeom prst="rect">
            <a:avLst/>
          </a:prstGeom>
          <a:solidFill>
            <a:srgbClr val="ab7d98">
              <a:alpha val="86000"/>
            </a:srgbClr>
          </a:solidFill>
          <a:ln w="0">
            <a:noFill/>
          </a:ln>
          <a:effectLst>
            <a:outerShdw dist="17819" dir="2700000" blurRad="0" rotWithShape="0">
              <a:srgbClr val="664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- на медикаменты для беременных, рожениц и новорожденных детей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rot="16200000">
            <a:off x="648360" y="2024280"/>
            <a:ext cx="647640" cy="1008000"/>
          </a:xfrm>
          <a:prstGeom prst="downArrow">
            <a:avLst>
              <a:gd name="adj1" fmla="val 50000"/>
              <a:gd name="adj2" fmla="val 38911"/>
            </a:avLst>
          </a:prstGeom>
          <a:gradFill rotWithShape="0">
            <a:gsLst>
              <a:gs pos="0">
                <a:srgbClr val="ebb3ff"/>
              </a:gs>
              <a:gs pos="100000">
                <a:srgbClr val="ffcc66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8c6a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5280" y="2359080"/>
            <a:ext cx="10080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905c7b"/>
                </a:solidFill>
                <a:latin typeface="Arial"/>
              </a:rPr>
              <a:t>24 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547640" y="3189240"/>
            <a:ext cx="7056720" cy="383400"/>
          </a:xfrm>
          <a:prstGeom prst="rect">
            <a:avLst/>
          </a:prstGeom>
          <a:solidFill>
            <a:srgbClr val="ab7d98">
              <a:alpha val="86000"/>
            </a:srgbClr>
          </a:solidFill>
          <a:ln w="0">
            <a:noFill/>
          </a:ln>
          <a:effectLst>
            <a:outerShdw dist="17819" dir="2700000" blurRad="0" rotWithShape="0">
              <a:srgbClr val="664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- на приобретение медицинского оборудован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rot="16200000">
            <a:off x="648360" y="2865600"/>
            <a:ext cx="647640" cy="1008000"/>
          </a:xfrm>
          <a:prstGeom prst="downArrow">
            <a:avLst>
              <a:gd name="adj1" fmla="val 50000"/>
              <a:gd name="adj2" fmla="val 38911"/>
            </a:avLst>
          </a:prstGeom>
          <a:gradFill rotWithShape="0">
            <a:gsLst>
              <a:gs pos="0">
                <a:srgbClr val="ebb3ff"/>
              </a:gs>
              <a:gs pos="100000">
                <a:srgbClr val="ffcc66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8c6a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95280" y="3182760"/>
            <a:ext cx="10080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905c7b"/>
                </a:solidFill>
                <a:latin typeface="Arial"/>
              </a:rPr>
              <a:t>12,5 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547640" y="3838680"/>
            <a:ext cx="7056720" cy="672840"/>
          </a:xfrm>
          <a:prstGeom prst="rect">
            <a:avLst/>
          </a:prstGeom>
          <a:solidFill>
            <a:srgbClr val="ab7d98">
              <a:alpha val="86000"/>
            </a:srgbClr>
          </a:solidFill>
          <a:ln w="0">
            <a:noFill/>
          </a:ln>
          <a:effectLst>
            <a:outerShdw dist="17819" dir="2700000" blurRad="0" rotWithShape="0">
              <a:srgbClr val="664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- на покупку медицинского инструментария и изделий медицинского назначен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rot="16200000">
            <a:off x="648360" y="4710960"/>
            <a:ext cx="648000" cy="1008000"/>
          </a:xfrm>
          <a:prstGeom prst="downArrow">
            <a:avLst>
              <a:gd name="adj1" fmla="val 50000"/>
              <a:gd name="adj2" fmla="val 38889"/>
            </a:avLst>
          </a:prstGeom>
          <a:gradFill rotWithShape="0">
            <a:gsLst>
              <a:gs pos="0">
                <a:srgbClr val="ebb3ff"/>
              </a:gs>
              <a:gs pos="100000">
                <a:srgbClr val="ffcc66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8c6a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95280" y="5043600"/>
            <a:ext cx="10080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905c7b"/>
                </a:solidFill>
                <a:latin typeface="Arial"/>
              </a:rPr>
              <a:t>4,0 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5" name=""/>
          <p:cNvGraphicFramePr/>
          <p:nvPr/>
        </p:nvGraphicFramePr>
        <p:xfrm>
          <a:off x="108000" y="657360"/>
          <a:ext cx="8928000" cy="6107040"/>
        </p:xfrm>
        <a:graphic>
          <a:graphicData uri="http://schemas.openxmlformats.org/drawingml/2006/table">
            <a:tbl>
              <a:tblPr/>
              <a:tblGrid>
                <a:gridCol w="504720"/>
                <a:gridCol w="2879640"/>
                <a:gridCol w="1727280"/>
                <a:gridCol w="1297080"/>
                <a:gridCol w="576360"/>
                <a:gridCol w="1366560"/>
                <a:gridCol w="576360"/>
              </a:tblGrid>
              <a:tr h="4680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униципального 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исло беременных, состоящих на учет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следовано в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триместр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следовано во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триместр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</a:tr>
              <a:tr h="2318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ГО «Город Калининград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5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9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7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36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Багратионов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ffcc66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24fecf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</a:tr>
              <a:tr h="233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Балтий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ffcc66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24fecf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</a:tr>
              <a:tr h="2318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Гвардейский рай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ffcc66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24fecf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</a:tr>
              <a:tr h="233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Гурьев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ffcc66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24fecf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</a:tr>
              <a:tr h="233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Гусев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18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Зеленоградский рай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3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Краснознамен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ffcc66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24fecf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</a:tr>
              <a:tr h="233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Неман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ffcc66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24fecf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</a:tr>
              <a:tr h="2318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Нестеровский рай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24fecf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</a:tr>
              <a:tr h="233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Озер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ffcc66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24fecf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</a:tr>
              <a:tr h="2336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Полес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ffcc66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24fecf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</a:tr>
              <a:tr h="2314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Правдинский рай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ffcc66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24fecf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</a:tr>
              <a:tr h="2336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Светлогор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3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Слав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ffcc66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24fecf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</a:tr>
              <a:tr h="2318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Черняхов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ffcc66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24fecf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</a:tr>
              <a:tr h="233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Ладушкинский 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24fecf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</a:tr>
              <a:tr h="233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Мамоновский 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ffcc66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24fecf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</a:tr>
              <a:tr h="2318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Пионерский 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24fecf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</a:tr>
              <a:tr h="233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Светловский 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24fecf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</a:tr>
              <a:tr h="233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Советский 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ffcc66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24fecf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</a:tr>
              <a:tr h="2318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Янтарный 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ffcc66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4e7e7"/>
                        </a:gs>
                        <a:gs pos="50000">
                          <a:srgbClr val="24fecf"/>
                        </a:gs>
                        <a:gs pos="100000">
                          <a:srgbClr val="f4e7e7"/>
                        </a:gs>
                      </a:gsLst>
                      <a:lin ang="5400000"/>
                    </a:gradFill>
                  </a:tcPr>
                </a:tc>
              </a:tr>
              <a:tr h="5176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ИТОГО </a:t>
                      </a:r>
                      <a:r>
                        <a:rPr b="1" i="1" lang="en-US" sz="10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с учетом исследований        ГУЗ «Перинатальный центр КО» и            ГАУ КО «Региональные ПЦ»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fafff"/>
                        </a:gs>
                        <a:gs pos="50000">
                          <a:srgbClr val="f4e7e7"/>
                        </a:gs>
                        <a:gs pos="100000">
                          <a:srgbClr val="ffa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7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fafff"/>
                        </a:gs>
                        <a:gs pos="50000">
                          <a:srgbClr val="f4e7e7"/>
                        </a:gs>
                        <a:gs pos="100000">
                          <a:srgbClr val="ffa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52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fafff"/>
                        </a:gs>
                        <a:gs pos="50000">
                          <a:srgbClr val="f4e7e7"/>
                        </a:gs>
                        <a:gs pos="100000">
                          <a:srgbClr val="ffa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fafff"/>
                        </a:gs>
                        <a:gs pos="50000">
                          <a:srgbClr val="f4e7e7"/>
                        </a:gs>
                        <a:gs pos="100000">
                          <a:srgbClr val="ffa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6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fafff"/>
                        </a:gs>
                        <a:gs pos="50000">
                          <a:srgbClr val="f4e7e7"/>
                        </a:gs>
                        <a:gs pos="100000">
                          <a:srgbClr val="ffa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ffafff"/>
                        </a:gs>
                        <a:gs pos="50000">
                          <a:srgbClr val="f4e7e7"/>
                        </a:gs>
                        <a:gs pos="100000">
                          <a:srgbClr val="ffaf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252360" y="39600"/>
            <a:ext cx="8640720" cy="5806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006666"/>
              </a:gs>
              <a:gs pos="100000">
                <a:srgbClr val="009999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003c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Пренатальный скрининг на материнские сывороточные маркеры </a:t>
            </a: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I </a:t>
            </a: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и</a:t>
            </a: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 II</a:t>
            </a: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 триместра (оперативные данные за январь - сентябрь 2010 год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67780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  <a:effectLst>
            <a:outerShdw dist="17819" dir="2700000" blurRad="0" rotWithShape="0">
              <a:srgbClr val="9872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90440" y="139680"/>
            <a:ext cx="8764560" cy="696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5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84360" y="907920"/>
            <a:ext cx="7704000" cy="1099080"/>
          </a:xfrm>
          <a:prstGeom prst="rect">
            <a:avLst/>
          </a:prstGeom>
          <a:solidFill>
            <a:srgbClr val="ebb3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660066"/>
                </a:solidFill>
                <a:latin typeface="Arial"/>
              </a:rPr>
              <a:t>Неонатальный скрининг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 </a:t>
            </a:r>
            <a:br>
              <a:rPr sz="2400"/>
            </a:br>
            <a:r>
              <a:rPr b="1" lang="ru-RU" sz="1200" spc="-1" strike="noStrike">
                <a:solidFill>
                  <a:srgbClr val="660066"/>
                </a:solidFill>
                <a:latin typeface="Arial"/>
              </a:rPr>
              <a:t>(</a:t>
            </a:r>
            <a:r>
              <a:rPr b="1" i="1" lang="ru-RU" sz="1200" spc="-1" strike="noStrike">
                <a:solidFill>
                  <a:srgbClr val="660066"/>
                </a:solidFill>
                <a:latin typeface="Arial"/>
              </a:rPr>
              <a:t>массовое обследование новорожденных </a:t>
            </a:r>
            <a:br>
              <a:rPr sz="1200"/>
            </a:br>
            <a:r>
              <a:rPr b="1" i="1" lang="ru-RU" sz="1200" spc="-1" strike="noStrike">
                <a:solidFill>
                  <a:srgbClr val="660066"/>
                </a:solidFill>
                <a:latin typeface="Arial"/>
              </a:rPr>
              <a:t>на врожденные заболевания обмена веществ</a:t>
            </a:r>
            <a:r>
              <a:rPr b="1" lang="ru-RU" sz="1200" spc="-1" strike="noStrike">
                <a:solidFill>
                  <a:srgbClr val="660066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84360" y="3500280"/>
            <a:ext cx="78483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105823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90560" y="2239920"/>
            <a:ext cx="7561440" cy="2074680"/>
          </a:xfrm>
          <a:prstGeom prst="rect">
            <a:avLst/>
          </a:prstGeom>
          <a:solidFill>
            <a:srgbClr val="411355">
              <a:alpha val="15000"/>
            </a:srgbClr>
          </a:solidFill>
          <a:ln w="7632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66"/>
                </a:solidFill>
                <a:latin typeface="Arial"/>
              </a:rPr>
              <a:t>В 2010 году </a:t>
            </a: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(январь – сентябрь)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66"/>
                </a:solidFill>
                <a:latin typeface="Arial"/>
              </a:rPr>
              <a:t>по данным родильных дом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66"/>
                </a:solidFill>
                <a:latin typeface="Arial"/>
              </a:rPr>
              <a:t>родилось 7824 ребенка, </a:t>
            </a:r>
            <a:r>
              <a:rPr b="1" lang="en-US" sz="3400" spc="-1" strike="noStrike">
                <a:solidFill>
                  <a:srgbClr val="660066"/>
                </a:solidFill>
                <a:latin typeface="Arial"/>
              </a:rPr>
              <a:t>обследовано 7800 чел. (99,7 %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67780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900000" y="4653000"/>
            <a:ext cx="7309080" cy="1618560"/>
          </a:xfrm>
          <a:prstGeom prst="rect">
            <a:avLst/>
          </a:prstGeom>
          <a:solidFill>
            <a:srgbClr val="008080">
              <a:alpha val="73000"/>
            </a:srgbClr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82800" algn="ctr">
              <a:tabLst>
                <a:tab algn="l" pos="0"/>
                <a:tab algn="l" pos="98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2800">
              <a:tabLst>
                <a:tab algn="l" pos="0"/>
                <a:tab algn="l" pos="98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группе риска наблюдается 17 д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2800">
              <a:tabLst>
                <a:tab algn="l" pos="0"/>
                <a:tab algn="l" pos="98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явлено 2 больных фенилкетонурие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2800">
              <a:tabLst>
                <a:tab algn="l" pos="0"/>
                <a:tab algn="l" pos="98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 – с врожденным гипотиреоз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2800" algn="ctr">
              <a:tabLst>
                <a:tab algn="l" pos="0"/>
                <a:tab algn="l" pos="98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179280" y="147600"/>
            <a:ext cx="863640" cy="695520"/>
          </a:xfrm>
          <a:prstGeom prst="rect">
            <a:avLst/>
          </a:prstGeom>
          <a:ln w="0">
            <a:noFill/>
          </a:ln>
        </p:spPr>
      </p:pic>
      <p:grpSp>
        <p:nvGrpSpPr>
          <p:cNvPr id="266" name=""/>
          <p:cNvGrpSpPr/>
          <p:nvPr/>
        </p:nvGrpSpPr>
        <p:grpSpPr>
          <a:xfrm>
            <a:off x="0" y="6308640"/>
            <a:ext cx="9144000" cy="260280"/>
            <a:chOff x="0" y="6308640"/>
            <a:chExt cx="9144000" cy="260280"/>
          </a:xfrm>
        </p:grpSpPr>
        <p:sp>
          <p:nvSpPr>
            <p:cNvPr id="267" name=""/>
            <p:cNvSpPr/>
            <p:nvPr/>
          </p:nvSpPr>
          <p:spPr>
            <a:xfrm>
              <a:off x="468360" y="6308640"/>
              <a:ext cx="574560" cy="260280"/>
            </a:xfrm>
            <a:prstGeom prst="rect">
              <a:avLst/>
            </a:prstGeom>
            <a:solidFill>
              <a:srgbClr val="ab7d98">
                <a:alpha val="8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0" y="6308640"/>
              <a:ext cx="503280" cy="260280"/>
            </a:xfrm>
            <a:prstGeom prst="rect">
              <a:avLst/>
            </a:prstGeom>
            <a:solidFill>
              <a:srgbClr val="008080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042920" y="6308640"/>
              <a:ext cx="8101080" cy="260280"/>
            </a:xfrm>
            <a:prstGeom prst="rect">
              <a:avLst/>
            </a:prstGeom>
            <a:solidFill>
              <a:srgbClr val="dddddd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  <a:effectLst>
            <a:outerShdw dist="17819" dir="2700000" blurRad="0" rotWithShape="0">
              <a:srgbClr val="9872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39640" y="836640"/>
            <a:ext cx="8064720" cy="947160"/>
          </a:xfrm>
          <a:prstGeom prst="rect">
            <a:avLst/>
          </a:prstGeom>
          <a:solidFill>
            <a:srgbClr val="ebb3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660066"/>
                </a:solidFill>
                <a:latin typeface="Arial"/>
              </a:rPr>
              <a:t>Аудиологический скрининг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 </a:t>
            </a:r>
            <a:br>
              <a:rPr sz="2400"/>
            </a:br>
            <a:r>
              <a:rPr b="1" i="1" lang="ru-RU" sz="1400" spc="-1" strike="noStrike">
                <a:solidFill>
                  <a:srgbClr val="660066"/>
                </a:solidFill>
                <a:latin typeface="Arial"/>
              </a:rPr>
              <a:t>(раннее выявление врожденной тугоухост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84360" y="3500280"/>
            <a:ext cx="78483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105823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67780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90440" y="139680"/>
            <a:ext cx="8764560" cy="696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5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182520" y="130320"/>
            <a:ext cx="860400" cy="691920"/>
          </a:xfrm>
          <a:prstGeom prst="rect">
            <a:avLst/>
          </a:prstGeom>
          <a:ln w="0">
            <a:noFill/>
          </a:ln>
        </p:spPr>
      </p:pic>
      <p:grpSp>
        <p:nvGrpSpPr>
          <p:cNvPr id="276" name=""/>
          <p:cNvGrpSpPr/>
          <p:nvPr/>
        </p:nvGrpSpPr>
        <p:grpSpPr>
          <a:xfrm>
            <a:off x="0" y="6308640"/>
            <a:ext cx="9144000" cy="260280"/>
            <a:chOff x="0" y="6308640"/>
            <a:chExt cx="9144000" cy="260280"/>
          </a:xfrm>
        </p:grpSpPr>
        <p:sp>
          <p:nvSpPr>
            <p:cNvPr id="277" name=""/>
            <p:cNvSpPr/>
            <p:nvPr/>
          </p:nvSpPr>
          <p:spPr>
            <a:xfrm>
              <a:off x="468360" y="6308640"/>
              <a:ext cx="574560" cy="260280"/>
            </a:xfrm>
            <a:prstGeom prst="rect">
              <a:avLst/>
            </a:prstGeom>
            <a:solidFill>
              <a:srgbClr val="ab7d98">
                <a:alpha val="8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0" y="6308640"/>
              <a:ext cx="503280" cy="260280"/>
            </a:xfrm>
            <a:prstGeom prst="rect">
              <a:avLst/>
            </a:prstGeom>
            <a:solidFill>
              <a:srgbClr val="008080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42920" y="6308640"/>
              <a:ext cx="8101080" cy="260280"/>
            </a:xfrm>
            <a:prstGeom prst="rect">
              <a:avLst/>
            </a:prstGeom>
            <a:solidFill>
              <a:srgbClr val="dddddd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826920" y="2112840"/>
            <a:ext cx="7561440" cy="1677960"/>
          </a:xfrm>
          <a:prstGeom prst="rect">
            <a:avLst/>
          </a:prstGeom>
          <a:solidFill>
            <a:srgbClr val="411355">
              <a:alpha val="15000"/>
            </a:srgbClr>
          </a:solidFill>
          <a:ln w="7632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660066"/>
                </a:solidFill>
                <a:latin typeface="Arial"/>
              </a:rPr>
              <a:t>В 2010 году проведено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660066"/>
                </a:solidFill>
                <a:latin typeface="Arial"/>
              </a:rPr>
              <a:t>3511 исследований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660066"/>
                </a:solidFill>
                <a:latin typeface="Arial"/>
              </a:rPr>
              <a:t>на оборудовании, полученном по ПНП «Здоровье»          (100 % детей проходят звукореактотестирование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95280" y="4264200"/>
            <a:ext cx="8424720" cy="1465560"/>
          </a:xfrm>
          <a:prstGeom prst="rect">
            <a:avLst/>
          </a:prstGeom>
          <a:solidFill>
            <a:srgbClr val="008080">
              <a:alpha val="73000"/>
            </a:srgbClr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7840" indent="-10778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ыявлено 9 детей с нарушением слуха (нуждаются в направлении в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77840" indent="-10778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пециализированные федеральные медицинские центры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77840" indent="-10778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 2010 г.: 4 ребенка получили лечение, 4 – приглашены на имплантацию,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77840" indent="-10778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 - в листе ожид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2" name=""/>
          <p:cNvGraphicFramePr/>
          <p:nvPr/>
        </p:nvGraphicFramePr>
        <p:xfrm>
          <a:off x="34920" y="620640"/>
          <a:ext cx="9072720" cy="6210360"/>
        </p:xfrm>
        <a:graphic>
          <a:graphicData uri="http://schemas.openxmlformats.org/drawingml/2006/table">
            <a:tbl>
              <a:tblPr/>
              <a:tblGrid>
                <a:gridCol w="436680"/>
                <a:gridCol w="2155680"/>
                <a:gridCol w="1081080"/>
                <a:gridCol w="1150920"/>
                <a:gridCol w="1152720"/>
                <a:gridCol w="1081080"/>
                <a:gridCol w="574560"/>
                <a:gridCol w="863640"/>
                <a:gridCol w="576360"/>
              </a:tblGrid>
              <a:tr h="8413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униципального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разов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-во родивших-ся детей в марте 2010 (Росстат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исло детей, 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ступивших под наблюде-ние поликли-ники М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исло детей, 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ступивших под наблюд. др. поликл. (установлено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исло детей, прошедших дисп-цию к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мес. по данным  МУ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от под-лежа-щих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исло оплачен. талонов № 3-1 (ФСС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от под-лежа-щи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</a:tr>
              <a:tr h="2350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ГО «Город Калининград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00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Багратионовский М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50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Балтийский М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048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Гвардейский рай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79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Гурьевский М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50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Гусевский М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65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Зеленоградский рай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97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Краснознаменский М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65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Неманский М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50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Нестеровский рай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94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Озерский М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68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Полесский М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65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Правдинский рай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47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Светлогорский М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97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Славский М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65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Черняховский М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65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Ладушкинский 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83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Мамоновский 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65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Пионерский 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65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Светловский 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79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Советский 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50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Янтарный 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198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ИТОГО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e284c9"/>
                        </a:gs>
                        <a:gs pos="50000">
                          <a:srgbClr val="f4e7e7"/>
                        </a:gs>
                        <a:gs pos="100000">
                          <a:srgbClr val="e284c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e284c9"/>
                        </a:gs>
                        <a:gs pos="50000">
                          <a:srgbClr val="f4e7e7"/>
                        </a:gs>
                        <a:gs pos="100000">
                          <a:srgbClr val="e284c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e284c9"/>
                        </a:gs>
                        <a:gs pos="50000">
                          <a:srgbClr val="f4e7e7"/>
                        </a:gs>
                        <a:gs pos="100000">
                          <a:srgbClr val="e284c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e284c9"/>
                        </a:gs>
                        <a:gs pos="50000">
                          <a:srgbClr val="f4e7e7"/>
                        </a:gs>
                        <a:gs pos="100000">
                          <a:srgbClr val="e284c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e284c9"/>
                        </a:gs>
                        <a:gs pos="50000">
                          <a:srgbClr val="f4e7e7"/>
                        </a:gs>
                        <a:gs pos="100000">
                          <a:srgbClr val="e284c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e284c9"/>
                        </a:gs>
                        <a:gs pos="50000">
                          <a:srgbClr val="f4e7e7"/>
                        </a:gs>
                        <a:gs pos="100000">
                          <a:srgbClr val="e284c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e284c9"/>
                        </a:gs>
                        <a:gs pos="50000">
                          <a:srgbClr val="f4e7e7"/>
                        </a:gs>
                        <a:gs pos="100000">
                          <a:srgbClr val="e284c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e284c9"/>
                        </a:gs>
                        <a:gs pos="50000">
                          <a:srgbClr val="f4e7e7"/>
                        </a:gs>
                        <a:gs pos="100000">
                          <a:srgbClr val="e284c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283" name=""/>
          <p:cNvSpPr/>
          <p:nvPr/>
        </p:nvSpPr>
        <p:spPr>
          <a:xfrm>
            <a:off x="250920" y="39600"/>
            <a:ext cx="8642160" cy="55044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006666"/>
              </a:gs>
              <a:gs pos="100000">
                <a:srgbClr val="009999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003c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cc00"/>
                </a:solidFill>
                <a:latin typeface="Arial"/>
              </a:rPr>
              <a:t>Анализ состояния диспансеризации детей первого года жизни в сентябре 2010 г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cc00"/>
                </a:solidFill>
                <a:latin typeface="Arial"/>
              </a:rPr>
              <a:t>(дети, завершившие диспансеризацию к 6 месяцам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75088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5" name=""/>
          <p:cNvGraphicFramePr/>
          <p:nvPr/>
        </p:nvGraphicFramePr>
        <p:xfrm>
          <a:off x="34920" y="620640"/>
          <a:ext cx="9072720" cy="6210360"/>
        </p:xfrm>
        <a:graphic>
          <a:graphicData uri="http://schemas.openxmlformats.org/drawingml/2006/table">
            <a:tbl>
              <a:tblPr/>
              <a:tblGrid>
                <a:gridCol w="436680"/>
                <a:gridCol w="2155680"/>
                <a:gridCol w="1081080"/>
                <a:gridCol w="1150920"/>
                <a:gridCol w="1152720"/>
                <a:gridCol w="1081080"/>
                <a:gridCol w="574560"/>
                <a:gridCol w="863640"/>
                <a:gridCol w="576360"/>
              </a:tblGrid>
              <a:tr h="8413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униципального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разов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-во родивших-ся детей в сент. 2009 (Росстат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исло детей, поступивших под наблюде-ние поликли-ники М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исло детей, поступивших под наблюде-ние других поликлини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исло детей, прошедших дисп-цию к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году по данным  МУ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от под-лежа-щих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исло оплачен. талонов № 3-2 (ФСС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от под-лежа-щи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</a:tr>
              <a:tr h="2350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ГО «Город Калининград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00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Багратионовский М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50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Балтийский М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048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Гвардейский рай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79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Гурьевский М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50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Гусевский М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65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Зеленоградский рай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97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Краснознаменский М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65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Неманский М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50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Нестеровский рай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94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Озерский М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5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68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Полесский М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65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Правдинский рай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47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Светлогорский М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97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Славский М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65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Черняховский М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65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Ладушкинский 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83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Мамоновский 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65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Пионерский 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65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Светловский 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79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Советский 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2350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Янтарный 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4e7e7">
                        <a:alpha val="50000"/>
                      </a:srgbClr>
                    </a:solidFill>
                  </a:tcPr>
                </a:tc>
              </a:tr>
              <a:tr h="198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fdc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ИТОГО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e284c9"/>
                        </a:gs>
                        <a:gs pos="50000">
                          <a:srgbClr val="f4e7e7"/>
                        </a:gs>
                        <a:gs pos="100000">
                          <a:srgbClr val="e284c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5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e284c9"/>
                        </a:gs>
                        <a:gs pos="50000">
                          <a:srgbClr val="f4e7e7"/>
                        </a:gs>
                        <a:gs pos="100000">
                          <a:srgbClr val="e284c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6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e284c9"/>
                        </a:gs>
                        <a:gs pos="50000">
                          <a:srgbClr val="f4e7e7"/>
                        </a:gs>
                        <a:gs pos="100000">
                          <a:srgbClr val="e284c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e284c9"/>
                        </a:gs>
                        <a:gs pos="50000">
                          <a:srgbClr val="f4e7e7"/>
                        </a:gs>
                        <a:gs pos="100000">
                          <a:srgbClr val="e284c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e284c9"/>
                        </a:gs>
                        <a:gs pos="50000">
                          <a:srgbClr val="f4e7e7"/>
                        </a:gs>
                        <a:gs pos="100000">
                          <a:srgbClr val="e284c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9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e284c9"/>
                        </a:gs>
                        <a:gs pos="50000">
                          <a:srgbClr val="f4e7e7"/>
                        </a:gs>
                        <a:gs pos="100000">
                          <a:srgbClr val="e284c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6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e284c9"/>
                        </a:gs>
                        <a:gs pos="50000">
                          <a:srgbClr val="f4e7e7"/>
                        </a:gs>
                        <a:gs pos="100000">
                          <a:srgbClr val="e284c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gradFill rotWithShape="0">
                      <a:gsLst>
                        <a:gs pos="0">
                          <a:srgbClr val="e284c9"/>
                        </a:gs>
                        <a:gs pos="50000">
                          <a:srgbClr val="f4e7e7"/>
                        </a:gs>
                        <a:gs pos="100000">
                          <a:srgbClr val="e284c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50920" y="39600"/>
            <a:ext cx="8642160" cy="55044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006666"/>
              </a:gs>
              <a:gs pos="100000">
                <a:srgbClr val="009999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003c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cc00"/>
                </a:solidFill>
                <a:latin typeface="Arial"/>
              </a:rPr>
              <a:t>Анализ состояния диспансеризации детей первого года жизни в сентябре 2010 г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cc00"/>
                </a:solidFill>
                <a:latin typeface="Arial"/>
              </a:rPr>
              <a:t>(дети, завершившие диспансеризацию к 1 году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75088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  <a:effectLst>
            <a:outerShdw dist="17819" dir="2700000" blurRad="0" rotWithShape="0">
              <a:srgbClr val="9872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11280" y="981000"/>
            <a:ext cx="8064360" cy="825480"/>
          </a:xfrm>
          <a:prstGeom prst="rect">
            <a:avLst/>
          </a:prstGeom>
          <a:solidFill>
            <a:srgbClr val="ebb3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Диспансеризация детей-сирот и детей, находящихся в трудной жизненной ситу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55640" y="4226040"/>
            <a:ext cx="7561440" cy="550800"/>
          </a:xfrm>
          <a:prstGeom prst="rect">
            <a:avLst/>
          </a:prstGeom>
          <a:solidFill>
            <a:srgbClr val="006664">
              <a:alpha val="79000"/>
            </a:srgbClr>
          </a:solidFill>
          <a:ln w="7632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2ec"/>
                </a:solidFill>
                <a:latin typeface="Arial"/>
              </a:rPr>
              <a:t>Прошли диспансеризацию 938 дете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90440" y="139680"/>
            <a:ext cx="8764560" cy="696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5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179280" y="147600"/>
            <a:ext cx="863640" cy="695520"/>
          </a:xfrm>
          <a:prstGeom prst="rect">
            <a:avLst/>
          </a:prstGeom>
          <a:ln w="0">
            <a:noFill/>
          </a:ln>
        </p:spPr>
      </p:pic>
      <p:grpSp>
        <p:nvGrpSpPr>
          <p:cNvPr id="293" name=""/>
          <p:cNvGrpSpPr/>
          <p:nvPr/>
        </p:nvGrpSpPr>
        <p:grpSpPr>
          <a:xfrm>
            <a:off x="0" y="6308640"/>
            <a:ext cx="9144000" cy="260280"/>
            <a:chOff x="0" y="6308640"/>
            <a:chExt cx="9144000" cy="260280"/>
          </a:xfrm>
        </p:grpSpPr>
        <p:sp>
          <p:nvSpPr>
            <p:cNvPr id="294" name=""/>
            <p:cNvSpPr/>
            <p:nvPr/>
          </p:nvSpPr>
          <p:spPr>
            <a:xfrm>
              <a:off x="468360" y="6308640"/>
              <a:ext cx="574560" cy="260280"/>
            </a:xfrm>
            <a:prstGeom prst="rect">
              <a:avLst/>
            </a:prstGeom>
            <a:solidFill>
              <a:srgbClr val="ab7d98">
                <a:alpha val="8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0" y="6308640"/>
              <a:ext cx="503280" cy="260280"/>
            </a:xfrm>
            <a:prstGeom prst="rect">
              <a:avLst/>
            </a:prstGeom>
            <a:solidFill>
              <a:srgbClr val="008080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042920" y="6308640"/>
              <a:ext cx="8101080" cy="260280"/>
            </a:xfrm>
            <a:prstGeom prst="rect">
              <a:avLst/>
            </a:prstGeom>
            <a:solidFill>
              <a:srgbClr val="dddddd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790560" y="2065320"/>
            <a:ext cx="7561440" cy="1739880"/>
          </a:xfrm>
          <a:prstGeom prst="rect">
            <a:avLst/>
          </a:prstGeom>
          <a:solidFill>
            <a:srgbClr val="411355">
              <a:alpha val="15000"/>
            </a:srgbClr>
          </a:solidFill>
          <a:ln w="7632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В период май-сентябрь 2010 года число подлежащих диспансеризации – 1097 че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258920" y="5013360"/>
            <a:ext cx="6553080" cy="1099440"/>
          </a:xfrm>
          <a:prstGeom prst="rect">
            <a:avLst/>
          </a:prstGeom>
          <a:solidFill>
            <a:srgbClr val="df9dbe">
              <a:alpha val="62000"/>
            </a:srgbClr>
          </a:solidFill>
          <a:ln w="0">
            <a:noFill/>
          </a:ln>
          <a:effectLst>
            <a:outerShdw dist="17819" dir="2700000" blurRad="0" rotWithShape="0">
              <a:srgbClr val="855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ebf2"/>
                </a:solidFill>
                <a:latin typeface="Arial"/>
              </a:rPr>
              <a:t>Приняты к оплате ТФОМС – 938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реестров</a:t>
            </a:r>
            <a:r>
              <a:rPr b="1" lang="en-US" sz="2200" spc="-1" strike="noStrike">
                <a:solidFill>
                  <a:srgbClr val="ffebf2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75088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684360" y="3500280"/>
            <a:ext cx="78483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105823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971640" y="1547640"/>
          <a:ext cx="7858080" cy="533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547640"/>
                    <a:ext cx="7858080" cy="533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"/>
          <p:cNvSpPr/>
          <p:nvPr/>
        </p:nvSpPr>
        <p:spPr>
          <a:xfrm>
            <a:off x="6299280" y="2025720"/>
            <a:ext cx="1944720" cy="6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Verdana"/>
                <a:ea typeface="Tahoma"/>
              </a:rPr>
              <a:t>V</a:t>
            </a:r>
            <a:r>
              <a:rPr b="1" lang="ru-RU" sz="1600" spc="-1" strike="noStrike">
                <a:solidFill>
                  <a:srgbClr val="006666"/>
                </a:solidFill>
                <a:latin typeface="Verdana"/>
                <a:ea typeface="Tahoma"/>
              </a:rPr>
              <a:t> </a:t>
            </a:r>
            <a:r>
              <a:rPr b="1" lang="en-US" sz="1600" spc="-1" strike="noStrike">
                <a:solidFill>
                  <a:srgbClr val="006666"/>
                </a:solidFill>
                <a:latin typeface="Verdana"/>
                <a:ea typeface="Tahoma"/>
              </a:rPr>
              <a:t> </a:t>
            </a:r>
            <a:r>
              <a:rPr b="1" lang="ru-RU" sz="1600" spc="-1" strike="noStrike">
                <a:solidFill>
                  <a:srgbClr val="006666"/>
                </a:solidFill>
                <a:latin typeface="Verdana"/>
                <a:ea typeface="Tahoma"/>
              </a:rPr>
              <a:t>групп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66"/>
                </a:solidFill>
                <a:latin typeface="Verdana"/>
                <a:ea typeface="Tahoma"/>
              </a:rPr>
              <a:t>(нуждаются в ВМП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95280" y="2236680"/>
            <a:ext cx="2158920" cy="9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Verdana"/>
                <a:ea typeface="Tahoma"/>
              </a:rPr>
              <a:t>IV</a:t>
            </a:r>
            <a:r>
              <a:rPr b="1" lang="ru-RU" sz="1600" spc="-1" strike="noStrike">
                <a:solidFill>
                  <a:srgbClr val="006666"/>
                </a:solidFill>
                <a:latin typeface="Verdana"/>
                <a:ea typeface="Tahoma"/>
              </a:rPr>
              <a:t> </a:t>
            </a:r>
            <a:r>
              <a:rPr b="1" lang="en-US" sz="1600" spc="-1" strike="noStrike">
                <a:solidFill>
                  <a:srgbClr val="006666"/>
                </a:solidFill>
                <a:latin typeface="Verdana"/>
                <a:ea typeface="Tahoma"/>
              </a:rPr>
              <a:t> </a:t>
            </a:r>
            <a:r>
              <a:rPr b="1" lang="ru-RU" sz="1600" spc="-1" strike="noStrike">
                <a:solidFill>
                  <a:srgbClr val="006666"/>
                </a:solidFill>
                <a:latin typeface="Verdana"/>
                <a:ea typeface="Tahoma"/>
              </a:rPr>
              <a:t>групп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66"/>
                </a:solidFill>
                <a:latin typeface="Verdana"/>
                <a:ea typeface="Tahoma"/>
              </a:rPr>
              <a:t>(нуждаются в обследовании и стационарном лечен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5083200"/>
            <a:ext cx="1440000" cy="7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Verdana"/>
                <a:ea typeface="Tahoma"/>
              </a:rPr>
              <a:t>II</a:t>
            </a:r>
            <a:r>
              <a:rPr b="1" lang="ru-RU" sz="1600" spc="-1" strike="noStrike">
                <a:solidFill>
                  <a:srgbClr val="006666"/>
                </a:solidFill>
                <a:latin typeface="Verdana"/>
                <a:ea typeface="Tahoma"/>
              </a:rPr>
              <a:t> </a:t>
            </a:r>
            <a:r>
              <a:rPr b="1" lang="en-US" sz="1600" spc="-1" strike="noStrike">
                <a:solidFill>
                  <a:srgbClr val="006666"/>
                </a:solidFill>
                <a:latin typeface="Verdana"/>
                <a:ea typeface="Tahoma"/>
              </a:rPr>
              <a:t> </a:t>
            </a:r>
            <a:r>
              <a:rPr b="1" lang="ru-RU" sz="1600" spc="-1" strike="noStrike">
                <a:solidFill>
                  <a:srgbClr val="006666"/>
                </a:solidFill>
                <a:latin typeface="Verdana"/>
                <a:ea typeface="Tahoma"/>
              </a:rPr>
              <a:t>групп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66"/>
                </a:solidFill>
                <a:latin typeface="Verdana"/>
                <a:ea typeface="Tahoma"/>
              </a:rPr>
              <a:t>(риск развития заболеван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020000" y="3394080"/>
            <a:ext cx="1297080" cy="7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Verdana"/>
                <a:ea typeface="Tahoma"/>
              </a:rPr>
              <a:t>I </a:t>
            </a:r>
            <a:r>
              <a:rPr b="1" lang="ru-RU" sz="1600" spc="-1" strike="noStrike">
                <a:solidFill>
                  <a:srgbClr val="006666"/>
                </a:solidFill>
                <a:latin typeface="Verdana"/>
                <a:ea typeface="Tahoma"/>
              </a:rPr>
              <a:t>групп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66"/>
                </a:solidFill>
                <a:latin typeface="Verdana"/>
                <a:ea typeface="Tahoma"/>
              </a:rPr>
              <a:t>(практически здоровы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24000" y="4829040"/>
            <a:ext cx="2232000" cy="9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Verdana"/>
                <a:ea typeface="Tahoma"/>
              </a:rPr>
              <a:t>III</a:t>
            </a:r>
            <a:r>
              <a:rPr b="1" lang="ru-RU" sz="1600" spc="-1" strike="noStrike">
                <a:solidFill>
                  <a:srgbClr val="006666"/>
                </a:solidFill>
                <a:latin typeface="Verdana"/>
                <a:ea typeface="Tahoma"/>
              </a:rPr>
              <a:t> </a:t>
            </a:r>
            <a:r>
              <a:rPr b="1" lang="en-US" sz="1600" spc="-1" strike="noStrike">
                <a:solidFill>
                  <a:srgbClr val="006666"/>
                </a:solidFill>
                <a:latin typeface="Verdana"/>
                <a:ea typeface="Tahoma"/>
              </a:rPr>
              <a:t> </a:t>
            </a:r>
            <a:r>
              <a:rPr b="1" lang="ru-RU" sz="1600" spc="-1" strike="noStrike">
                <a:solidFill>
                  <a:srgbClr val="006666"/>
                </a:solidFill>
                <a:latin typeface="Verdana"/>
                <a:ea typeface="Tahoma"/>
              </a:rPr>
              <a:t>групп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66"/>
                </a:solidFill>
                <a:latin typeface="Verdana"/>
                <a:ea typeface="Tahoma"/>
              </a:rPr>
              <a:t>(нуждаются в обследовании, амбулаторном лечен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677800" y="6491160"/>
            <a:ext cx="433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  <a:effectLst>
            <a:outerShdw dist="17819" dir="2700000" blurRad="0" rotWithShape="0">
              <a:srgbClr val="9872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39640" y="907920"/>
            <a:ext cx="8207640" cy="672840"/>
          </a:xfrm>
          <a:prstGeom prst="rect">
            <a:avLst/>
          </a:prstGeom>
          <a:solidFill>
            <a:srgbClr val="ebb3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660066"/>
                </a:solidFill>
                <a:latin typeface="Arial"/>
              </a:rPr>
              <a:t>Диспансеризация детей-сирот и детей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660066"/>
                </a:solidFill>
                <a:latin typeface="Arial"/>
              </a:rPr>
              <a:t>находящихся в трудной жизненной ситуации в 2010 году (9 мес.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90440" y="139680"/>
            <a:ext cx="8764560" cy="6969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5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4"/>
          <a:stretch/>
        </p:blipFill>
        <p:spPr>
          <a:xfrm>
            <a:off x="179280" y="147600"/>
            <a:ext cx="863640" cy="695520"/>
          </a:xfrm>
          <a:prstGeom prst="rect">
            <a:avLst/>
          </a:prstGeom>
          <a:ln w="0">
            <a:noFill/>
          </a:ln>
        </p:spPr>
      </p:pic>
      <p:grpSp>
        <p:nvGrpSpPr>
          <p:cNvPr id="313" name=""/>
          <p:cNvGrpSpPr/>
          <p:nvPr/>
        </p:nvGrpSpPr>
        <p:grpSpPr>
          <a:xfrm>
            <a:off x="0" y="6308640"/>
            <a:ext cx="9144000" cy="260280"/>
            <a:chOff x="0" y="6308640"/>
            <a:chExt cx="9144000" cy="260280"/>
          </a:xfrm>
        </p:grpSpPr>
        <p:sp>
          <p:nvSpPr>
            <p:cNvPr id="314" name=""/>
            <p:cNvSpPr/>
            <p:nvPr/>
          </p:nvSpPr>
          <p:spPr>
            <a:xfrm>
              <a:off x="468360" y="6308640"/>
              <a:ext cx="574560" cy="260280"/>
            </a:xfrm>
            <a:prstGeom prst="rect">
              <a:avLst/>
            </a:prstGeom>
            <a:solidFill>
              <a:srgbClr val="ab7d98">
                <a:alpha val="8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0" y="6308640"/>
              <a:ext cx="503280" cy="260280"/>
            </a:xfrm>
            <a:prstGeom prst="rect">
              <a:avLst/>
            </a:prstGeom>
            <a:solidFill>
              <a:srgbClr val="008080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042920" y="6308640"/>
              <a:ext cx="8101080" cy="260280"/>
            </a:xfrm>
            <a:prstGeom prst="rect">
              <a:avLst/>
            </a:prstGeom>
            <a:solidFill>
              <a:srgbClr val="dddddd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 flipH="1">
            <a:off x="4571640" y="981000"/>
            <a:ext cx="2305080" cy="3600360"/>
          </a:xfrm>
          <a:prstGeom prst="line">
            <a:avLst/>
          </a:prstGeom>
          <a:ln w="1260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724360" y="1773360"/>
            <a:ext cx="3168720" cy="1968840"/>
          </a:xfrm>
          <a:prstGeom prst="rect">
            <a:avLst/>
          </a:prstGeom>
          <a:solidFill>
            <a:srgbClr val="ffddff">
              <a:alpha val="86000"/>
            </a:srgbClr>
          </a:solidFill>
          <a:ln w="0">
            <a:noFill/>
          </a:ln>
          <a:effectLst>
            <a:outerShdw dist="17819" dir="2700000" blurRad="0" rotWithShape="0">
              <a:srgbClr val="9884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На 18.10.2010  направлены в федеральные центры   по квотам 1503 чел. </a:t>
            </a:r>
            <a:r>
              <a:rPr b="1" lang="en-US" sz="1700" spc="-1" strike="noStrike">
                <a:solidFill>
                  <a:srgbClr val="660066"/>
                </a:solidFill>
                <a:latin typeface="Arial"/>
              </a:rPr>
              <a:t>Количество выполненных    объемов – 1101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660066"/>
                </a:solidFill>
                <a:latin typeface="Arial"/>
              </a:rPr>
              <a:t>из них детей - 26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9640" y="4606920"/>
            <a:ext cx="8136000" cy="1541160"/>
          </a:xfrm>
          <a:prstGeom prst="rect">
            <a:avLst/>
          </a:prstGeom>
          <a:solidFill>
            <a:srgbClr val="df9dbe">
              <a:alpha val="86000"/>
            </a:srgbClr>
          </a:solidFill>
          <a:ln w="0">
            <a:noFill/>
          </a:ln>
          <a:effectLst>
            <a:outerShdw dist="17819" dir="2700000" blurRad="0" rotWithShape="0">
              <a:srgbClr val="855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Калининградская областная клиническая больниц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В 2010 году – по федеральным квотам запланирована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81 –сердечно-сосудистая операция (выполнено – 24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69 – операций протезирования суставов (выполнено – 57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77080" y="981000"/>
            <a:ext cx="0" cy="792360"/>
          </a:xfrm>
          <a:prstGeom prst="line">
            <a:avLst/>
          </a:prstGeom>
          <a:ln w="1584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  <a:effectLst>
            <a:outerShdw dist="17819" dir="2700000" blurRad="0" rotWithShape="0">
              <a:srgbClr val="9872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875088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0440" y="139680"/>
            <a:ext cx="8764560" cy="696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5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863640" cy="695160"/>
          </a:xfrm>
          <a:prstGeom prst="rect">
            <a:avLst/>
          </a:prstGeom>
          <a:ln w="0">
            <a:noFill/>
          </a:ln>
        </p:spPr>
      </p:pic>
      <p:grpSp>
        <p:nvGrpSpPr>
          <p:cNvPr id="325" name=""/>
          <p:cNvGrpSpPr/>
          <p:nvPr/>
        </p:nvGrpSpPr>
        <p:grpSpPr>
          <a:xfrm>
            <a:off x="0" y="6308640"/>
            <a:ext cx="9144000" cy="260280"/>
            <a:chOff x="0" y="6308640"/>
            <a:chExt cx="9144000" cy="260280"/>
          </a:xfrm>
        </p:grpSpPr>
        <p:sp>
          <p:nvSpPr>
            <p:cNvPr id="326" name=""/>
            <p:cNvSpPr/>
            <p:nvPr/>
          </p:nvSpPr>
          <p:spPr>
            <a:xfrm>
              <a:off x="468360" y="6308640"/>
              <a:ext cx="574560" cy="260280"/>
            </a:xfrm>
            <a:prstGeom prst="rect">
              <a:avLst/>
            </a:prstGeom>
            <a:solidFill>
              <a:srgbClr val="ab7d98">
                <a:alpha val="8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0" y="6308640"/>
              <a:ext cx="503280" cy="260280"/>
            </a:xfrm>
            <a:prstGeom prst="rect">
              <a:avLst/>
            </a:prstGeom>
            <a:solidFill>
              <a:srgbClr val="008080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042920" y="6308640"/>
              <a:ext cx="8101080" cy="260280"/>
            </a:xfrm>
            <a:prstGeom prst="rect">
              <a:avLst/>
            </a:prstGeom>
            <a:solidFill>
              <a:srgbClr val="dddddd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2627280" y="31680"/>
            <a:ext cx="6481800" cy="916920"/>
          </a:xfrm>
          <a:prstGeom prst="rect">
            <a:avLst/>
          </a:prstGeom>
          <a:solidFill>
            <a:srgbClr val="008080">
              <a:alpha val="78000"/>
            </a:srgbClr>
          </a:solidFill>
          <a:ln w="0">
            <a:noFill/>
          </a:ln>
          <a:effectLst>
            <a:outerShdw dist="17819" dir="2700000" blurRad="0" rotWithShape="0">
              <a:srgbClr val="00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fffa"/>
                </a:solidFill>
                <a:latin typeface="Arial"/>
              </a:rPr>
              <a:t>Повышение доступности и качества специализированной, в т.ч.  высокотехнологичной  медицинской помощи</a:t>
            </a:r>
            <a:r>
              <a:rPr b="0" lang="en-US" sz="1800" spc="-1" strike="noStrike">
                <a:solidFill>
                  <a:srgbClr val="50fff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6200000">
            <a:off x="3168720" y="-63720"/>
            <a:ext cx="215640" cy="720720"/>
          </a:xfrm>
          <a:prstGeom prst="downArrow">
            <a:avLst>
              <a:gd name="adj1" fmla="val 50000"/>
              <a:gd name="adj2" fmla="val 83556"/>
            </a:avLst>
          </a:prstGeom>
          <a:solidFill>
            <a:srgbClr val="00ffff"/>
          </a:solidFill>
          <a:ln w="0">
            <a:noFill/>
          </a:ln>
          <a:effectLst>
            <a:outerShdw dist="17819" dir="2700000" blurRad="0" rotWithShape="0">
              <a:srgbClr val="00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629080" y="1844640"/>
            <a:ext cx="2879640" cy="237636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24000" y="1484280"/>
            <a:ext cx="3095640" cy="21607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3" name=""/>
          <p:cNvGraphicFramePr/>
          <p:nvPr/>
        </p:nvGraphicFramePr>
        <p:xfrm>
          <a:off x="108000" y="981000"/>
          <a:ext cx="8928000" cy="5803920"/>
        </p:xfrm>
        <a:graphic>
          <a:graphicData uri="http://schemas.openxmlformats.org/drawingml/2006/table">
            <a:tbl>
              <a:tblPr/>
              <a:tblGrid>
                <a:gridCol w="792000"/>
                <a:gridCol w="4464000"/>
                <a:gridCol w="1368720"/>
                <a:gridCol w="2303280"/>
              </a:tblGrid>
              <a:tr h="5335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 отчетный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ери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 соответств, период года, предшествующий отчетном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</a:tr>
              <a:tr h="3888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e3838"/>
                          </a:solidFill>
                          <a:latin typeface="Arial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b2c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e3838"/>
                          </a:solidFill>
                          <a:latin typeface="Arial"/>
                        </a:rPr>
                        <a:t>Число погибших в результате дорожно-транспортных происшествий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b2c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e3838"/>
                          </a:solidFill>
                          <a:latin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b2c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e3838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b2c3">
                        <a:alpha val="50000"/>
                      </a:srgbClr>
                    </a:solidFill>
                  </a:tcPr>
                </a:tc>
              </a:tr>
              <a:tr h="387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e3838"/>
                          </a:solidFill>
                          <a:latin typeface="Arial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b2c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e3838"/>
                          </a:solidFill>
                          <a:latin typeface="Arial"/>
                        </a:rPr>
                        <a:t>Число погибших на месте дорожно-транспортного происшеств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b2c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e3838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b2c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e3838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b2c3">
                        <a:alpha val="50000"/>
                      </a:srgbClr>
                    </a:solidFill>
                  </a:tcPr>
                </a:tc>
              </a:tr>
              <a:tr h="4446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e3838"/>
                          </a:solidFill>
                          <a:latin typeface="Arial"/>
                        </a:rPr>
                        <a:t>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b2c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e3838"/>
                          </a:solidFill>
                          <a:latin typeface="Arial"/>
                        </a:rPr>
                        <a:t>Число пострадавших в дорожно-транспортных происшествиях, умерших на госпитальном этапе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b2c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e3838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b2c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e3838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b2c3">
                        <a:alpha val="50000"/>
                      </a:srgbClr>
                    </a:solidFill>
                  </a:tcPr>
                </a:tc>
              </a:tr>
              <a:tr h="388800">
                <a:tc>
                  <a:txBody>
                    <a:bodyPr lIns="90000" rIns="90000" tIns="0" bIns="0" anchor="ctr">
                      <a:noAutofit/>
                    </a:bodyPr>
                    <a:p>
                      <a:pPr marL="355680"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11355"/>
                          </a:solidFill>
                          <a:latin typeface="Arial"/>
                        </a:rPr>
                        <a:t>3.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b1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marL="88920" indent="-889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11355"/>
                          </a:solidFill>
                          <a:latin typeface="Arial"/>
                        </a:rPr>
                        <a:t>- умерших во время перевозки (транспортировки) бригадами скорой медицинской помощ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b1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11355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b1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11355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b1f9">
                        <a:alpha val="50000"/>
                      </a:srgbClr>
                    </a:solidFill>
                  </a:tcPr>
                </a:tc>
              </a:tr>
              <a:tr h="5810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e3838"/>
                          </a:solidFill>
                          <a:latin typeface="Arial"/>
                        </a:rPr>
                        <a:t>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b2c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e3838"/>
                          </a:solidFill>
                          <a:latin typeface="Arial"/>
                        </a:rPr>
                        <a:t>Число выездов на дорожно-транспортные происшествия, выполненные бригадами скорой медицинской помощ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b2c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e3838"/>
                          </a:solidFill>
                          <a:latin typeface="Arial"/>
                        </a:rPr>
                        <a:t>1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b2c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e3838"/>
                          </a:solidFill>
                          <a:latin typeface="Arial"/>
                        </a:rPr>
                        <a:t>1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b2c3">
                        <a:alpha val="5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e3838"/>
                          </a:solidFill>
                          <a:latin typeface="Arial"/>
                        </a:rPr>
                        <a:t>5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b2c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e3838"/>
                          </a:solidFill>
                          <a:latin typeface="Arial"/>
                        </a:rPr>
                        <a:t>Число пострадавших, которым оказана медицинская помощь бригадами скорой медицинской помощ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b2c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e3838"/>
                          </a:solidFill>
                          <a:latin typeface="Arial"/>
                        </a:rPr>
                        <a:t>1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b2c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e3838"/>
                          </a:solidFill>
                          <a:latin typeface="Arial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b2c3">
                        <a:alpha val="50000"/>
                      </a:srgbClr>
                    </a:solidFill>
                  </a:tcPr>
                </a:tc>
              </a:tr>
              <a:tr h="387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e3838"/>
                          </a:solidFill>
                          <a:latin typeface="Arial"/>
                        </a:rPr>
                        <a:t>6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b2c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e3838"/>
                          </a:solidFill>
                          <a:latin typeface="Arial"/>
                        </a:rPr>
                        <a:t>Число пострадавших с сочетанной травмой, доставленных в травмоцентр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b2c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e3838"/>
                          </a:solidFill>
                          <a:latin typeface="Arial"/>
                        </a:rPr>
                        <a:t>163/0 (дет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b2c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e3838"/>
                          </a:solidFill>
                          <a:latin typeface="Arial"/>
                        </a:rPr>
                        <a:t>76/0 (дет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b2c3">
                        <a:alpha val="50000"/>
                      </a:srgbClr>
                    </a:solidFill>
                  </a:tcPr>
                </a:tc>
              </a:tr>
              <a:tr h="246240">
                <a:tc>
                  <a:txBody>
                    <a:bodyPr lIns="90000" rIns="90000" tIns="0" bIns="0" anchor="ctr">
                      <a:noAutofit/>
                    </a:bodyPr>
                    <a:p>
                      <a:pPr marL="355680"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11355"/>
                          </a:solidFill>
                          <a:latin typeface="Arial"/>
                        </a:rPr>
                        <a:t>6.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b1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marL="889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11355"/>
                          </a:solidFill>
                          <a:latin typeface="Arial"/>
                        </a:rPr>
                        <a:t>1-го уровня (БСМП г. Калининград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b1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11355"/>
                          </a:solidFill>
                          <a:latin typeface="Arial"/>
                        </a:rPr>
                        <a:t>1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b1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11355"/>
                          </a:solidFill>
                          <a:latin typeface="Arial"/>
                        </a:rPr>
                        <a:t>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b1f9">
                        <a:alpha val="50000"/>
                      </a:srgbClr>
                    </a:solidFill>
                  </a:tcPr>
                </a:tc>
              </a:tr>
              <a:tr h="247680">
                <a:tc>
                  <a:txBody>
                    <a:bodyPr lIns="90000" rIns="90000" tIns="0" bIns="0" anchor="ctr">
                      <a:noAutofit/>
                    </a:bodyPr>
                    <a:p>
                      <a:pPr marL="355680"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11355"/>
                          </a:solidFill>
                          <a:latin typeface="Arial"/>
                        </a:rPr>
                        <a:t>6.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b1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marL="889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11355"/>
                          </a:solidFill>
                          <a:latin typeface="Arial"/>
                        </a:rPr>
                        <a:t>2-го уровня (ЦГБ г. Калининград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b1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11355"/>
                          </a:solidFill>
                          <a:latin typeface="Arial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b1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11355"/>
                          </a:solidFill>
                          <a:latin typeface="Arial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b1f9">
                        <a:alpha val="50000"/>
                      </a:srgbClr>
                    </a:solidFill>
                  </a:tcPr>
                </a:tc>
              </a:tr>
              <a:tr h="387360">
                <a:tc>
                  <a:txBody>
                    <a:bodyPr lIns="90000" rIns="90000" tIns="0" bIns="0" anchor="ctr">
                      <a:noAutofit/>
                    </a:bodyPr>
                    <a:p>
                      <a:pPr marL="355680"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11355"/>
                          </a:solidFill>
                          <a:latin typeface="Arial"/>
                        </a:rPr>
                        <a:t>6.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b1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marL="889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11355"/>
                          </a:solidFill>
                          <a:latin typeface="Arial"/>
                        </a:rPr>
                        <a:t>3-го уровня (Черняховская ЦРБ, Гусевская ЦРБ, ЦГБ Советского ГО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b1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11355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b1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11355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b1f9">
                        <a:alpha val="50000"/>
                      </a:srgbClr>
                    </a:solidFill>
                  </a:tcPr>
                </a:tc>
              </a:tr>
              <a:tr h="2458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e3838"/>
                          </a:solidFill>
                          <a:latin typeface="Arial"/>
                        </a:rPr>
                        <a:t>7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b2c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e3838"/>
                          </a:solidFill>
                          <a:latin typeface="Arial"/>
                        </a:rPr>
                        <a:t>Число оперативных вмешательств при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b2c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e3838"/>
                          </a:solidFill>
                          <a:latin typeface="Arial"/>
                        </a:rPr>
                        <a:t>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b2c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e3838"/>
                          </a:solidFill>
                          <a:latin typeface="Arial"/>
                        </a:rPr>
                        <a:t>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b2c3">
                        <a:alpha val="50000"/>
                      </a:srgbClr>
                    </a:solidFill>
                  </a:tcPr>
                </a:tc>
              </a:tr>
              <a:tr h="247680">
                <a:tc>
                  <a:txBody>
                    <a:bodyPr lIns="90000" rIns="90000" tIns="0" bIns="0" anchor="ctr">
                      <a:noAutofit/>
                    </a:bodyPr>
                    <a:p>
                      <a:pPr marL="355680"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11355"/>
                          </a:solidFill>
                          <a:latin typeface="Arial"/>
                        </a:rPr>
                        <a:t>7.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b1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11355"/>
                          </a:solidFill>
                          <a:latin typeface="Arial"/>
                        </a:rPr>
                        <a:t>- множественной трав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b1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11355"/>
                          </a:solidFill>
                          <a:latin typeface="Arial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b1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11355"/>
                          </a:solidFill>
                          <a:latin typeface="Arial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b1f9">
                        <a:alpha val="50000"/>
                      </a:srgbClr>
                    </a:solidFill>
                  </a:tcPr>
                </a:tc>
              </a:tr>
              <a:tr h="244440">
                <a:tc>
                  <a:txBody>
                    <a:bodyPr lIns="90000" rIns="90000" tIns="0" bIns="0" anchor="ctr">
                      <a:noAutofit/>
                    </a:bodyPr>
                    <a:p>
                      <a:pPr marL="355680"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11355"/>
                          </a:solidFill>
                          <a:latin typeface="Arial"/>
                        </a:rPr>
                        <a:t>7.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b1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11355"/>
                          </a:solidFill>
                          <a:latin typeface="Arial"/>
                        </a:rPr>
                        <a:t>- сочетанной трав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b1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11355"/>
                          </a:solidFill>
                          <a:latin typeface="Arial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b1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11355"/>
                          </a:solidFill>
                          <a:latin typeface="Arial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b1f9">
                        <a:alpha val="50000"/>
                      </a:srgbClr>
                    </a:solidFill>
                  </a:tcPr>
                </a:tc>
              </a:tr>
              <a:tr h="247680">
                <a:tc>
                  <a:txBody>
                    <a:bodyPr lIns="90000" rIns="90000" tIns="0" bIns="0" anchor="ctr">
                      <a:noAutofit/>
                    </a:bodyPr>
                    <a:p>
                      <a:pPr marL="355680"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11355"/>
                          </a:solidFill>
                          <a:latin typeface="Arial"/>
                        </a:rPr>
                        <a:t>7.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b1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buClr>
                          <a:srgbClr val="411355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11355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411355"/>
                          </a:solidFill>
                          <a:latin typeface="Arial"/>
                        </a:rPr>
                        <a:t>нейротрав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b1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11355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b1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11355"/>
                          </a:solidFill>
                          <a:latin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b1f9">
                        <a:alpha val="50000"/>
                      </a:srgbClr>
                    </a:solidFill>
                  </a:tcPr>
                </a:tc>
              </a:tr>
              <a:tr h="4190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e3838"/>
                          </a:solidFill>
                          <a:latin typeface="Arial"/>
                        </a:rPr>
                        <a:t>8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b2c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e3838"/>
                          </a:solidFill>
                          <a:latin typeface="Arial"/>
                        </a:rPr>
                        <a:t>Число пострадавших в дорожно-транспортных происшествиях, умерших в стационар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b2c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e3838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b2c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marL="723960" indent="-723960"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e3838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b2c3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34" name=""/>
          <p:cNvSpPr/>
          <p:nvPr/>
        </p:nvSpPr>
        <p:spPr>
          <a:xfrm>
            <a:off x="867780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2360" y="39600"/>
            <a:ext cx="8640720" cy="88596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006666"/>
              </a:gs>
              <a:gs pos="100000">
                <a:srgbClr val="009999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003c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cc00"/>
                </a:solidFill>
                <a:latin typeface="Arial"/>
              </a:rPr>
              <a:t>Мониторинг основных целевых показателей деятельности учреждений здравоохранения Калининградской области, участвующих в реализации мероприятий, направленных на совершенствование организации медицинской помощи пострадавшим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cc00"/>
                </a:solidFill>
                <a:latin typeface="Arial"/>
              </a:rPr>
              <a:t>при дорожно-транспортных происшествиях (сентябрь 2010 года)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8834760" y="649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6308640"/>
            <a:ext cx="9144000" cy="260280"/>
            <a:chOff x="0" y="6308640"/>
            <a:chExt cx="9144000" cy="260280"/>
          </a:xfrm>
        </p:grpSpPr>
        <p:sp>
          <p:nvSpPr>
            <p:cNvPr id="74" name=""/>
            <p:cNvSpPr/>
            <p:nvPr/>
          </p:nvSpPr>
          <p:spPr>
            <a:xfrm>
              <a:off x="468360" y="6308640"/>
              <a:ext cx="574560" cy="260280"/>
            </a:xfrm>
            <a:prstGeom prst="rect">
              <a:avLst/>
            </a:prstGeom>
            <a:solidFill>
              <a:srgbClr val="ab7d98">
                <a:alpha val="8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6308640"/>
              <a:ext cx="503280" cy="260280"/>
            </a:xfrm>
            <a:prstGeom prst="rect">
              <a:avLst/>
            </a:prstGeom>
            <a:solidFill>
              <a:srgbClr val="008080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042920" y="6308640"/>
              <a:ext cx="8101080" cy="260280"/>
            </a:xfrm>
            <a:prstGeom prst="rect">
              <a:avLst/>
            </a:prstGeom>
            <a:solidFill>
              <a:srgbClr val="dddddd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252360" y="620640"/>
            <a:ext cx="8640720" cy="64260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006666"/>
              </a:gs>
              <a:gs pos="100000">
                <a:srgbClr val="009999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003c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Регистр сотрудников и денежные выплаты работникам первичного звена в 2009-2010 год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627280" y="31680"/>
            <a:ext cx="6481800" cy="520200"/>
          </a:xfrm>
          <a:prstGeom prst="rect">
            <a:avLst/>
          </a:prstGeom>
          <a:solidFill>
            <a:srgbClr val="008080">
              <a:alpha val="78000"/>
            </a:srgbClr>
          </a:solidFill>
          <a:ln w="0">
            <a:noFill/>
          </a:ln>
          <a:effectLst>
            <a:outerShdw dist="17819" dir="2700000" blurRad="0" rotWithShape="0">
              <a:srgbClr val="00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50fffa"/>
                </a:solidFill>
                <a:latin typeface="Arial"/>
              </a:rPr>
              <a:t>Развитие первичной медико-санитарной помощи и совершенствование профилактики заболева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3168720" y="-63720"/>
            <a:ext cx="215640" cy="720720"/>
          </a:xfrm>
          <a:prstGeom prst="downArrow">
            <a:avLst>
              <a:gd name="adj1" fmla="val 50000"/>
              <a:gd name="adj2" fmla="val 83556"/>
            </a:avLst>
          </a:prstGeom>
          <a:solidFill>
            <a:srgbClr val="00ffff"/>
          </a:solidFill>
          <a:ln w="0">
            <a:noFill/>
          </a:ln>
          <a:effectLst>
            <a:outerShdw dist="17819" dir="2700000" blurRad="0" rotWithShape="0">
              <a:srgbClr val="00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324000" y="1341360"/>
          <a:ext cx="8496000" cy="4934160"/>
        </p:xfrm>
        <a:graphic>
          <a:graphicData uri="http://schemas.openxmlformats.org/drawingml/2006/table">
            <a:tbl>
              <a:tblPr/>
              <a:tblGrid>
                <a:gridCol w="2777760"/>
                <a:gridCol w="1470240"/>
                <a:gridCol w="1368360"/>
                <a:gridCol w="1368360"/>
                <a:gridCol w="1511280"/>
              </a:tblGrid>
              <a:tr h="5479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гистр сотрудников первичного зве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bf2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лановое значение на 2010 год (чел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9 г. /9 мес./ (чел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0 г. /9 мес./ (чел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нежные вы-платы за 9 мес. 2010 г. (тыс.руб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ebf2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</a:tr>
              <a:tr h="52200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40c29"/>
                          </a:solidFill>
                          <a:latin typeface="Arial"/>
                        </a:rPr>
                        <a:t>Число сотрудников участковой службы, в т.ч.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bf2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b2c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40c29"/>
                          </a:solidFill>
                          <a:latin typeface="Arial"/>
                        </a:rPr>
                        <a:t>8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b2c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40c29"/>
                          </a:solidFill>
                          <a:latin typeface="Arial"/>
                        </a:rPr>
                        <a:t>8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b2c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40c29"/>
                          </a:solidFill>
                          <a:latin typeface="Arial"/>
                        </a:rPr>
                        <a:t>8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b2c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40c29"/>
                          </a:solidFill>
                          <a:latin typeface="Arial"/>
                        </a:rPr>
                        <a:t>54 306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ebf2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b2c3">
                        <a:alpha val="50000"/>
                      </a:srgbClr>
                    </a:solidFill>
                  </a:tcPr>
                </a:tc>
              </a:tr>
              <a:tr h="441360">
                <a:tc>
                  <a:txBody>
                    <a:bodyPr lIns="90000" rIns="90000" tIns="0" bIns="0" anchor="ctr">
                      <a:noAutofit/>
                    </a:bodyPr>
                    <a:p>
                      <a:pPr marL="95400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411355"/>
                          </a:solidFill>
                          <a:latin typeface="Arial"/>
                        </a:rPr>
                        <a:t>участковых врачей (терапевтов, педиатров, ВОП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bf2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b1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411355"/>
                          </a:solidFill>
                          <a:latin typeface="Arial"/>
                        </a:rPr>
                        <a:t>4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b1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411355"/>
                          </a:solidFill>
                          <a:latin typeface="Arial"/>
                        </a:rPr>
                        <a:t>4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b1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411355"/>
                          </a:solidFill>
                          <a:latin typeface="Arial"/>
                        </a:rPr>
                        <a:t>4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b1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411355"/>
                          </a:solidFill>
                          <a:latin typeface="Arial"/>
                        </a:rPr>
                        <a:t>36 090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ebf2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b1f9">
                        <a:alpha val="50000"/>
                      </a:srgbClr>
                    </a:solidFill>
                  </a:tcPr>
                </a:tc>
              </a:tr>
              <a:tr h="649440">
                <a:tc>
                  <a:txBody>
                    <a:bodyPr lIns="90000" rIns="90000" tIns="0" bIns="0" anchor="ctr">
                      <a:noAutofit/>
                    </a:bodyPr>
                    <a:p>
                      <a:pPr marL="95400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411355"/>
                          </a:solidFill>
                          <a:latin typeface="Arial"/>
                        </a:rPr>
                        <a:t>медицинских сестер, работающих с названными врачам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bf2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b1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411355"/>
                          </a:solidFill>
                          <a:latin typeface="Arial"/>
                        </a:rPr>
                        <a:t>43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b1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411355"/>
                          </a:solidFill>
                          <a:latin typeface="Arial"/>
                        </a:rPr>
                        <a:t>4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b1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411355"/>
                          </a:solidFill>
                          <a:latin typeface="Arial"/>
                        </a:rPr>
                        <a:t>40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b1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411355"/>
                          </a:solidFill>
                          <a:latin typeface="Arial"/>
                        </a:rPr>
                        <a:t>18 216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ebf2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b1f9">
                        <a:alpha val="50000"/>
                      </a:srgbClr>
                    </a:solidFill>
                  </a:tcPr>
                </a:tc>
              </a:tr>
              <a:tr h="70164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40c29"/>
                          </a:solidFill>
                          <a:latin typeface="Arial"/>
                        </a:rPr>
                        <a:t>Число сотрудников ФАПов и скорой медицинской помощи, в т.ч.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bf2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b2c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40c29"/>
                          </a:solidFill>
                          <a:latin typeface="Arial"/>
                        </a:rPr>
                        <a:t>7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b2c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40c29"/>
                          </a:solidFill>
                          <a:latin typeface="Arial"/>
                        </a:rPr>
                        <a:t>7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b2c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40c29"/>
                          </a:solidFill>
                          <a:latin typeface="Arial"/>
                        </a:rPr>
                        <a:t>7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b2c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40c29"/>
                          </a:solidFill>
                          <a:latin typeface="Arial"/>
                        </a:rPr>
                        <a:t>23 185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ebf2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b2c3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0" bIns="0" anchor="ctr">
                      <a:noAutofit/>
                    </a:bodyPr>
                    <a:p>
                      <a:pPr marL="95400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411355"/>
                          </a:solidFill>
                          <a:latin typeface="Arial"/>
                        </a:rPr>
                        <a:t>работников фельдшерско-акушерских пункто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bf2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b1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411355"/>
                          </a:solidFill>
                          <a:latin typeface="Arial"/>
                        </a:rPr>
                        <a:t>2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b1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411355"/>
                          </a:solidFill>
                          <a:latin typeface="Arial"/>
                        </a:rPr>
                        <a:t>2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b1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411355"/>
                          </a:solidFill>
                          <a:latin typeface="Arial"/>
                        </a:rPr>
                        <a:t>17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b1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411355"/>
                          </a:solidFill>
                          <a:latin typeface="Arial"/>
                        </a:rPr>
                        <a:t>5 597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ebf2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b1f9">
                        <a:alpha val="50000"/>
                      </a:srgbClr>
                    </a:solidFill>
                  </a:tcPr>
                </a:tc>
              </a:tr>
              <a:tr h="513000">
                <a:tc>
                  <a:txBody>
                    <a:bodyPr lIns="90000" rIns="90000" tIns="0" bIns="0" anchor="ctr">
                      <a:noAutofit/>
                    </a:bodyPr>
                    <a:p>
                      <a:pPr marL="95400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411355"/>
                          </a:solidFill>
                          <a:latin typeface="Arial"/>
                        </a:rPr>
                        <a:t>сотрудников скорой медицинской помощ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bf2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b1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411355"/>
                          </a:solidFill>
                          <a:latin typeface="Arial"/>
                        </a:rPr>
                        <a:t>55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b1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411355"/>
                          </a:solidFill>
                          <a:latin typeface="Arial"/>
                        </a:rPr>
                        <a:t>53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b1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411355"/>
                          </a:solidFill>
                          <a:latin typeface="Arial"/>
                        </a:rPr>
                        <a:t>53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b1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411355"/>
                          </a:solidFill>
                          <a:latin typeface="Arial"/>
                        </a:rPr>
                        <a:t>17 588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ebf2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b1f9">
                        <a:alpha val="50000"/>
                      </a:srgbClr>
                    </a:solidFill>
                  </a:tcPr>
                </a:tc>
              </a:tr>
              <a:tr h="51912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840c29"/>
                          </a:solidFill>
                          <a:latin typeface="Arial"/>
                        </a:rPr>
                        <a:t>Итого выплат за 2010 г.        (9 мес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bf2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b2c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b2c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b2c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b2c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840c29"/>
                          </a:solidFill>
                          <a:latin typeface="Arial"/>
                        </a:rPr>
                        <a:t>77 492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ebf2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b2c3">
                        <a:alpha val="50000"/>
                      </a:srgbClr>
                    </a:solidFill>
                  </a:tcPr>
                </a:tc>
              </a:tr>
              <a:tr h="51912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840c29"/>
                          </a:solidFill>
                          <a:latin typeface="Arial"/>
                        </a:rPr>
                        <a:t>Итого выплат за 2009 г.        (9 мес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bf2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ebf2"/>
                      </a:solidFill>
                    </a:lnB>
                    <a:solidFill>
                      <a:srgbClr val="f8b2c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ebf2"/>
                      </a:solidFill>
                    </a:lnB>
                    <a:solidFill>
                      <a:srgbClr val="f8b2c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ebf2"/>
                      </a:solidFill>
                    </a:lnB>
                    <a:solidFill>
                      <a:srgbClr val="f8b2c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ebf2"/>
                      </a:solidFill>
                    </a:lnB>
                    <a:solidFill>
                      <a:srgbClr val="f8b2c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840c29"/>
                          </a:solidFill>
                          <a:latin typeface="Arial"/>
                        </a:rPr>
                        <a:t>74 44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ebf2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ebf2"/>
                      </a:solidFill>
                    </a:lnB>
                    <a:solidFill>
                      <a:srgbClr val="f8b2c3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-17640" y="981000"/>
            <a:ext cx="9180720" cy="541980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6084720" y="2565360"/>
            <a:ext cx="265320" cy="2635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6105600" y="4076640"/>
            <a:ext cx="266760" cy="26208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4"/>
          <a:stretch/>
        </p:blipFill>
        <p:spPr>
          <a:xfrm>
            <a:off x="7093080" y="4581360"/>
            <a:ext cx="264960" cy="2667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5"/>
          <a:stretch/>
        </p:blipFill>
        <p:spPr>
          <a:xfrm>
            <a:off x="2050920" y="3716280"/>
            <a:ext cx="265320" cy="26532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8677800" y="6518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0" y="6308640"/>
            <a:ext cx="9144000" cy="260280"/>
            <a:chOff x="0" y="6308640"/>
            <a:chExt cx="9144000" cy="260280"/>
          </a:xfrm>
        </p:grpSpPr>
        <p:sp>
          <p:nvSpPr>
            <p:cNvPr id="343" name=""/>
            <p:cNvSpPr/>
            <p:nvPr/>
          </p:nvSpPr>
          <p:spPr>
            <a:xfrm>
              <a:off x="468360" y="6308640"/>
              <a:ext cx="574560" cy="260280"/>
            </a:xfrm>
            <a:prstGeom prst="rect">
              <a:avLst/>
            </a:prstGeom>
            <a:solidFill>
              <a:srgbClr val="ab7d98">
                <a:alpha val="8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0" y="6308640"/>
              <a:ext cx="503280" cy="260280"/>
            </a:xfrm>
            <a:prstGeom prst="rect">
              <a:avLst/>
            </a:prstGeom>
            <a:solidFill>
              <a:srgbClr val="008080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042920" y="6308640"/>
              <a:ext cx="8101080" cy="260280"/>
            </a:xfrm>
            <a:prstGeom prst="rect">
              <a:avLst/>
            </a:prstGeom>
            <a:solidFill>
              <a:srgbClr val="dddddd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  <a:effectLst>
            <a:outerShdw dist="17819" dir="2700000" blurRad="0" rotWithShape="0">
              <a:srgbClr val="9872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42920" y="836640"/>
            <a:ext cx="8893080" cy="612360"/>
          </a:xfrm>
          <a:prstGeom prst="rect">
            <a:avLst/>
          </a:prstGeom>
          <a:solidFill>
            <a:srgbClr val="ebb3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660066"/>
                </a:solidFill>
                <a:latin typeface="Arial"/>
              </a:rPr>
              <a:t>Центры здоровья Калининградской области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660066"/>
                </a:solidFill>
                <a:latin typeface="Arial"/>
              </a:rPr>
              <a:t>(субсидия из федерального бюджета – 2993,8 тыс.руб., 3066,3 тыс.руб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90440" y="139680"/>
            <a:ext cx="8764560" cy="69696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5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7"/>
          <a:stretch/>
        </p:blipFill>
        <p:spPr>
          <a:xfrm>
            <a:off x="182520" y="130320"/>
            <a:ext cx="860400" cy="69192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2627280" y="31680"/>
            <a:ext cx="6481800" cy="368280"/>
          </a:xfrm>
          <a:prstGeom prst="rect">
            <a:avLst/>
          </a:prstGeom>
          <a:solidFill>
            <a:srgbClr val="008080">
              <a:alpha val="78000"/>
            </a:srgbClr>
          </a:solidFill>
          <a:ln w="0">
            <a:noFill/>
          </a:ln>
          <a:effectLst>
            <a:outerShdw dist="17819" dir="2700000" blurRad="0" rotWithShape="0">
              <a:srgbClr val="00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0fffa"/>
                </a:solidFill>
                <a:latin typeface="Arial"/>
              </a:rPr>
              <a:t>Формирование здорового образа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rot="16200000">
            <a:off x="3168720" y="-136440"/>
            <a:ext cx="216000" cy="720720"/>
          </a:xfrm>
          <a:prstGeom prst="downArrow">
            <a:avLst>
              <a:gd name="adj1" fmla="val 50000"/>
              <a:gd name="adj2" fmla="val 83417"/>
            </a:avLst>
          </a:prstGeom>
          <a:solidFill>
            <a:srgbClr val="00ffff"/>
          </a:solidFill>
          <a:ln w="0">
            <a:noFill/>
          </a:ln>
          <a:effectLst>
            <a:outerShdw dist="17819" dir="2700000" blurRad="0" rotWithShape="0">
              <a:srgbClr val="00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8"/>
          <a:stretch/>
        </p:blipFill>
        <p:spPr>
          <a:xfrm>
            <a:off x="2195640" y="3738600"/>
            <a:ext cx="264960" cy="26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0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2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  <a:effectLst>
            <a:outerShdw dist="17819" dir="2700000" blurRad="0" rotWithShape="0">
              <a:srgbClr val="9872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95280" y="888840"/>
            <a:ext cx="8424720" cy="520560"/>
          </a:xfrm>
          <a:prstGeom prst="rect">
            <a:avLst/>
          </a:prstGeom>
          <a:solidFill>
            <a:srgbClr val="ebb3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Демографические показат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395280" y="1801800"/>
          <a:ext cx="8362800" cy="4363920"/>
        </p:xfrm>
        <a:graphic>
          <a:graphicData uri="http://schemas.openxmlformats.org/drawingml/2006/table">
            <a:tbl>
              <a:tblPr/>
              <a:tblGrid>
                <a:gridCol w="3529080"/>
                <a:gridCol w="2448000"/>
                <a:gridCol w="2385720"/>
              </a:tblGrid>
              <a:tr h="33984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каза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лининградская область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9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январь-сентябрь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январь-сентябрь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</a:tr>
              <a:tr h="70344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Рождаемост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(на 1000 населения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b2c3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1355"/>
                          </a:solidFill>
                          <a:latin typeface="Arial"/>
                        </a:rPr>
                        <a:t>1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b2c3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1355"/>
                          </a:solidFill>
                          <a:latin typeface="Arial"/>
                        </a:rPr>
                        <a:t>1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b2c3">
                        <a:alpha val="50000"/>
                      </a:srgbClr>
                    </a:solidFill>
                  </a:tcPr>
                </a:tc>
              </a:tr>
              <a:tr h="70164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Младенческая смертность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(на 1000 родившихся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b2c3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1355"/>
                          </a:solidFill>
                          <a:latin typeface="Arial"/>
                        </a:rPr>
                        <a:t>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b2c3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1355"/>
                          </a:solidFill>
                          <a:latin typeface="Arial"/>
                        </a:rPr>
                        <a:t>4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b2c3">
                        <a:alpha val="50000"/>
                      </a:srgbClr>
                    </a:solidFill>
                  </a:tcPr>
                </a:tc>
              </a:tr>
              <a:tr h="70308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Материнская смертность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(на 100 000 родов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b2c3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1355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b2c3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1355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b2c3">
                        <a:alpha val="50000"/>
                      </a:srgbClr>
                    </a:solidFill>
                  </a:tcPr>
                </a:tc>
              </a:tr>
              <a:tr h="70344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Общая смертность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(на 1000 населения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b2c3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1355"/>
                          </a:solidFill>
                          <a:latin typeface="Arial"/>
                        </a:rPr>
                        <a:t>14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b2c3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1355"/>
                          </a:solidFill>
                          <a:latin typeface="Arial"/>
                        </a:rPr>
                        <a:t>14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b2c3">
                        <a:alpha val="50000"/>
                      </a:srgbClr>
                    </a:solidFill>
                  </a:tcPr>
                </a:tc>
              </a:tr>
              <a:tr h="70308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Естественный прирост /убыль/ (на 1000 населения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b2c3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1355"/>
                          </a:solidFill>
                          <a:latin typeface="Arial"/>
                        </a:rPr>
                        <a:t>- 3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b2c3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1355"/>
                          </a:solidFill>
                          <a:latin typeface="Arial"/>
                        </a:rPr>
                        <a:t>- 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b2c3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56" name=""/>
          <p:cNvSpPr/>
          <p:nvPr/>
        </p:nvSpPr>
        <p:spPr>
          <a:xfrm>
            <a:off x="867780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0" y="6308640"/>
            <a:ext cx="9144000" cy="260280"/>
            <a:chOff x="0" y="6308640"/>
            <a:chExt cx="9144000" cy="260280"/>
          </a:xfrm>
        </p:grpSpPr>
        <p:sp>
          <p:nvSpPr>
            <p:cNvPr id="358" name=""/>
            <p:cNvSpPr/>
            <p:nvPr/>
          </p:nvSpPr>
          <p:spPr>
            <a:xfrm>
              <a:off x="468360" y="6308640"/>
              <a:ext cx="574560" cy="260280"/>
            </a:xfrm>
            <a:prstGeom prst="rect">
              <a:avLst/>
            </a:prstGeom>
            <a:solidFill>
              <a:srgbClr val="ab7d98">
                <a:alpha val="8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0" y="6308640"/>
              <a:ext cx="503280" cy="260280"/>
            </a:xfrm>
            <a:prstGeom prst="rect">
              <a:avLst/>
            </a:prstGeom>
            <a:solidFill>
              <a:srgbClr val="008080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042920" y="6308640"/>
              <a:ext cx="8101080" cy="260280"/>
            </a:xfrm>
            <a:prstGeom prst="rect">
              <a:avLst/>
            </a:prstGeom>
            <a:solidFill>
              <a:srgbClr val="dddddd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190440" y="139680"/>
            <a:ext cx="8764560" cy="696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5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179280" y="147600"/>
            <a:ext cx="863640" cy="69552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2627280" y="31680"/>
            <a:ext cx="6481800" cy="368280"/>
          </a:xfrm>
          <a:prstGeom prst="rect">
            <a:avLst/>
          </a:prstGeom>
          <a:solidFill>
            <a:srgbClr val="008080">
              <a:alpha val="78000"/>
            </a:srgbClr>
          </a:solidFill>
          <a:ln w="0">
            <a:noFill/>
          </a:ln>
          <a:effectLst>
            <a:outerShdw dist="17819" dir="2700000" blurRad="0" rotWithShape="0">
              <a:srgbClr val="00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0fffa"/>
                </a:solidFill>
                <a:latin typeface="Arial"/>
              </a:rPr>
              <a:t>Формирование здорового образа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rot="16200000">
            <a:off x="3168720" y="-136440"/>
            <a:ext cx="216000" cy="720720"/>
          </a:xfrm>
          <a:prstGeom prst="downArrow">
            <a:avLst>
              <a:gd name="adj1" fmla="val 50000"/>
              <a:gd name="adj2" fmla="val 83417"/>
            </a:avLst>
          </a:prstGeom>
          <a:solidFill>
            <a:srgbClr val="00ffff"/>
          </a:solidFill>
          <a:ln w="0">
            <a:noFill/>
          </a:ln>
          <a:effectLst>
            <a:outerShdw dist="17819" dir="2700000" blurRad="0" rotWithShape="0">
              <a:srgbClr val="00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8678880" y="6504120"/>
            <a:ext cx="550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351000" y="2639880"/>
          <a:ext cx="8435880" cy="3378240"/>
        </p:xfrm>
        <a:graphic>
          <a:graphicData uri="http://schemas.openxmlformats.org/drawingml/2006/table">
            <a:tbl>
              <a:tblPr/>
              <a:tblGrid>
                <a:gridCol w="1125360"/>
                <a:gridCol w="2224080"/>
                <a:gridCol w="2095560"/>
                <a:gridCol w="1490760"/>
                <a:gridCol w="1500120"/>
              </a:tblGrid>
              <a:tr h="5806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99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beba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-во лиц, имеющих право на государственную социальную помощ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beba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пущено лекарственных средст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9999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eb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дняя стоимость одного рецепта (руб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9999"/>
                      </a:solidFill>
                    </a:lnR>
                    <a:lnT w="1368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beba"/>
                    </a:solidFill>
                  </a:tcPr>
                </a:tc>
              </a:tr>
              <a:tr h="131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-во обслуженных рецептов (шт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beb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мм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тыс. руб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beb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8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716e"/>
                          </a:solidFill>
                          <a:latin typeface="Arial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1368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716e"/>
                          </a:solidFill>
                          <a:latin typeface="Arial"/>
                        </a:rPr>
                        <a:t>319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1368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716e"/>
                          </a:solidFill>
                          <a:latin typeface="Arial"/>
                        </a:rPr>
                        <a:t>2798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1368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716e"/>
                          </a:solidFill>
                          <a:latin typeface="Arial"/>
                        </a:rPr>
                        <a:t>234724,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1368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716e"/>
                          </a:solidFill>
                          <a:latin typeface="Arial"/>
                        </a:rPr>
                        <a:t>838,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1368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13680">
                      <a:solidFill>
                        <a:srgbClr val="0099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7" name=""/>
          <p:cNvSpPr/>
          <p:nvPr/>
        </p:nvSpPr>
        <p:spPr>
          <a:xfrm>
            <a:off x="324000" y="855720"/>
            <a:ext cx="8569080" cy="916920"/>
          </a:xfrm>
          <a:prstGeom prst="rect">
            <a:avLst/>
          </a:prstGeom>
          <a:solidFill>
            <a:srgbClr val="411355">
              <a:alpha val="53000"/>
            </a:srgbClr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беспечение необходимыми лекарственными средствами лиц льготных категорий граждан (федеральных льготников)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а 15.10.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90440" y="139680"/>
            <a:ext cx="8764560" cy="696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5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179280" y="147600"/>
            <a:ext cx="863640" cy="695520"/>
          </a:xfrm>
          <a:prstGeom prst="rect">
            <a:avLst/>
          </a:prstGeom>
          <a:ln w="0">
            <a:noFill/>
          </a:ln>
        </p:spPr>
      </p:pic>
      <p:grpSp>
        <p:nvGrpSpPr>
          <p:cNvPr id="370" name=""/>
          <p:cNvGrpSpPr/>
          <p:nvPr/>
        </p:nvGrpSpPr>
        <p:grpSpPr>
          <a:xfrm>
            <a:off x="0" y="6308640"/>
            <a:ext cx="9144000" cy="260280"/>
            <a:chOff x="0" y="6308640"/>
            <a:chExt cx="9144000" cy="260280"/>
          </a:xfrm>
        </p:grpSpPr>
        <p:sp>
          <p:nvSpPr>
            <p:cNvPr id="371" name=""/>
            <p:cNvSpPr/>
            <p:nvPr/>
          </p:nvSpPr>
          <p:spPr>
            <a:xfrm>
              <a:off x="468360" y="6308640"/>
              <a:ext cx="574560" cy="260280"/>
            </a:xfrm>
            <a:prstGeom prst="rect">
              <a:avLst/>
            </a:prstGeom>
            <a:solidFill>
              <a:srgbClr val="ab7d98">
                <a:alpha val="8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0" y="6308640"/>
              <a:ext cx="503280" cy="260280"/>
            </a:xfrm>
            <a:prstGeom prst="rect">
              <a:avLst/>
            </a:prstGeom>
            <a:solidFill>
              <a:srgbClr val="008080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042920" y="6308640"/>
              <a:ext cx="8101080" cy="260280"/>
            </a:xfrm>
            <a:prstGeom prst="rect">
              <a:avLst/>
            </a:prstGeom>
            <a:solidFill>
              <a:srgbClr val="dddddd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867780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5" name=""/>
          <p:cNvGraphicFramePr/>
          <p:nvPr/>
        </p:nvGraphicFramePr>
        <p:xfrm>
          <a:off x="351000" y="2852640"/>
          <a:ext cx="8435880" cy="3160440"/>
        </p:xfrm>
        <a:graphic>
          <a:graphicData uri="http://schemas.openxmlformats.org/drawingml/2006/table">
            <a:tbl>
              <a:tblPr/>
              <a:tblGrid>
                <a:gridCol w="1125360"/>
                <a:gridCol w="2224080"/>
                <a:gridCol w="2095560"/>
                <a:gridCol w="1490760"/>
                <a:gridCol w="1500120"/>
              </a:tblGrid>
              <a:tr h="5806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99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beba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-во лиц, имеющих право на государственную социальную помощь по Программе 7-ми высокозатратных нозолог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beba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пущено лекарственных средст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9999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eb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дняя стоимость одного рецепта (руб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9999"/>
                      </a:solidFill>
                    </a:lnR>
                    <a:lnT w="1368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beba"/>
                    </a:solidFill>
                  </a:tcPr>
                </a:tc>
              </a:tr>
              <a:tr h="2040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-во обслуженных рецептов (шт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beb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мм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тыс. руб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beb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716e"/>
                          </a:solidFill>
                          <a:latin typeface="Arial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1368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716e"/>
                          </a:solidFill>
                          <a:latin typeface="Arial"/>
                        </a:rPr>
                        <a:t>6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1368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716e"/>
                          </a:solidFill>
                          <a:latin typeface="Arial"/>
                        </a:rPr>
                        <a:t>2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1368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716e"/>
                          </a:solidFill>
                          <a:latin typeface="Arial"/>
                        </a:rPr>
                        <a:t>179483,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1368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716e"/>
                          </a:solidFill>
                          <a:latin typeface="Arial"/>
                        </a:rPr>
                        <a:t>79983,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1368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13680">
                      <a:solidFill>
                        <a:srgbClr val="0099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6" name=""/>
          <p:cNvSpPr/>
          <p:nvPr/>
        </p:nvSpPr>
        <p:spPr>
          <a:xfrm>
            <a:off x="324000" y="855720"/>
            <a:ext cx="8569080" cy="1739880"/>
          </a:xfrm>
          <a:prstGeom prst="rect">
            <a:avLst/>
          </a:prstGeom>
          <a:solidFill>
            <a:srgbClr val="411355">
              <a:alpha val="53000"/>
            </a:srgbClr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еспечение граждан Калининградской области лекарственными средствами, предназначенными для лечения больных гемофилией, муковисцидозом, гипофизарным нанизмом, болезнью Гоше, злокачественными новообразованиями лимфоидной, кроветворной и родственных им тканей, рассеянным склерозом, а также посл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рансплантации органов и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ли) тканей на 15.10.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90440" y="139680"/>
            <a:ext cx="8764560" cy="696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5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2"/>
          <a:stretch/>
        </p:blipFill>
        <p:spPr>
          <a:xfrm>
            <a:off x="179280" y="147600"/>
            <a:ext cx="863640" cy="695520"/>
          </a:xfrm>
          <a:prstGeom prst="rect">
            <a:avLst/>
          </a:prstGeom>
          <a:ln w="0">
            <a:noFill/>
          </a:ln>
        </p:spPr>
      </p:pic>
      <p:grpSp>
        <p:nvGrpSpPr>
          <p:cNvPr id="379" name=""/>
          <p:cNvGrpSpPr/>
          <p:nvPr/>
        </p:nvGrpSpPr>
        <p:grpSpPr>
          <a:xfrm>
            <a:off x="0" y="6308640"/>
            <a:ext cx="9144000" cy="260280"/>
            <a:chOff x="0" y="6308640"/>
            <a:chExt cx="9144000" cy="260280"/>
          </a:xfrm>
        </p:grpSpPr>
        <p:sp>
          <p:nvSpPr>
            <p:cNvPr id="380" name=""/>
            <p:cNvSpPr/>
            <p:nvPr/>
          </p:nvSpPr>
          <p:spPr>
            <a:xfrm>
              <a:off x="468360" y="6308640"/>
              <a:ext cx="574560" cy="260280"/>
            </a:xfrm>
            <a:prstGeom prst="rect">
              <a:avLst/>
            </a:prstGeom>
            <a:solidFill>
              <a:srgbClr val="ab7d98">
                <a:alpha val="8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0" y="6308640"/>
              <a:ext cx="503280" cy="260280"/>
            </a:xfrm>
            <a:prstGeom prst="rect">
              <a:avLst/>
            </a:prstGeom>
            <a:solidFill>
              <a:srgbClr val="008080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042920" y="6308640"/>
              <a:ext cx="8101080" cy="260280"/>
            </a:xfrm>
            <a:prstGeom prst="rect">
              <a:avLst/>
            </a:prstGeom>
            <a:solidFill>
              <a:srgbClr val="dddddd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867780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4" name=""/>
          <p:cNvGraphicFramePr/>
          <p:nvPr/>
        </p:nvGraphicFramePr>
        <p:xfrm>
          <a:off x="351000" y="3043080"/>
          <a:ext cx="8435880" cy="2928960"/>
        </p:xfrm>
        <a:graphic>
          <a:graphicData uri="http://schemas.openxmlformats.org/drawingml/2006/table">
            <a:tbl>
              <a:tblPr/>
              <a:tblGrid>
                <a:gridCol w="1125360"/>
                <a:gridCol w="2224080"/>
                <a:gridCol w="2095560"/>
                <a:gridCol w="1490760"/>
                <a:gridCol w="1500120"/>
              </a:tblGrid>
              <a:tr h="5806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99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beba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-во льготников, имеющих право   на льготное лекарственное обеспечение за счет средств областного бюдже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beba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пущено лекарственных средст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9999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eb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дняя стоимость одного рецепта (руб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9999"/>
                      </a:solidFill>
                    </a:lnR>
                    <a:lnT w="1368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beba"/>
                    </a:solidFill>
                  </a:tcPr>
                </a:tc>
              </a:tr>
              <a:tr h="2040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-во обслуженных рецептов (шт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beb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мм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тыс. руб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beb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716e"/>
                          </a:solidFill>
                          <a:latin typeface="Arial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1368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716e"/>
                          </a:solidFill>
                          <a:latin typeface="Arial"/>
                        </a:rPr>
                        <a:t>45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1368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716e"/>
                          </a:solidFill>
                          <a:latin typeface="Arial"/>
                        </a:rPr>
                        <a:t>729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1368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716e"/>
                          </a:solidFill>
                          <a:latin typeface="Arial"/>
                        </a:rPr>
                        <a:t>59644,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1368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716e"/>
                          </a:solidFill>
                          <a:latin typeface="Arial"/>
                        </a:rPr>
                        <a:t>817,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1368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13680">
                      <a:solidFill>
                        <a:srgbClr val="0099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5" name=""/>
          <p:cNvSpPr/>
          <p:nvPr/>
        </p:nvSpPr>
        <p:spPr>
          <a:xfrm>
            <a:off x="324000" y="855720"/>
            <a:ext cx="8569080" cy="1739880"/>
          </a:xfrm>
          <a:prstGeom prst="rect">
            <a:avLst/>
          </a:prstGeom>
          <a:solidFill>
            <a:srgbClr val="411355">
              <a:alpha val="53000"/>
            </a:srgbClr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беспечение региональных льготников лекарственными средствами за счет областного бюджета в рамках целевой программы «Развитие здравоохранения Калининградской области на период 2008-2012 годов», подпрограммы «Льготные лекарства» и в соответствии с постановлением Правительства РФ от 30.07.1994 № 890 по состоянию  на 15.10.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90440" y="139680"/>
            <a:ext cx="8764560" cy="696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5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179280" y="147600"/>
            <a:ext cx="863640" cy="695520"/>
          </a:xfrm>
          <a:prstGeom prst="rect">
            <a:avLst/>
          </a:prstGeom>
          <a:ln w="0">
            <a:noFill/>
          </a:ln>
        </p:spPr>
      </p:pic>
      <p:grpSp>
        <p:nvGrpSpPr>
          <p:cNvPr id="388" name=""/>
          <p:cNvGrpSpPr/>
          <p:nvPr/>
        </p:nvGrpSpPr>
        <p:grpSpPr>
          <a:xfrm>
            <a:off x="0" y="6308640"/>
            <a:ext cx="9144000" cy="260280"/>
            <a:chOff x="0" y="6308640"/>
            <a:chExt cx="9144000" cy="260280"/>
          </a:xfrm>
        </p:grpSpPr>
        <p:sp>
          <p:nvSpPr>
            <p:cNvPr id="389" name=""/>
            <p:cNvSpPr/>
            <p:nvPr/>
          </p:nvSpPr>
          <p:spPr>
            <a:xfrm>
              <a:off x="468360" y="6308640"/>
              <a:ext cx="574560" cy="260280"/>
            </a:xfrm>
            <a:prstGeom prst="rect">
              <a:avLst/>
            </a:prstGeom>
            <a:solidFill>
              <a:srgbClr val="ab7d98">
                <a:alpha val="8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0" y="6308640"/>
              <a:ext cx="503280" cy="260280"/>
            </a:xfrm>
            <a:prstGeom prst="rect">
              <a:avLst/>
            </a:prstGeom>
            <a:solidFill>
              <a:srgbClr val="008080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042920" y="6308640"/>
              <a:ext cx="8101080" cy="260280"/>
            </a:xfrm>
            <a:prstGeom prst="rect">
              <a:avLst/>
            </a:prstGeom>
            <a:solidFill>
              <a:srgbClr val="dddddd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867780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Прямоугольник 3"/>
          <p:cNvSpPr/>
          <p:nvPr/>
        </p:nvSpPr>
        <p:spPr>
          <a:xfrm>
            <a:off x="0" y="1712880"/>
            <a:ext cx="9144000" cy="4286160"/>
          </a:xfrm>
          <a:prstGeom prst="rect">
            <a:avLst/>
          </a:prstGeom>
          <a:blipFill rotWithShape="0">
            <a:blip r:embed="rId1">
              <a:alphaModFix amt="86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Прямоугольник 4"/>
          <p:cNvSpPr/>
          <p:nvPr/>
        </p:nvSpPr>
        <p:spPr>
          <a:xfrm>
            <a:off x="6516720" y="5950080"/>
            <a:ext cx="1627200" cy="120600"/>
          </a:xfrm>
          <a:prstGeom prst="rect">
            <a:avLst/>
          </a:prstGeom>
          <a:solidFill>
            <a:srgbClr val="ffc000"/>
          </a:solidFill>
          <a:ln w="0">
            <a:noFill/>
          </a:ln>
          <a:effectLst>
            <a:outerShdw dist="17819" dir="2700000" blurRad="0" rotWithShape="0">
              <a:srgbClr val="9872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Прямая соединительная линия 9"/>
          <p:cNvSpPr/>
          <p:nvPr/>
        </p:nvSpPr>
        <p:spPr>
          <a:xfrm>
            <a:off x="539640" y="2421000"/>
            <a:ext cx="0" cy="2808360"/>
          </a:xfrm>
          <a:prstGeom prst="line">
            <a:avLst/>
          </a:prstGeom>
          <a:ln w="22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547640" y="5229360"/>
            <a:ext cx="626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рямоугольник 11"/>
          <p:cNvSpPr/>
          <p:nvPr/>
        </p:nvSpPr>
        <p:spPr>
          <a:xfrm>
            <a:off x="0" y="1712880"/>
            <a:ext cx="9144000" cy="285840"/>
          </a:xfrm>
          <a:prstGeom prst="rect">
            <a:avLst/>
          </a:prstGeom>
          <a:blipFill rotWithShape="0">
            <a:blip r:embed="rId2">
              <a:alphaModFix amt="8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224000" y="1209600"/>
            <a:ext cx="666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Tahoma"/>
              </a:rPr>
              <a:t>МИНИСТЕРСТВО ЗДРАВООХРАНЕНИЯ КАЛИНИНГРАДСКОЙ ОБ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Заголовок 1"/>
          <p:cNvSpPr/>
          <p:nvPr/>
        </p:nvSpPr>
        <p:spPr>
          <a:xfrm>
            <a:off x="1332000" y="342900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СПАСИБО ЗА ВНИМАНИЕ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" descr="Чаша со змеей (эмблема)"/>
          <p:cNvPicPr/>
          <p:nvPr/>
        </p:nvPicPr>
        <p:blipFill>
          <a:blip r:embed="rId3"/>
          <a:srcRect l="3149" t="2142" r="0" b="1058"/>
          <a:stretch/>
        </p:blipFill>
        <p:spPr>
          <a:xfrm>
            <a:off x="611280" y="907920"/>
            <a:ext cx="57600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mph" presetID="3" presetSubtype="2" repeatCount="3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71" dur="2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  <a:effectLst>
            <a:outerShdw dist="17819" dir="2700000" blurRad="0" rotWithShape="0">
              <a:srgbClr val="9872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0920" y="981000"/>
            <a:ext cx="8713800" cy="414000"/>
          </a:xfrm>
          <a:prstGeom prst="rect">
            <a:avLst/>
          </a:prstGeom>
          <a:solidFill>
            <a:srgbClr val="ebb3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660066"/>
                </a:solidFill>
                <a:latin typeface="Arial"/>
              </a:rPr>
              <a:t>Дополнительная иммунизация  населения области в 2010 году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250920" y="1633680"/>
          <a:ext cx="8713800" cy="4387680"/>
        </p:xfrm>
        <a:graphic>
          <a:graphicData uri="http://schemas.openxmlformats.org/drawingml/2006/table">
            <a:tbl>
              <a:tblPr/>
              <a:tblGrid>
                <a:gridCol w="2592360"/>
                <a:gridCol w="2089080"/>
                <a:gridCol w="1368360"/>
                <a:gridCol w="2664000"/>
              </a:tblGrid>
              <a:tr h="5400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 вакцин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лежат вакцинации (категории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 лиц, подлежащих вакцинации (чел.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9 г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0 г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</a:tr>
              <a:tr h="526680">
                <a:tc>
                  <a:txBody>
                    <a:bodyPr lIns="90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40c29"/>
                          </a:solidFill>
                          <a:latin typeface="Arial"/>
                        </a:rPr>
                        <a:t>Полиомиели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b2c3">
                        <a:alpha val="50000"/>
                      </a:srgbClr>
                    </a:solidFill>
                  </a:tcPr>
                </a:tc>
                <a:tc>
                  <a:txBody>
                    <a:bodyPr lIns="90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40c29"/>
                          </a:solidFill>
                          <a:latin typeface="Arial"/>
                        </a:rPr>
                        <a:t>дети до 1 г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b2c3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40c29"/>
                          </a:solidFill>
                          <a:latin typeface="Arial"/>
                        </a:rPr>
                        <a:t>13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b2c3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40c29"/>
                          </a:solidFill>
                          <a:latin typeface="Arial"/>
                        </a:rPr>
                        <a:t>1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b2c3">
                        <a:alpha val="50000"/>
                      </a:srgbClr>
                    </a:solidFill>
                  </a:tcPr>
                </a:tc>
              </a:tr>
              <a:tr h="504360">
                <a:tc>
                  <a:txBody>
                    <a:bodyPr lIns="90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40c29"/>
                          </a:solidFill>
                          <a:latin typeface="Arial"/>
                        </a:rPr>
                        <a:t>Гепатит 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b2c3">
                        <a:alpha val="50000"/>
                      </a:srgbClr>
                    </a:solidFill>
                  </a:tcPr>
                </a:tc>
                <a:tc>
                  <a:txBody>
                    <a:bodyPr lIns="90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40c29"/>
                          </a:solidFill>
                          <a:latin typeface="Arial"/>
                        </a:rPr>
                        <a:t>от 18 до 55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b2c3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40c29"/>
                          </a:solidFill>
                          <a:latin typeface="Arial"/>
                        </a:rPr>
                        <a:t>956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b2c3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40c29"/>
                          </a:solidFill>
                          <a:latin typeface="Arial"/>
                        </a:rPr>
                        <a:t>196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b2c3">
                        <a:alpha val="50000"/>
                      </a:srgbClr>
                    </a:solidFill>
                  </a:tcPr>
                </a:tc>
              </a:tr>
              <a:tr h="832320">
                <a:tc>
                  <a:txBody>
                    <a:bodyPr lIns="90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40c29"/>
                          </a:solidFill>
                          <a:latin typeface="Arial"/>
                        </a:rPr>
                        <a:t>Грип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b2c3">
                        <a:alpha val="50000"/>
                      </a:srgbClr>
                    </a:solidFill>
                  </a:tcPr>
                </a:tc>
                <a:tc>
                  <a:txBody>
                    <a:bodyPr lIns="90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40c29"/>
                          </a:solidFill>
                          <a:latin typeface="Arial"/>
                        </a:rPr>
                        <a:t>дети, подростки, взрослы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40c29"/>
                          </a:solidFill>
                          <a:latin typeface="Arial"/>
                        </a:rPr>
                        <a:t>до 60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b2c3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40c29"/>
                          </a:solidFill>
                          <a:latin typeface="Arial"/>
                        </a:rPr>
                        <a:t>19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b2c3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40c29"/>
                          </a:solidFill>
                          <a:latin typeface="Arial"/>
                        </a:rPr>
                        <a:t>1261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b2c3">
                        <a:alpha val="50000"/>
                      </a:srgbClr>
                    </a:solidFill>
                  </a:tcPr>
                </a:tc>
              </a:tr>
              <a:tr h="807120">
                <a:tc>
                  <a:txBody>
                    <a:bodyPr lIns="90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40c29"/>
                          </a:solidFill>
                          <a:latin typeface="Arial"/>
                        </a:rPr>
                        <a:t>Корь (ранее не привитые в возрасте  до 35 лет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b2c3">
                        <a:alpha val="50000"/>
                      </a:srgbClr>
                    </a:solidFill>
                  </a:tcPr>
                </a:tc>
                <a:tc>
                  <a:txBody>
                    <a:bodyPr lIns="90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b2c3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40c29"/>
                          </a:solidFill>
                          <a:latin typeface="Arial"/>
                        </a:rPr>
                        <a:t>16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b2c3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40c29"/>
                          </a:solidFill>
                          <a:latin typeface="Arial"/>
                        </a:rPr>
                        <a:t>вакцинация вошла в Национальный календарь привив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b2c3">
                        <a:alpha val="50000"/>
                      </a:srgbClr>
                    </a:solidFill>
                  </a:tcPr>
                </a:tc>
              </a:tr>
              <a:tr h="492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6f2092"/>
                          </a:solidFill>
                          <a:latin typeface="Arial"/>
                        </a:rPr>
                        <a:t>ИТОГО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b1f9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6f2092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b1f9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6f2092"/>
                          </a:solidFill>
                          <a:latin typeface="Arial"/>
                        </a:rPr>
                        <a:t>3008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b1f9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6f2092"/>
                          </a:solidFill>
                          <a:latin typeface="Arial"/>
                        </a:rPr>
                        <a:t>1578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b1f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84" name=""/>
          <p:cNvSpPr/>
          <p:nvPr/>
        </p:nvSpPr>
        <p:spPr>
          <a:xfrm>
            <a:off x="8799840" y="649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90440" y="139680"/>
            <a:ext cx="8764560" cy="696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5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79280" y="147600"/>
            <a:ext cx="863640" cy="695520"/>
          </a:xfrm>
          <a:prstGeom prst="rect">
            <a:avLst/>
          </a:prstGeom>
          <a:ln w="0">
            <a:noFill/>
          </a:ln>
        </p:spPr>
      </p:pic>
      <p:grpSp>
        <p:nvGrpSpPr>
          <p:cNvPr id="87" name=""/>
          <p:cNvGrpSpPr/>
          <p:nvPr/>
        </p:nvGrpSpPr>
        <p:grpSpPr>
          <a:xfrm>
            <a:off x="0" y="6308640"/>
            <a:ext cx="9144000" cy="260280"/>
            <a:chOff x="0" y="6308640"/>
            <a:chExt cx="9144000" cy="260280"/>
          </a:xfrm>
        </p:grpSpPr>
        <p:sp>
          <p:nvSpPr>
            <p:cNvPr id="88" name=""/>
            <p:cNvSpPr/>
            <p:nvPr/>
          </p:nvSpPr>
          <p:spPr>
            <a:xfrm>
              <a:off x="468360" y="6308640"/>
              <a:ext cx="574560" cy="260280"/>
            </a:xfrm>
            <a:prstGeom prst="rect">
              <a:avLst/>
            </a:prstGeom>
            <a:solidFill>
              <a:srgbClr val="ab7d98">
                <a:alpha val="8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8640"/>
              <a:ext cx="503280" cy="260280"/>
            </a:xfrm>
            <a:prstGeom prst="rect">
              <a:avLst/>
            </a:prstGeom>
            <a:solidFill>
              <a:srgbClr val="008080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042920" y="6308640"/>
              <a:ext cx="8101080" cy="260280"/>
            </a:xfrm>
            <a:prstGeom prst="rect">
              <a:avLst/>
            </a:prstGeom>
            <a:solidFill>
              <a:srgbClr val="dddddd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2627280" y="31680"/>
            <a:ext cx="6481800" cy="520200"/>
          </a:xfrm>
          <a:prstGeom prst="rect">
            <a:avLst/>
          </a:prstGeom>
          <a:solidFill>
            <a:srgbClr val="008080">
              <a:alpha val="78000"/>
            </a:srgbClr>
          </a:solidFill>
          <a:ln w="0">
            <a:noFill/>
          </a:ln>
          <a:effectLst>
            <a:outerShdw dist="17819" dir="2700000" blurRad="0" rotWithShape="0">
              <a:srgbClr val="00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50fffa"/>
                </a:solidFill>
                <a:latin typeface="Arial"/>
              </a:rPr>
              <a:t>Развитие первичной медико-санитарной помощи и совершенствование профилактики заболева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6200000">
            <a:off x="3168720" y="-63720"/>
            <a:ext cx="215640" cy="720720"/>
          </a:xfrm>
          <a:prstGeom prst="downArrow">
            <a:avLst>
              <a:gd name="adj1" fmla="val 50000"/>
              <a:gd name="adj2" fmla="val 83556"/>
            </a:avLst>
          </a:prstGeom>
          <a:solidFill>
            <a:srgbClr val="00ffff"/>
          </a:solidFill>
          <a:ln w="0">
            <a:noFill/>
          </a:ln>
          <a:effectLst>
            <a:outerShdw dist="17819" dir="2700000" blurRad="0" rotWithShape="0">
              <a:srgbClr val="00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8799840" y="649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00000" y="1844640"/>
            <a:ext cx="7417080" cy="2409480"/>
          </a:xfrm>
          <a:prstGeom prst="rect">
            <a:avLst/>
          </a:prstGeom>
          <a:solidFill>
            <a:srgbClr val="df9dbe">
              <a:alpha val="86000"/>
            </a:srgbClr>
          </a:solidFill>
          <a:ln w="0">
            <a:noFill/>
          </a:ln>
          <a:effectLst>
            <a:outerShdw dist="17819" dir="2700000" blurRad="0" rotWithShape="0">
              <a:srgbClr val="855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ЗАВЕРШЕНА ВАКЦИНАЦИЯ                                                                 ЗА СЧЕТ ПОСТАВОК ВАКЦИНЫ 2009 ГОД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ПРИВИВКАМИ ОХВАЧЕНО                                                              95650 человек                                                                                       (100 % от плана 2009 года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0" y="6308640"/>
            <a:ext cx="9144000" cy="260280"/>
            <a:chOff x="0" y="6308640"/>
            <a:chExt cx="9144000" cy="260280"/>
          </a:xfrm>
        </p:grpSpPr>
        <p:sp>
          <p:nvSpPr>
            <p:cNvPr id="96" name=""/>
            <p:cNvSpPr/>
            <p:nvPr/>
          </p:nvSpPr>
          <p:spPr>
            <a:xfrm>
              <a:off x="468360" y="6308640"/>
              <a:ext cx="574560" cy="260280"/>
            </a:xfrm>
            <a:prstGeom prst="rect">
              <a:avLst/>
            </a:prstGeom>
            <a:solidFill>
              <a:srgbClr val="ab7d98">
                <a:alpha val="8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6308640"/>
              <a:ext cx="503280" cy="260280"/>
            </a:xfrm>
            <a:prstGeom prst="rect">
              <a:avLst/>
            </a:prstGeom>
            <a:solidFill>
              <a:srgbClr val="008080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042920" y="6308640"/>
              <a:ext cx="8101080" cy="260280"/>
            </a:xfrm>
            <a:prstGeom prst="rect">
              <a:avLst/>
            </a:prstGeom>
            <a:solidFill>
              <a:srgbClr val="dddddd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252360" y="155520"/>
            <a:ext cx="8640720" cy="88596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006666"/>
              </a:gs>
              <a:gs pos="100000">
                <a:srgbClr val="009999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003c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cc00"/>
                </a:solidFill>
                <a:latin typeface="Arial"/>
              </a:rPr>
              <a:t>Вакцинация взрослого населения                   против гепатита 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804000" y="4941720"/>
            <a:ext cx="1247760" cy="95580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df9dbe">
                <a:alpha val="50000"/>
              </a:srgbClr>
            </a:outerShdw>
          </a:effectLst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116000" y="4941720"/>
            <a:ext cx="1380960" cy="99252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df9dbe">
                <a:alpha val="50000"/>
              </a:srgbClr>
            </a:outerShdw>
          </a:effectLst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3851280" y="5014800"/>
            <a:ext cx="1368360" cy="91296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df9dbe">
                <a:alpha val="50000"/>
              </a:srgbClr>
            </a:outerShdw>
          </a:effectLst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799840" y="649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00000" y="1989000"/>
            <a:ext cx="7307280" cy="3277800"/>
          </a:xfrm>
          <a:prstGeom prst="rect">
            <a:avLst/>
          </a:prstGeom>
          <a:solidFill>
            <a:srgbClr val="df9dbe">
              <a:alpha val="86000"/>
            </a:srgbClr>
          </a:solidFill>
          <a:ln w="0">
            <a:noFill/>
          </a:ln>
          <a:effectLst>
            <a:outerShdw dist="17819" dir="2700000" blurRad="0" rotWithShape="0">
              <a:srgbClr val="855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ВАКЦИНАЦИЯ ИНАКТИВИРОВАННОЙ ВАКЦИНОЙ ОСУЩЕСТВЛЯЕТСЯ В ПЛАНОВОМ ПОРЯДКЕ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ПОДЛЕЖАЛО ТРЕХКРАТНОЙ ВАКЦИНАЦИИ 7828 РОДИВШИХСЯ ДЕТЕЙ, ИЗ НИХ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1-ю  ВАКЦИНАЦИЮ ПОЛУЧИЛИ 7629 (97,5 %)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2-ю И 3-ю ВАКЦИНАЦИЮ ПО ДОСТИЖЕНИИ ВОЗРАСТА СООТВЕТСТВЕННО 7213 и 7385 ДЕТЕЙ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0" y="6308640"/>
            <a:ext cx="9144000" cy="260280"/>
            <a:chOff x="0" y="6308640"/>
            <a:chExt cx="9144000" cy="260280"/>
          </a:xfrm>
        </p:grpSpPr>
        <p:sp>
          <p:nvSpPr>
            <p:cNvPr id="106" name=""/>
            <p:cNvSpPr/>
            <p:nvPr/>
          </p:nvSpPr>
          <p:spPr>
            <a:xfrm>
              <a:off x="468360" y="6308640"/>
              <a:ext cx="574560" cy="260280"/>
            </a:xfrm>
            <a:prstGeom prst="rect">
              <a:avLst/>
            </a:prstGeom>
            <a:solidFill>
              <a:srgbClr val="ab7d98">
                <a:alpha val="8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0" y="6308640"/>
              <a:ext cx="503280" cy="260280"/>
            </a:xfrm>
            <a:prstGeom prst="rect">
              <a:avLst/>
            </a:prstGeom>
            <a:solidFill>
              <a:srgbClr val="008080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042920" y="6308640"/>
              <a:ext cx="8101080" cy="260280"/>
            </a:xfrm>
            <a:prstGeom prst="rect">
              <a:avLst/>
            </a:prstGeom>
            <a:solidFill>
              <a:srgbClr val="dddddd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52360" y="155520"/>
            <a:ext cx="8640720" cy="8251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006666"/>
              </a:gs>
              <a:gs pos="100000">
                <a:srgbClr val="009999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003c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cc00"/>
                </a:solidFill>
                <a:latin typeface="Arial"/>
              </a:rPr>
              <a:t>Вакцинация детей против полиомиелита                </a:t>
            </a: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(в возрасте 1 месяц, 1.5 и 6 месяцев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  <a:effectLst>
            <a:outerShdw dist="17819" dir="2700000" blurRad="0" rotWithShape="0">
              <a:srgbClr val="9872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1052640"/>
            <a:ext cx="8713800" cy="414000"/>
          </a:xfrm>
          <a:prstGeom prst="rect">
            <a:avLst/>
          </a:prstGeom>
          <a:solidFill>
            <a:srgbClr val="ebb3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660066"/>
                </a:solidFill>
                <a:latin typeface="Arial"/>
              </a:rPr>
              <a:t>Вакцинация населения против гриппа в 2010 году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538200" y="1874880"/>
          <a:ext cx="8066160" cy="4217760"/>
        </p:xfrm>
        <a:graphic>
          <a:graphicData uri="http://schemas.openxmlformats.org/drawingml/2006/table">
            <a:tbl>
              <a:tblPr/>
              <a:tblGrid>
                <a:gridCol w="2406600"/>
                <a:gridCol w="1271520"/>
                <a:gridCol w="1270080"/>
                <a:gridCol w="1271520"/>
                <a:gridCol w="1846440"/>
              </a:tblGrid>
              <a:tr h="1258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    вакцин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лан,  человек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ступило, доз вакцин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вито, человек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выполнения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 поставленной вакцин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</a:tr>
              <a:tr h="795600">
                <a:tc>
                  <a:txBody>
                    <a:bodyPr lIns="90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840c29"/>
                          </a:solidFill>
                          <a:latin typeface="Arial"/>
                        </a:rPr>
                        <a:t>Гриппол-плюс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b2c3">
                        <a:alpha val="50000"/>
                      </a:srgbClr>
                    </a:solidFill>
                  </a:tcPr>
                </a:tc>
                <a:tc>
                  <a:txBody>
                    <a:bodyPr lIns="9000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840c29"/>
                          </a:solidFill>
                          <a:latin typeface="Arial"/>
                        </a:rPr>
                        <a:t>3230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b2c3">
                        <a:alpha val="50000"/>
                      </a:srgbClr>
                    </a:solidFill>
                  </a:tcPr>
                </a:tc>
                <a:tc>
                  <a:txBody>
                    <a:bodyPr lIns="9000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840c29"/>
                          </a:solidFill>
                          <a:latin typeface="Arial"/>
                        </a:rPr>
                        <a:t>382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b2c3">
                        <a:alpha val="50000"/>
                      </a:srgbClr>
                    </a:solidFill>
                  </a:tcPr>
                </a:tc>
                <a:tc>
                  <a:txBody>
                    <a:bodyPr lIns="9000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840c29"/>
                          </a:solidFill>
                          <a:latin typeface="Arial"/>
                        </a:rPr>
                        <a:t>18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b2c3">
                        <a:alpha val="50000"/>
                      </a:srgbClr>
                    </a:solidFill>
                  </a:tcPr>
                </a:tc>
                <a:tc>
                  <a:txBody>
                    <a:bodyPr lIns="9000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840c29"/>
                          </a:solidFill>
                          <a:latin typeface="Arial"/>
                        </a:rPr>
                        <a:t>45,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b2c3">
                        <a:alpha val="50000"/>
                      </a:srgbClr>
                    </a:solidFill>
                  </a:tcPr>
                </a:tc>
              </a:tr>
              <a:tr h="760320">
                <a:tc>
                  <a:txBody>
                    <a:bodyPr lIns="90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840c29"/>
                          </a:solidFill>
                          <a:latin typeface="Arial"/>
                        </a:rPr>
                        <a:t>Гриппол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b2c3">
                        <a:alpha val="50000"/>
                      </a:srgbClr>
                    </a:solidFill>
                  </a:tcPr>
                </a:tc>
                <a:tc>
                  <a:txBody>
                    <a:bodyPr lIns="9000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840c29"/>
                          </a:solidFill>
                          <a:latin typeface="Arial"/>
                        </a:rPr>
                        <a:t>9387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b2c3">
                        <a:alpha val="50000"/>
                      </a:srgbClr>
                    </a:solidFill>
                  </a:tcPr>
                </a:tc>
                <a:tc>
                  <a:txBody>
                    <a:bodyPr lIns="9000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840c29"/>
                          </a:solidFill>
                          <a:latin typeface="Arial"/>
                        </a:rPr>
                        <a:t>9387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b2c3">
                        <a:alpha val="50000"/>
                      </a:srgbClr>
                    </a:solidFill>
                  </a:tcPr>
                </a:tc>
                <a:tc>
                  <a:txBody>
                    <a:bodyPr lIns="9000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840c29"/>
                          </a:solidFill>
                          <a:latin typeface="Arial"/>
                        </a:rPr>
                        <a:t>12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b2c3">
                        <a:alpha val="50000"/>
                      </a:srgbClr>
                    </a:solidFill>
                  </a:tcPr>
                </a:tc>
                <a:tc>
                  <a:txBody>
                    <a:bodyPr lIns="9000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840c29"/>
                          </a:solidFill>
                          <a:latin typeface="Arial"/>
                        </a:rPr>
                        <a:t>1,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b2c3">
                        <a:alpha val="50000"/>
                      </a:srgbClr>
                    </a:solidFill>
                  </a:tcPr>
                </a:tc>
              </a:tr>
              <a:tr h="986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700" spc="-1" strike="noStrike">
                          <a:solidFill>
                            <a:srgbClr val="6f2092"/>
                          </a:solidFill>
                          <a:latin typeface="Arial"/>
                        </a:rPr>
                        <a:t>ИТОГО: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b1f9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700" spc="-1" strike="noStrike">
                          <a:solidFill>
                            <a:srgbClr val="6f2092"/>
                          </a:solidFill>
                          <a:latin typeface="Arial"/>
                        </a:rPr>
                        <a:t>12617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b1f9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700" spc="-1" strike="noStrike">
                          <a:solidFill>
                            <a:srgbClr val="6f2092"/>
                          </a:solidFill>
                          <a:latin typeface="Arial"/>
                        </a:rPr>
                        <a:t>9769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b1f9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700" spc="-1" strike="noStrike">
                          <a:solidFill>
                            <a:srgbClr val="6f2092"/>
                          </a:solidFill>
                          <a:latin typeface="Arial"/>
                        </a:rPr>
                        <a:t>3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b1f9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700" spc="-1" strike="noStrike">
                          <a:solidFill>
                            <a:srgbClr val="6f2092"/>
                          </a:solidFill>
                          <a:latin typeface="Arial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b1f9">
                        <a:alpha val="50000"/>
                      </a:srgbClr>
                    </a:solidFill>
                  </a:tcPr>
                </a:tc>
              </a:tr>
              <a:tr h="416880">
                <a:tc grid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8799840" y="649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90440" y="139680"/>
            <a:ext cx="8764560" cy="696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5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79280" y="147600"/>
            <a:ext cx="863640" cy="69552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0" y="6308640"/>
            <a:ext cx="9144000" cy="260280"/>
            <a:chOff x="0" y="6308640"/>
            <a:chExt cx="9144000" cy="260280"/>
          </a:xfrm>
        </p:grpSpPr>
        <p:sp>
          <p:nvSpPr>
            <p:cNvPr id="117" name=""/>
            <p:cNvSpPr/>
            <p:nvPr/>
          </p:nvSpPr>
          <p:spPr>
            <a:xfrm>
              <a:off x="468360" y="6308640"/>
              <a:ext cx="574560" cy="260280"/>
            </a:xfrm>
            <a:prstGeom prst="rect">
              <a:avLst/>
            </a:prstGeom>
            <a:solidFill>
              <a:srgbClr val="ab7d98">
                <a:alpha val="8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0" y="6308640"/>
              <a:ext cx="503280" cy="260280"/>
            </a:xfrm>
            <a:prstGeom prst="rect">
              <a:avLst/>
            </a:prstGeom>
            <a:solidFill>
              <a:srgbClr val="008080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042920" y="6308640"/>
              <a:ext cx="8101080" cy="260280"/>
            </a:xfrm>
            <a:prstGeom prst="rect">
              <a:avLst/>
            </a:prstGeom>
            <a:solidFill>
              <a:srgbClr val="dddddd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2627280" y="31680"/>
            <a:ext cx="6481800" cy="520200"/>
          </a:xfrm>
          <a:prstGeom prst="rect">
            <a:avLst/>
          </a:prstGeom>
          <a:solidFill>
            <a:srgbClr val="008080">
              <a:alpha val="78000"/>
            </a:srgbClr>
          </a:solidFill>
          <a:ln w="0">
            <a:noFill/>
          </a:ln>
          <a:effectLst>
            <a:outerShdw dist="17819" dir="2700000" blurRad="0" rotWithShape="0">
              <a:srgbClr val="00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50fffa"/>
                </a:solidFill>
                <a:latin typeface="Arial"/>
              </a:rPr>
              <a:t>Развитие первичной медико-санитарной помощи и совершенствование профилактики заболева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6200000">
            <a:off x="3168720" y="-63720"/>
            <a:ext cx="215640" cy="720720"/>
          </a:xfrm>
          <a:prstGeom prst="downArrow">
            <a:avLst>
              <a:gd name="adj1" fmla="val 50000"/>
              <a:gd name="adj2" fmla="val 83556"/>
            </a:avLst>
          </a:prstGeom>
          <a:solidFill>
            <a:srgbClr val="00ffff"/>
          </a:solidFill>
          <a:ln w="0">
            <a:noFill/>
          </a:ln>
          <a:effectLst>
            <a:outerShdw dist="17819" dir="2700000" blurRad="0" rotWithShape="0">
              <a:srgbClr val="00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8799840" y="649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0" y="6308640"/>
            <a:ext cx="9144000" cy="260280"/>
            <a:chOff x="0" y="6308640"/>
            <a:chExt cx="9144000" cy="260280"/>
          </a:xfrm>
        </p:grpSpPr>
        <p:sp>
          <p:nvSpPr>
            <p:cNvPr id="124" name=""/>
            <p:cNvSpPr/>
            <p:nvPr/>
          </p:nvSpPr>
          <p:spPr>
            <a:xfrm>
              <a:off x="468360" y="6308640"/>
              <a:ext cx="574560" cy="260280"/>
            </a:xfrm>
            <a:prstGeom prst="rect">
              <a:avLst/>
            </a:prstGeom>
            <a:solidFill>
              <a:srgbClr val="ab7d98">
                <a:alpha val="8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6308640"/>
              <a:ext cx="503280" cy="260280"/>
            </a:xfrm>
            <a:prstGeom prst="rect">
              <a:avLst/>
            </a:prstGeom>
            <a:solidFill>
              <a:srgbClr val="008080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042920" y="6308640"/>
              <a:ext cx="8101080" cy="260280"/>
            </a:xfrm>
            <a:prstGeom prst="rect">
              <a:avLst/>
            </a:prstGeom>
            <a:solidFill>
              <a:srgbClr val="dddddd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252360" y="155520"/>
            <a:ext cx="8640720" cy="764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006666"/>
              </a:gs>
              <a:gs pos="100000">
                <a:srgbClr val="009999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003c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Сравнительная таблица численности пациентов                    с ВИЧ-инфекцией за 2009 – 2010 год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68360" y="1382760"/>
          <a:ext cx="8280360" cy="4335480"/>
        </p:xfrm>
        <a:graphic>
          <a:graphicData uri="http://schemas.openxmlformats.org/drawingml/2006/table">
            <a:tbl>
              <a:tblPr/>
              <a:tblGrid>
                <a:gridCol w="5349960"/>
                <a:gridCol w="1465200"/>
                <a:gridCol w="1465200"/>
              </a:tblGrid>
              <a:tr h="50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bf2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9 г.               (на 01 октябр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0 г.              (на 01 октябр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ebf2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11355">
                        <a:alpha val="50000"/>
                      </a:srgbClr>
                    </a:solidFill>
                  </a:tcPr>
                </a:tc>
              </a:tr>
              <a:tr h="52200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40c29"/>
                          </a:solidFill>
                          <a:latin typeface="Arial"/>
                        </a:rPr>
                        <a:t>В области проживает ВИЧ-инфицированных (чел.), в т.ч.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bf2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b2c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40c29"/>
                          </a:solidFill>
                          <a:latin typeface="Arial"/>
                        </a:rPr>
                        <a:t>40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b2c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40c29"/>
                          </a:solidFill>
                          <a:latin typeface="Arial"/>
                        </a:rPr>
                        <a:t>38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ebf2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b2c3">
                        <a:alpha val="50000"/>
                      </a:srgbClr>
                    </a:solidFill>
                  </a:tcPr>
                </a:tc>
              </a:tr>
              <a:tr h="441360">
                <a:tc>
                  <a:txBody>
                    <a:bodyPr lIns="90000" rIns="90000" tIns="0" bIns="0" anchor="ctr">
                      <a:noAutofit/>
                    </a:bodyPr>
                    <a:p>
                      <a:pPr marL="95400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411355"/>
                          </a:solidFill>
                          <a:latin typeface="Arial"/>
                        </a:rPr>
                        <a:t>- в муниципальных образован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bf2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b1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411355"/>
                          </a:solidFill>
                          <a:latin typeface="Arial"/>
                        </a:rPr>
                        <a:t>34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b1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411355"/>
                          </a:solidFill>
                          <a:latin typeface="Arial"/>
                        </a:rPr>
                        <a:t>342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ebf2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b1f9">
                        <a:alpha val="50000"/>
                      </a:srgbClr>
                    </a:solidFill>
                  </a:tcPr>
                </a:tc>
              </a:tr>
              <a:tr h="648720">
                <a:tc>
                  <a:txBody>
                    <a:bodyPr lIns="90000" rIns="90000" tIns="0" bIns="0" anchor="ctr">
                      <a:noAutofit/>
                    </a:bodyPr>
                    <a:p>
                      <a:pPr marL="272880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411355"/>
                          </a:solidFill>
                          <a:latin typeface="Arial"/>
                        </a:rPr>
                        <a:t>из них состоит на диспансерном учет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bf2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b1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411355"/>
                          </a:solidFill>
                          <a:latin typeface="Arial"/>
                        </a:rPr>
                        <a:t>3167            (91,5 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b1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411355"/>
                          </a:solidFill>
                          <a:latin typeface="Arial"/>
                        </a:rPr>
                        <a:t>3172            (92,8 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ebf2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b1f9">
                        <a:alpha val="50000"/>
                      </a:srgbClr>
                    </a:solidFill>
                  </a:tcPr>
                </a:tc>
              </a:tr>
              <a:tr h="504720">
                <a:tc>
                  <a:txBody>
                    <a:bodyPr lIns="90000" rIns="90000" tIns="0" bIns="0" anchor="ctr">
                      <a:noAutofit/>
                    </a:bodyPr>
                    <a:p>
                      <a:pPr marL="95400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411355"/>
                          </a:solidFill>
                          <a:latin typeface="Arial"/>
                        </a:rPr>
                        <a:t>- в системе УФСИН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bf2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b1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411355"/>
                          </a:solidFill>
                          <a:latin typeface="Arial"/>
                        </a:rPr>
                        <a:t>4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b1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411355"/>
                          </a:solidFill>
                          <a:latin typeface="Arial"/>
                        </a:rPr>
                        <a:t>4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ebf2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b1f9">
                        <a:alpha val="50000"/>
                      </a:srgbClr>
                    </a:solidFill>
                  </a:tcPr>
                </a:tc>
              </a:tr>
              <a:tr h="512280">
                <a:tc>
                  <a:txBody>
                    <a:bodyPr lIns="90000" rIns="90000" tIns="0" bIns="0" anchor="ctr">
                      <a:noAutofit/>
                    </a:bodyPr>
                    <a:p>
                      <a:pPr marL="95400">
                        <a:spcBef>
                          <a:spcPts val="326"/>
                        </a:spcBef>
                        <a:buClr>
                          <a:srgbClr val="411355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411355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300" spc="-1" strike="noStrike">
                          <a:solidFill>
                            <a:srgbClr val="411355"/>
                          </a:solidFill>
                          <a:latin typeface="Arial"/>
                        </a:rPr>
                        <a:t>БОМЖ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bf2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b1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411355"/>
                          </a:solidFill>
                          <a:latin typeface="Arial"/>
                        </a:rPr>
                        <a:t>12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b1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411355"/>
                          </a:solidFill>
                          <a:latin typeface="Arial"/>
                        </a:rPr>
                        <a:t>2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ebf2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b1f9">
                        <a:alpha val="50000"/>
                      </a:srgbClr>
                    </a:solidFill>
                  </a:tcPr>
                </a:tc>
              </a:tr>
              <a:tr h="51876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840c29"/>
                          </a:solidFill>
                          <a:latin typeface="Arial"/>
                        </a:rPr>
                        <a:t>Подлежат противовирусной терап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bf2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b2c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840c29"/>
                          </a:solidFill>
                          <a:latin typeface="Arial"/>
                        </a:rPr>
                        <a:t>7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b2c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840c29"/>
                          </a:solidFill>
                          <a:latin typeface="Arial"/>
                        </a:rPr>
                        <a:t>10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ebf2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b2c3">
                        <a:alpha val="50000"/>
                      </a:srgbClr>
                    </a:solidFill>
                  </a:tcPr>
                </a:tc>
              </a:tr>
              <a:tr h="68400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840c29"/>
                          </a:solidFill>
                          <a:latin typeface="Arial"/>
                        </a:rPr>
                        <a:t>Получают леч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bf2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ebf2"/>
                      </a:solidFill>
                    </a:lnB>
                    <a:solidFill>
                      <a:srgbClr val="f8b2c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840c29"/>
                          </a:solidFill>
                          <a:latin typeface="Arial"/>
                        </a:rPr>
                        <a:t>777               (97 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ebf2"/>
                      </a:solidFill>
                    </a:lnB>
                    <a:solidFill>
                      <a:srgbClr val="f8b2c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840c29"/>
                          </a:solidFill>
                          <a:latin typeface="Arial"/>
                        </a:rPr>
                        <a:t>919               (89 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ebf2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ebf2"/>
                      </a:solidFill>
                    </a:lnB>
                    <a:solidFill>
                      <a:srgbClr val="f8b2c3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8799840" y="649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9640" y="1916280"/>
            <a:ext cx="8064720" cy="3567240"/>
          </a:xfrm>
          <a:prstGeom prst="rect">
            <a:avLst/>
          </a:prstGeom>
          <a:solidFill>
            <a:srgbClr val="df9dbe">
              <a:alpha val="86000"/>
            </a:srgbClr>
          </a:solidFill>
          <a:ln w="0">
            <a:noFill/>
          </a:ln>
          <a:effectLst>
            <a:outerShdw dist="17819" dir="2700000" blurRad="0" rotWithShape="0">
              <a:srgbClr val="855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cc66"/>
                </a:solidFill>
                <a:latin typeface="Arial"/>
              </a:rPr>
              <a:t>НИЖЕ, ЧЕМ  В СРЕДНЕМ ПО ОБЛАСТИ,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 ОХВАТ ДИСПАНСЕРНЫМ НАБЛЮДЕНИЕМ в Пионерском (87,0 %), Ладушкинском (87,5 %), Неманском (85,5 %), районах                                                      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cc66"/>
                </a:solidFill>
                <a:latin typeface="Arial"/>
              </a:rPr>
              <a:t>НИЖЕ 70 %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 ОХВАТ ЛАБОРАТОРНЫМ ОБСЛЕДОВАНИЕМ В          г. Калининграде (51,1 %), Черняховском районе (65,8 %), Пионерском (55,7 %), Янтарном (62,5 %) городских округах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0" y="6308640"/>
            <a:ext cx="9144000" cy="260280"/>
            <a:chOff x="0" y="6308640"/>
            <a:chExt cx="9144000" cy="260280"/>
          </a:xfrm>
        </p:grpSpPr>
        <p:sp>
          <p:nvSpPr>
            <p:cNvPr id="132" name=""/>
            <p:cNvSpPr/>
            <p:nvPr/>
          </p:nvSpPr>
          <p:spPr>
            <a:xfrm>
              <a:off x="468360" y="6308640"/>
              <a:ext cx="574560" cy="260280"/>
            </a:xfrm>
            <a:prstGeom prst="rect">
              <a:avLst/>
            </a:prstGeom>
            <a:solidFill>
              <a:srgbClr val="ab7d98">
                <a:alpha val="8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0" y="6308640"/>
              <a:ext cx="503280" cy="260280"/>
            </a:xfrm>
            <a:prstGeom prst="rect">
              <a:avLst/>
            </a:prstGeom>
            <a:solidFill>
              <a:srgbClr val="008080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042920" y="6308640"/>
              <a:ext cx="8101080" cy="260280"/>
            </a:xfrm>
            <a:prstGeom prst="rect">
              <a:avLst/>
            </a:prstGeom>
            <a:solidFill>
              <a:srgbClr val="dddddd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252360" y="155520"/>
            <a:ext cx="8640720" cy="88596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006666"/>
              </a:gs>
              <a:gs pos="100000">
                <a:srgbClr val="009999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003c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cc00"/>
                </a:solidFill>
                <a:latin typeface="Arial"/>
              </a:rPr>
              <a:t>Количество ВИЧ-инфицированных,         состоящих на диспансерном учет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12:32:32Z</dcterms:created>
  <dc:creator>TFOMS</dc:creator>
  <dc:description/>
  <dc:language>en-US</dc:language>
  <cp:lastModifiedBy>Маскевич</cp:lastModifiedBy>
  <dcterms:modified xsi:type="dcterms:W3CDTF">2010-10-25T13:37:40Z</dcterms:modified>
  <cp:revision>944</cp:revision>
  <dc:subject/>
  <dc:title>Слайд 1</dc:title>
</cp:coreProperties>
</file>