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26.wmf" ContentType="image/x-wmf"/>
  <Override PartName="/ppt/media/image14.png" ContentType="image/png"/>
  <Override PartName="/ppt/media/image10.jpeg" ContentType="image/jpeg"/>
  <Override PartName="/ppt/media/image54.wmf" ContentType="image/x-wmf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8.wmf" ContentType="image/x-wmf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16.wmf" ContentType="image/x-wmf"/>
  <Override PartName="/ppt/media/image55.png" ContentType="image/png"/>
  <Override PartName="/ppt/media/image8.png" ContentType="image/png"/>
  <Override PartName="/ppt/media/image41.wmf" ContentType="image/x-wmf"/>
  <Override PartName="/ppt/media/image43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50.wmf" ContentType="image/x-wmf"/>
  <Override PartName="/ppt/media/image5.png" ContentType="image/png"/>
  <Override PartName="/ppt/media/image49.wmf" ContentType="image/x-wmf"/>
  <Override PartName="/ppt/media/image51.wmf" ContentType="image/x-wmf"/>
  <Override PartName="/ppt/media/image52.png" ContentType="image/png"/>
  <Override PartName="/ppt/media/image35.wmf" ContentType="image/x-wmf"/>
  <Override PartName="/ppt/media/image53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56.wmf" ContentType="image/x-wmf"/>
  <Override PartName="/ppt/media/image58.jpeg" ContentType="image/jpeg"/>
  <Override PartName="/ppt/media/image39.wmf" ContentType="image/x-wmf"/>
  <Override PartName="/ppt/media/image42.png" ContentType="image/png"/>
  <Override PartName="/ppt/media/image23.wmf" ContentType="image/x-wmf"/>
  <Override PartName="/ppt/media/image40.png" ContentType="image/png"/>
  <Override PartName="/ppt/media/image38.wmf" ContentType="image/x-wmf"/>
  <Override PartName="/ppt/media/image7.jpeg" ContentType="image/jpeg"/>
  <Override PartName="/ppt/media/image37.wmf" ContentType="image/x-wmf"/>
  <Override PartName="/ppt/media/image36.wmf" ContentType="image/x-wmf"/>
  <Override PartName="/ppt/media/image29.jpeg" ContentType="image/jpeg"/>
  <Override PartName="/ppt/media/image33.wmf" ContentType="image/x-wmf"/>
  <Override PartName="/ppt/media/image9.png" ContentType="image/png"/>
  <Override PartName="/ppt/media/image20.png" ContentType="image/png"/>
  <Override PartName="/ppt/media/image5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20520" y="749160"/>
            <a:ext cx="4989240" cy="374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40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5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6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2F659-50A7-4F34-9B8D-8C161D75C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68560" y="9477360"/>
            <a:ext cx="296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458151-1DC4-4CBB-B8B6-71C92CDA4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8800" y="75096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B6C-15AF-4366-A3C2-B60CCD24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BE7-9E79-4E08-B10D-EF57A2E7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AB8-DD52-4CE5-A90F-90925E81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D62-833A-40A4-85C5-529CE2B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776-F908-4AF6-9100-C1C29F3A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D8C-BF77-442B-8007-340DE2C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AFB-5444-4033-84E2-5E69C3CF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7E-96D5-4A3D-89C7-F4F7B70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0AF-5FD1-4CE8-A26C-3A0A6472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12B-8B17-445C-8B5C-03B2661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82-7F5C-4E88-B0E6-909015C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791-F145-4C7A-8BCE-2D3580D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0AFC-8BA8-4149-8325-76DEFFB6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-720" y="0"/>
            <a:ext cx="1631880" cy="81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5760" y="0"/>
            <a:ext cx="7518240" cy="826920"/>
          </a:xfrm>
          <a:prstGeom prst="rect">
            <a:avLst/>
          </a:prstGeom>
          <a:gradFill rotWithShape="0">
            <a:gsLst>
              <a:gs pos="0">
                <a:srgbClr val="007878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2520" y="0"/>
            <a:ext cx="7521480" cy="2253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2560" y="822240"/>
            <a:ext cx="271440" cy="6035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99160"/>
            <a:ext cx="9144000" cy="258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22240"/>
            <a:ext cx="271440" cy="6035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83880" y="6645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0" y="817560"/>
            <a:ext cx="914400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4960" y="819000"/>
            <a:ext cx="0" cy="576288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22160" y="228600"/>
            <a:ext cx="752148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620360" y="0"/>
            <a:ext cx="3240" cy="8208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6591240"/>
            <a:ext cx="8609040" cy="126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875800" y="818640"/>
            <a:ext cx="0" cy="578196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04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04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b0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77777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77777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77777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-720" y="0"/>
            <a:ext cx="2158920" cy="662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765760"/>
            <a:ext cx="1523880" cy="10922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5772240"/>
            <a:ext cx="0" cy="108576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620120" y="5410080"/>
            <a:ext cx="0" cy="144792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637320"/>
            <a:ext cx="914400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080" y="6637320"/>
            <a:ext cx="2509920" cy="22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15080" y="6637320"/>
            <a:ext cx="1528920" cy="22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0"/>
            <a:ext cx="6997680" cy="1052640"/>
          </a:xfrm>
          <a:prstGeom prst="rect">
            <a:avLst/>
          </a:prstGeom>
          <a:gradFill rotWithShape="0">
            <a:gsLst>
              <a:gs pos="0">
                <a:srgbClr val="8c8c8c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58920" y="0"/>
            <a:ext cx="6985080" cy="227160"/>
          </a:xfrm>
          <a:prstGeom prst="rect">
            <a:avLst/>
          </a:prstGeom>
          <a:gradFill rotWithShape="0">
            <a:gsLst>
              <a:gs pos="0">
                <a:srgbClr val="007878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47600"/>
            <a:ext cx="258840" cy="581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5769000"/>
            <a:ext cx="2514600" cy="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400720"/>
            <a:ext cx="1523880" cy="0"/>
          </a:xfrm>
          <a:prstGeom prst="line">
            <a:avLst/>
          </a:prstGeom>
          <a:ln cap="rnd" w="1260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83880" y="6645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5200" y="2857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6629400"/>
            <a:ext cx="8893080" cy="126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0" y="1047600"/>
            <a:ext cx="914400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8840" y="1047240"/>
            <a:ext cx="0" cy="55818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55680" y="228600"/>
            <a:ext cx="69883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55680" y="0"/>
            <a:ext cx="0" cy="685800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04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04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7777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77777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7777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539640" y="3068640"/>
            <a:ext cx="86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Реализация приоритетного национального проекта «Здоровье»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Калининградской области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 год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539640" y="3357720"/>
            <a:ext cx="0" cy="180000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5224320"/>
            <a:ext cx="48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4f2fa"/>
                </a:solidFill>
                <a:latin typeface="Tahoma"/>
              </a:rPr>
              <a:t>И.о. министра И.Н. Дых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6308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17.05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00808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24000" y="1027080"/>
            <a:ext cx="33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34920" y="4032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6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08000" y="657360"/>
          <a:ext cx="8928000" cy="6137280"/>
        </p:xfrm>
        <a:graphic>
          <a:graphicData uri="http://schemas.openxmlformats.org/drawingml/2006/table">
            <a:tbl>
              <a:tblPr/>
              <a:tblGrid>
                <a:gridCol w="504720"/>
                <a:gridCol w="2879640"/>
                <a:gridCol w="1727280"/>
                <a:gridCol w="1297080"/>
                <a:gridCol w="576360"/>
                <a:gridCol w="1366560"/>
                <a:gridCol w="576360"/>
              </a:tblGrid>
              <a:tr h="468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беременных,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о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549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 </a:t>
                      </a:r>
                      <a:r>
                        <a:rPr b="1" i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учетом исследований        ГУЗ «Перинатальный центр» и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АУ «Региональные ПЦ»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за январь-март 2010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907920"/>
            <a:ext cx="7704000" cy="11142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66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0560" y="2239920"/>
            <a:ext cx="7561440" cy="207468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В 2010 году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(январь – март)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по данным родильных д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родилось 2455 детей,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обследовано 2441 чел. (99 %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4678200"/>
            <a:ext cx="7309080" cy="1618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руппе риска наблюдается 19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одится дообследова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5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907920"/>
            <a:ext cx="8064720" cy="9774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6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90560" y="2174760"/>
            <a:ext cx="7561440" cy="204444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В 2010 году проведено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695 исследован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а оборудовании, полученном по ПНП «Здоровье» (100 % детей проходят звукореактотестирова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4508640"/>
            <a:ext cx="8207280" cy="1465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 дет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ждается в кохлеарной имплант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водится работа по их дообследованию, дети поставлены в лист ожидания для оперативного лечения в федеральном медицинском центр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34920" y="620640"/>
          <a:ext cx="9072720" cy="62499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сент. 2009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е-ние поликли-ники 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. др. поликл. (установлен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ес.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1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март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яцам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4920" y="620640"/>
          <a:ext cx="9072720" cy="62499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марте 2009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поликли-ники 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других поликли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году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2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март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1 году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H="1">
            <a:off x="4571640" y="981000"/>
            <a:ext cx="2305080" cy="360036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2349360"/>
            <a:ext cx="3348000" cy="1251720"/>
          </a:xfrm>
          <a:prstGeom prst="rect">
            <a:avLst/>
          </a:prstGeom>
          <a:solidFill>
            <a:srgbClr val="ffddff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За январь-апрель 2010 г. направлены в федеральные центры по квотам 803 че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4440" y="4606920"/>
            <a:ext cx="7531200" cy="1541160"/>
          </a:xfrm>
          <a:prstGeom prst="rect">
            <a:avLst/>
          </a:prstGeom>
          <a:solidFill>
            <a:srgbClr val="ffddff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В 2010 году – по федеральным квотам –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81 –сердечно-сосудистая опер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69 – операций протезирования сустав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7080" y="981000"/>
            <a:ext cx="0" cy="1368360"/>
          </a:xfrm>
          <a:prstGeom prst="line">
            <a:avLst/>
          </a:prstGeom>
          <a:ln w="158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63640" cy="6951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8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627280" y="31680"/>
            <a:ext cx="6481800" cy="91692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fffa"/>
                </a:solidFill>
                <a:latin typeface="Arial"/>
              </a:rPr>
              <a:t>Повышение доступности и качества специализированной, в т.ч.  высокотехнологичной  медицинской помощи</a:t>
            </a:r>
            <a:r>
              <a:rPr b="0" lang="en-US" sz="1800" spc="-1" strike="noStrike">
                <a:solidFill>
                  <a:srgbClr val="50fff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9080" y="1844640"/>
            <a:ext cx="2879640" cy="23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1484280"/>
            <a:ext cx="3095640" cy="2160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08000" y="981000"/>
          <a:ext cx="8928000" cy="5805720"/>
        </p:xfrm>
        <a:graphic>
          <a:graphicData uri="http://schemas.openxmlformats.org/drawingml/2006/table">
            <a:tbl>
              <a:tblPr/>
              <a:tblGrid>
                <a:gridCol w="934920"/>
                <a:gridCol w="3889440"/>
                <a:gridCol w="1944720"/>
                <a:gridCol w="2158920"/>
              </a:tblGrid>
              <a:tr h="50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отчетн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оответствующий период года, пред-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36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умерших во время перевозки (транспортиров-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, которым оказана медици-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432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6666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432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2360" y="3960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при дорожно-транспортных происшествиях (март 2010 год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888840"/>
            <a:ext cx="8424720" cy="5205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емографические 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95280" y="1801800"/>
          <a:ext cx="8362800" cy="4075200"/>
        </p:xfrm>
        <a:graphic>
          <a:graphicData uri="http://schemas.openxmlformats.org/drawingml/2006/table">
            <a:tbl>
              <a:tblPr/>
              <a:tblGrid>
                <a:gridCol w="3529080"/>
                <a:gridCol w="2448000"/>
                <a:gridCol w="2385720"/>
              </a:tblGrid>
              <a:tr h="378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ининградская обла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ма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ма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01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0" y="2435400"/>
            <a:ext cx="9144000" cy="273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2174760"/>
            <a:ext cx="9144000" cy="2913120"/>
          </a:xfrm>
          <a:prstGeom prst="rect">
            <a:avLst/>
          </a:prstGeom>
          <a:solidFill>
            <a:srgbClr val="00b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17440" y="1973160"/>
            <a:ext cx="349092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001"/>
          <p:cNvPicPr/>
          <p:nvPr/>
        </p:nvPicPr>
        <p:blipFill>
          <a:blip r:embed="rId1"/>
          <a:stretch/>
        </p:blipFill>
        <p:spPr>
          <a:xfrm>
            <a:off x="250920" y="2001960"/>
            <a:ext cx="3438360" cy="3244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611280" y="33703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aq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52520" y="606600"/>
            <a:ext cx="375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31920" y="2900520"/>
            <a:ext cx="4917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e7e7"/>
                </a:solidFill>
                <a:latin typeface="Verdana"/>
              </a:rPr>
              <a:t>О состоянии дел </a:t>
            </a:r>
            <a:br>
              <a:rPr sz="2400"/>
            </a:br>
            <a:r>
              <a:rPr b="1" lang="en-US" sz="2400" spc="-1" strike="noStrike">
                <a:solidFill>
                  <a:srgbClr val="f4e7e7"/>
                </a:solidFill>
                <a:latin typeface="Verdana"/>
              </a:rPr>
              <a:t>в системе здравоохранения Калининградской области</a:t>
            </a:r>
            <a:endParaRPr b="1" lang="en-US" sz="2400" spc="-1" strike="noStrike">
              <a:solidFill>
                <a:srgbClr val="009999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71680" y="152280"/>
            <a:ext cx="892080" cy="798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77920" y="2065320"/>
            <a:ext cx="1643040" cy="31370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1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700360" y="333360"/>
            <a:ext cx="4995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Verdana"/>
              </a:rPr>
              <a:t>Перечень Л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1154160"/>
          <a:ext cx="8497800" cy="53672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536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ное государственное учреждение «Советский кожно-венерологический диспансер»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е учреждение здравоохранения «Нестеровская центральная районная больниц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е учреждение здравоохранения Балтийского городского округа «Центральная городская больница»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е учреждение здравоохранения «Детская городская поликлиника № 1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е учреждение здравоохранения «Детская городская поликлиника № 2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8675640" y="648828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836640"/>
            <a:ext cx="8136000" cy="67284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Основные направления приоритетного национального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проекта «Здоровье» в 2010 год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0560" y="2152800"/>
            <a:ext cx="6913800" cy="7038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3591000"/>
            <a:ext cx="6913800" cy="7038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Совершенствование медицинской помощи матерям и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791280" y="5067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791280" y="21672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90560" y="4943520"/>
            <a:ext cx="6913800" cy="100872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fffa"/>
                </a:solidFill>
                <a:latin typeface="Arial"/>
              </a:rPr>
              <a:t>Повышение доступности и качества специализированной, в т.ч. высокотехнологич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91280" y="36072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b3ff"/>
          </a:soli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7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345960" y="915840"/>
          <a:ext cx="866628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915840"/>
                    <a:ext cx="866628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8707320" y="65041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63200" y="144000"/>
            <a:ext cx="74660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Средняя длительность пребывания больного </a:t>
            </a:r>
            <a:br>
              <a:rPr sz="2000"/>
            </a:b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на койке /в днях, в пересчете на год/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324" name="Picture 34" descr=""/>
          <p:cNvPicPr/>
          <p:nvPr/>
        </p:nvPicPr>
        <p:blipFill>
          <a:blip r:embed="rId3"/>
          <a:stretch/>
        </p:blipFill>
        <p:spPr>
          <a:xfrm>
            <a:off x="324000" y="79200"/>
            <a:ext cx="1047600" cy="6858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128520" y="1528920"/>
            <a:ext cx="3614760" cy="340200"/>
            <a:chOff x="128520" y="1528920"/>
            <a:chExt cx="3614760" cy="340200"/>
          </a:xfrm>
        </p:grpSpPr>
        <p:sp>
          <p:nvSpPr>
            <p:cNvPr id="326" name=""/>
            <p:cNvSpPr/>
            <p:nvPr/>
          </p:nvSpPr>
          <p:spPr>
            <a:xfrm>
              <a:off x="128520" y="159264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0720" y="1822680"/>
              <a:ext cx="2462040" cy="1440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27240" y="152892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7,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143160" y="2500200"/>
            <a:ext cx="5686560" cy="339840"/>
            <a:chOff x="3143160" y="2500200"/>
            <a:chExt cx="5686560" cy="339840"/>
          </a:xfrm>
        </p:grpSpPr>
        <p:sp>
          <p:nvSpPr>
            <p:cNvPr id="330" name=""/>
            <p:cNvSpPr/>
            <p:nvPr/>
          </p:nvSpPr>
          <p:spPr>
            <a:xfrm>
              <a:off x="3143160" y="256356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3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6640" y="2793960"/>
              <a:ext cx="4464360" cy="14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13680" y="2500200"/>
              <a:ext cx="71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49600" y="304920"/>
            <a:ext cx="73800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Среднее число дней работы койки в году </a:t>
            </a:r>
            <a:br>
              <a:rPr sz="2000"/>
            </a:b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335" name="Picture 23" descr=""/>
          <p:cNvPicPr/>
          <p:nvPr/>
        </p:nvPicPr>
        <p:blipFill>
          <a:blip r:embed="rId1"/>
          <a:stretch/>
        </p:blipFill>
        <p:spPr>
          <a:xfrm>
            <a:off x="341280" y="28440"/>
            <a:ext cx="946080" cy="774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6932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79360" y="900000"/>
          <a:ext cx="8656560" cy="580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900000"/>
                    <a:ext cx="865656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115920" y="1628640"/>
            <a:ext cx="8999640" cy="340200"/>
            <a:chOff x="115920" y="1628640"/>
            <a:chExt cx="8999640" cy="340200"/>
          </a:xfrm>
        </p:grpSpPr>
        <p:sp>
          <p:nvSpPr>
            <p:cNvPr id="340" name=""/>
            <p:cNvSpPr/>
            <p:nvPr/>
          </p:nvSpPr>
          <p:spPr>
            <a:xfrm>
              <a:off x="115920" y="1692360"/>
              <a:ext cx="7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330,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6560" y="1679400"/>
              <a:ext cx="7856640" cy="14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sm" type="diamond" w="sm"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31240" y="1628640"/>
              <a:ext cx="10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нормати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06400" y="333360"/>
            <a:ext cx="743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Доступность амбулаторно-поликлинической помощи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95200" y="865080"/>
          <a:ext cx="8572680" cy="5683320"/>
        </p:xfrm>
        <a:graphic>
          <a:graphicData uri="http://schemas.openxmlformats.org/drawingml/2006/table">
            <a:tbl>
              <a:tblPr/>
              <a:tblGrid>
                <a:gridCol w="2492280"/>
                <a:gridCol w="855720"/>
                <a:gridCol w="755640"/>
                <a:gridCol w="944640"/>
                <a:gridCol w="914400"/>
                <a:gridCol w="884160"/>
                <a:gridCol w="855720"/>
                <a:gridCol w="870120"/>
              </a:tblGrid>
              <a:tr h="76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едицинск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-ция врачеб-ной должно-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комп-лекто-ван-ность кадр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 ожидания диагностических исслед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 ожидания плановой медицинс-кой помощ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тив – не боле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7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тив – не боле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7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борат. иссле-дования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тив – не боле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5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евной стацио-н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-тив – не боле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7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углосу-точный стацио-нар </a:t>
                      </a: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-тив – не боле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5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ОГУ «Советский кожно-венерологический диспансе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т потреб-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т потреб-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1 д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в день обраще-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Нестеровская ЦРБ»             (3 ВОП в сельской мест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1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в день 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10 дней </a:t>
                      </a:r>
                      <a:r>
                        <a:rPr b="0" lang="en-US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с учетом пожелания пациент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7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с учетом пожелания пациент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21 д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Балтийского ГО «ЦГБ» (2 ВО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9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4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3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7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7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9 дней </a:t>
                      </a:r>
                      <a:r>
                        <a:rPr b="0" lang="en-US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с учетом пожелания пациент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9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8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8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в период диспансери-заци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9 дней </a:t>
                      </a:r>
                      <a:r>
                        <a:rPr b="0" lang="en-US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врач в отпуск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7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10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7" name="Picture 21" descr=""/>
          <p:cNvPicPr/>
          <p:nvPr/>
        </p:nvPicPr>
        <p:blipFill>
          <a:blip r:embed="rId1"/>
          <a:stretch/>
        </p:blipFill>
        <p:spPr>
          <a:xfrm>
            <a:off x="284040" y="69840"/>
            <a:ext cx="104796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06400" y="333360"/>
            <a:ext cx="743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Доступность амбулаторно-поликлинической помощи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73960" y="65041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07800" y="865080"/>
          <a:ext cx="8531280" cy="5668560"/>
        </p:xfrm>
        <a:graphic>
          <a:graphicData uri="http://schemas.openxmlformats.org/drawingml/2006/table">
            <a:tbl>
              <a:tblPr/>
              <a:tblGrid>
                <a:gridCol w="2495880"/>
                <a:gridCol w="987120"/>
                <a:gridCol w="762120"/>
                <a:gridCol w="762120"/>
                <a:gridCol w="971640"/>
                <a:gridCol w="782280"/>
                <a:gridCol w="757440"/>
                <a:gridCol w="1012680"/>
              </a:tblGrid>
              <a:tr h="52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едицинск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 ожидания «узких» специалис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(норматив – не более 3-х 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ули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-дерма-то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-невро-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-ортоп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-отолари-нго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рур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-эндокри-но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Нестеровская ЦРБ»             (3 ВОП в сельской мест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 предусмо-трен, отправляют в КОКБ, прием в день 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 предусмо-трен, отправляют в КОКБ, прием в день 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 предусмо-трен, отправляют в КОКБ, прием в день 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Балтийского ГО «ЦГБ»  (2 ВО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1 д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1 д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е предусмо-трен, отправляют в КОКБ, прием в день 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6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в т.ч. по предва-ритель-ной запис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6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(в т.ч. по предва-ритель-ной запис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2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2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2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2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2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5 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4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0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-3 д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2" name="Picture 21" descr=""/>
          <p:cNvPicPr/>
          <p:nvPr/>
        </p:nvPicPr>
        <p:blipFill>
          <a:blip r:embed="rId1"/>
          <a:stretch/>
        </p:blipFill>
        <p:spPr>
          <a:xfrm>
            <a:off x="284040" y="69840"/>
            <a:ext cx="104796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90520" y="841320"/>
          <a:ext cx="8664480" cy="582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41320"/>
                    <a:ext cx="8664480" cy="58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63280" y="159840"/>
            <a:ext cx="6923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Число амбулаторно-поликлинических посещений </a:t>
            </a:r>
            <a:br>
              <a:rPr sz="1900"/>
            </a:b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на одного жителя в пересчете на год </a:t>
            </a:r>
            <a:endParaRPr b="1" lang="en-US" sz="19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3178080"/>
            <a:ext cx="9129600" cy="284400"/>
            <a:chOff x="0" y="3178080"/>
            <a:chExt cx="9129600" cy="284400"/>
          </a:xfrm>
        </p:grpSpPr>
        <p:sp>
          <p:nvSpPr>
            <p:cNvPr id="359" name=""/>
            <p:cNvSpPr/>
            <p:nvPr/>
          </p:nvSpPr>
          <p:spPr>
            <a:xfrm>
              <a:off x="0" y="317808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7.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0360" y="3193920"/>
              <a:ext cx="81216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sm" type="diamond" w="sm"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13920" y="31860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71360" y="28440"/>
            <a:ext cx="13096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4520" y="190080"/>
            <a:ext cx="7510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Уровень госпитализации</a:t>
            </a: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500" spc="-1" strike="noStrike">
                <a:solidFill>
                  <a:srgbClr val="ff9933"/>
                </a:solidFill>
                <a:latin typeface="Tahoma"/>
              </a:rPr>
              <a:t>(в пересчете на год, на 1000 населения)</a:t>
            </a:r>
            <a:br>
              <a:rPr sz="1800"/>
            </a:br>
            <a:endParaRPr b="1" lang="en-US" sz="1500" spc="-1" strike="noStrike">
              <a:solidFill>
                <a:srgbClr val="ff9933"/>
              </a:solidFill>
              <a:latin typeface="Tahom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0600" y="871560"/>
          <a:ext cx="837540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871560"/>
                    <a:ext cx="83754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8" descr=""/>
          <p:cNvPicPr/>
          <p:nvPr/>
        </p:nvPicPr>
        <p:blipFill>
          <a:blip r:embed="rId3"/>
          <a:stretch/>
        </p:blipFill>
        <p:spPr>
          <a:xfrm>
            <a:off x="368280" y="47520"/>
            <a:ext cx="819000" cy="7174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250920" y="1184400"/>
            <a:ext cx="8535960" cy="339840"/>
            <a:chOff x="250920" y="1184400"/>
            <a:chExt cx="8535960" cy="339840"/>
          </a:xfrm>
        </p:grpSpPr>
        <p:sp>
          <p:nvSpPr>
            <p:cNvPr id="370" name=""/>
            <p:cNvSpPr/>
            <p:nvPr/>
          </p:nvSpPr>
          <p:spPr>
            <a:xfrm>
              <a:off x="250920" y="1247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1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9880" y="1477800"/>
              <a:ext cx="7592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sm" type="diamond" w="sm"/>
              <a:tail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6920" y="1184400"/>
              <a:ext cx="66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e00"/>
                  </a:solidFill>
                  <a:latin typeface="Arial"/>
                </a:rPr>
                <a:t>п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-396720" y="369396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369396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3919680" y="3743280"/>
          <a:ext cx="4905360" cy="27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3743280"/>
                    <a:ext cx="490536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-44280" y="993600"/>
          <a:ext cx="4370040" cy="230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4280" y="993600"/>
                    <a:ext cx="43700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284720" y="922320"/>
          <a:ext cx="4278240" cy="2814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922320"/>
                    <a:ext cx="42782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33680" y="159840"/>
            <a:ext cx="75103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Доля выявленных дефектов по результатам экспертизы качества медицинской помощи</a:t>
            </a:r>
            <a:endParaRPr b="1" lang="en-US" sz="20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7" descr=""/>
          <p:cNvPicPr/>
          <p:nvPr/>
        </p:nvPicPr>
        <p:blipFill>
          <a:blip r:embed="rId9"/>
          <a:stretch/>
        </p:blipFill>
        <p:spPr>
          <a:xfrm>
            <a:off x="515880" y="14400"/>
            <a:ext cx="492120" cy="772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246240" y="1030320"/>
          <a:ext cx="866592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030320"/>
                    <a:ext cx="866592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232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ля выявленных дефектов и сумма экономических санкций по результатам экспертиз качества медицинской помощи</a:t>
            </a:r>
            <a:endParaRPr b="1" lang="en-US" sz="16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389" name="Picture 27" descr=""/>
          <p:cNvPicPr/>
          <p:nvPr/>
        </p:nvPicPr>
        <p:blipFill>
          <a:blip r:embed="rId3"/>
          <a:stretch/>
        </p:blipFill>
        <p:spPr>
          <a:xfrm>
            <a:off x="477720" y="42840"/>
            <a:ext cx="611280" cy="747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06400" y="136440"/>
            <a:ext cx="7437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Межучрежденческие расчеты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муниципальных учреждений здравоохранения</a:t>
            </a:r>
            <a:endParaRPr b="1" lang="en-US" sz="16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5" descr=""/>
          <p:cNvPicPr/>
          <p:nvPr/>
        </p:nvPicPr>
        <p:blipFill>
          <a:blip r:embed="rId1"/>
          <a:stretch/>
        </p:blipFill>
        <p:spPr>
          <a:xfrm>
            <a:off x="0" y="169920"/>
            <a:ext cx="1582560" cy="5032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4000" y="920880"/>
          <a:ext cx="8485200" cy="5605200"/>
        </p:xfrm>
        <a:graphic>
          <a:graphicData uri="http://schemas.openxmlformats.org/drawingml/2006/table">
            <a:tbl>
              <a:tblPr/>
              <a:tblGrid>
                <a:gridCol w="3333600"/>
                <a:gridCol w="1876320"/>
                <a:gridCol w="1838520"/>
                <a:gridCol w="143676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Л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мма подушевого финансирования (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числено в другие ЛПУ /удержания из подушев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нансирования/ (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я в подуше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рматив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Нестеровская ЦРБ»                  (3 ВОП в сельской мест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1 191 706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4 016 097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3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Балтийского ГО «ЦГБ»                (2 ВО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1 032 866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5 219 55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 526 011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 569 251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МУЗ «Детская городская поликлиника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9 925 519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5 198 50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6120" y="826920"/>
          <a:ext cx="8723520" cy="58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826920"/>
                    <a:ext cx="872352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1916280"/>
            <a:ext cx="7846920" cy="58140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3366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Регистр медицинских  работников участковой службы -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3366"/>
                </a:solidFill>
                <a:latin typeface="Arial"/>
              </a:rPr>
              <a:t>824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человека (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409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врачей и </a:t>
            </a:r>
            <a:r>
              <a:rPr b="1" lang="en-US" sz="1500" spc="-1" strike="noStrike">
                <a:solidFill>
                  <a:srgbClr val="ff3366"/>
                </a:solidFill>
                <a:latin typeface="Arial"/>
              </a:rPr>
              <a:t>415</a:t>
            </a:r>
            <a:r>
              <a:rPr b="1" lang="en-US" sz="1500" spc="-1" strike="noStrike">
                <a:solidFill>
                  <a:srgbClr val="660066"/>
                </a:solidFill>
                <a:latin typeface="Arial"/>
              </a:rPr>
              <a:t> медицинских сесте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4508640"/>
            <a:ext cx="7846920" cy="58140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66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Регистр сотрудников службы скорой медицинской помощи и фельдшерско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акушерских пунктов – </a:t>
            </a:r>
            <a:r>
              <a:rPr b="1" lang="ru-RU" sz="1700" spc="-1" strike="noStrike">
                <a:solidFill>
                  <a:srgbClr val="ff3366"/>
                </a:solidFill>
                <a:latin typeface="Arial"/>
              </a:rPr>
              <a:t>709</a:t>
            </a:r>
            <a:r>
              <a:rPr b="1" lang="ru-RU" sz="1500" spc="-1" strike="noStrike">
                <a:solidFill>
                  <a:srgbClr val="660066"/>
                </a:solidFill>
                <a:latin typeface="Arial"/>
              </a:rPr>
              <a:t> челов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54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За январь-февраль 2010 года дополнительные выплаты средств федерального бюджета  составили 14,8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2781360"/>
            <a:ext cx="2087280" cy="1439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7813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9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492360" y="3286080"/>
            <a:ext cx="2087640" cy="647640"/>
            <a:chOff x="3492360" y="3286080"/>
            <a:chExt cx="2087640" cy="64764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4188240" y="3783600"/>
              <a:ext cx="69552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3898800" y="3535560"/>
              <a:ext cx="1275120" cy="1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492360" y="3286080"/>
              <a:ext cx="2087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252360" y="720720"/>
            <a:ext cx="8640720" cy="7038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егистр участковой службы, службы скорой помощи и фельдшерско-акушерски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44600" y="900000"/>
          <a:ext cx="8353440" cy="57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900000"/>
                    <a:ext cx="835344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28680" y="752400"/>
          <a:ext cx="822960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752400"/>
                    <a:ext cx="822960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47840" y="826920"/>
          <a:ext cx="8232480" cy="57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826920"/>
                    <a:ext cx="82324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Структура расходов лечебно-профилактических </a:t>
            </a:r>
            <a:br>
              <a:rPr sz="1600"/>
            </a:br>
            <a:r>
              <a:rPr b="1" lang="ru-RU" sz="1600" spc="-1" strike="noStrike">
                <a:solidFill>
                  <a:srgbClr val="ff9933"/>
                </a:solidFill>
                <a:latin typeface="Tahoma"/>
              </a:rPr>
              <a:t>учреждений – «фондодержателей"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ходы лечебно-профилактических учреждений здравоохранения области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2" descr=""/>
          <p:cNvPicPr/>
          <p:nvPr/>
        </p:nvPicPr>
        <p:blipFill>
          <a:blip r:embed="rId1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2" descr=""/>
          <p:cNvPicPr/>
          <p:nvPr/>
        </p:nvPicPr>
        <p:blipFill>
          <a:blip r:embed="rId2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06360" y="798480"/>
          <a:ext cx="8589960" cy="5732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6360" y="798480"/>
                    <a:ext cx="85899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363600" y="826920"/>
          <a:ext cx="847548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826920"/>
                    <a:ext cx="847548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49600" y="18900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Структура доходов лечебно-профилактических учреждений здравоохранения области </a:t>
            </a: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от плат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2" descr=""/>
          <p:cNvPicPr/>
          <p:nvPr/>
        </p:nvPicPr>
        <p:blipFill>
          <a:blip r:embed="rId3"/>
          <a:stretch/>
        </p:blipFill>
        <p:spPr>
          <a:xfrm>
            <a:off x="103968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2" descr=""/>
          <p:cNvPicPr/>
          <p:nvPr/>
        </p:nvPicPr>
        <p:blipFill>
          <a:blip r:embed="rId4"/>
          <a:stretch/>
        </p:blipFill>
        <p:spPr>
          <a:xfrm>
            <a:off x="534960" y="0"/>
            <a:ext cx="507960" cy="765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2" descr=""/>
          <p:cNvPicPr/>
          <p:nvPr/>
        </p:nvPicPr>
        <p:blipFill>
          <a:blip r:embed="rId5"/>
          <a:stretch/>
        </p:blipFill>
        <p:spPr>
          <a:xfrm>
            <a:off x="0" y="0"/>
            <a:ext cx="507960" cy="765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51000" y="849240"/>
          <a:ext cx="8413560" cy="5675400"/>
        </p:xfrm>
        <a:graphic>
          <a:graphicData uri="http://schemas.openxmlformats.org/drawingml/2006/table">
            <a:tbl>
              <a:tblPr/>
              <a:tblGrid>
                <a:gridCol w="4282920"/>
                <a:gridCol w="1346040"/>
                <a:gridCol w="1414440"/>
                <a:gridCol w="137016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аименование Л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Подушевой норматив финансирования 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откло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Детская городская поликлиника     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406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607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01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Детская городская поликлиника     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686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607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- 78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Балтийского городского округа «Центральная городск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3752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4041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89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Нестеровская центральная районн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7437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7436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- 0,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Наименование Л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Получено от других Л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откло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Детская городская поликлиника     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76,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8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4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Детская городская поликлиника     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74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8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,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Балтийского городского округа «Центральная городск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53,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20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6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16e"/>
                          </a:solidFill>
                          <a:latin typeface="Tahoma"/>
                        </a:rPr>
                        <a:t>МУЗ «Нестеровская центральная районн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9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29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e4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048"/>
                          </a:solidFill>
                          <a:latin typeface="Tahoma"/>
                        </a:rPr>
                        <a:t>1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9ffff"/>
                    </a:solidFill>
                  </a:tcPr>
                </a:tc>
              </a:tr>
            </a:tbl>
          </a:graphicData>
        </a:graphic>
      </p:graphicFrame>
      <p:sp>
        <p:nvSpPr>
          <p:cNvPr id="445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80" y="0"/>
            <a:ext cx="1602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2" descr=""/>
          <p:cNvPicPr/>
          <p:nvPr/>
        </p:nvPicPr>
        <p:blipFill>
          <a:blip r:embed="rId1"/>
          <a:stretch/>
        </p:blipFill>
        <p:spPr>
          <a:xfrm>
            <a:off x="1062000" y="0"/>
            <a:ext cx="547560" cy="781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"/>
          <p:cNvPicPr/>
          <p:nvPr/>
        </p:nvPicPr>
        <p:blipFill>
          <a:blip r:embed="rId2"/>
          <a:stretch/>
        </p:blipFill>
        <p:spPr>
          <a:xfrm>
            <a:off x="557280" y="0"/>
            <a:ext cx="5475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"/>
          <p:cNvPicPr/>
          <p:nvPr/>
        </p:nvPicPr>
        <p:blipFill>
          <a:blip r:embed="rId3"/>
          <a:stretch/>
        </p:blipFill>
        <p:spPr>
          <a:xfrm>
            <a:off x="22320" y="0"/>
            <a:ext cx="547560" cy="7812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749600" y="21744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ходы и расходы ЛПУ за январь-февраль 2009-2010 г.г.</a:t>
            </a:r>
            <a:br>
              <a:rPr sz="1600"/>
            </a:b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по данным 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343080" y="844560"/>
          <a:ext cx="8435880" cy="5680080"/>
        </p:xfrm>
        <a:graphic>
          <a:graphicData uri="http://schemas.openxmlformats.org/drawingml/2006/table">
            <a:tbl>
              <a:tblPr/>
              <a:tblGrid>
                <a:gridCol w="4546440"/>
                <a:gridCol w="1098360"/>
                <a:gridCol w="1417680"/>
                <a:gridCol w="13734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Наименование ЛП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олучено бон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Детская городская поликлиника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49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49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Детская городская поликлиника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49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491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Балтийского городского округа «Центральная городск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636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636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 indent="-44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Нестеровская центральная районн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93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93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ddffff"/>
                    </a:solidFill>
                  </a:tcPr>
                </a:tc>
              </a:tr>
              <a:tr h="510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Наименование ЛП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Удержано всего (тыс.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c2fbfc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Детская городская поликлиника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652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043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91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c2fbfc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Детская городская поликлиника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152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043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- 108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c2fbfc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 indent="-44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Балтийского городского округа «Центральная городск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279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085,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806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c2fbfc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44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МУЗ «Нестеровская центральная районная больни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312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2694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ffbb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382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716e"/>
                      </a:solidFill>
                    </a:lnL>
                    <a:lnR w="13680">
                      <a:solidFill>
                        <a:srgbClr val="00716e"/>
                      </a:solidFill>
                    </a:lnR>
                    <a:lnT w="13680">
                      <a:solidFill>
                        <a:srgbClr val="00716e"/>
                      </a:solidFill>
                    </a:lnT>
                    <a:lnB w="13680">
                      <a:solidFill>
                        <a:srgbClr val="00716e"/>
                      </a:solidFill>
                    </a:lnB>
                    <a:solidFill>
                      <a:srgbClr val="c2fbfc"/>
                    </a:solidFill>
                  </a:tcPr>
                </a:tc>
              </a:tr>
            </a:tbl>
          </a:graphicData>
        </a:graphic>
      </p:graphicFrame>
      <p:sp>
        <p:nvSpPr>
          <p:cNvPr id="452" name="Text Box 5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80" y="0"/>
            <a:ext cx="1602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2" descr=""/>
          <p:cNvPicPr/>
          <p:nvPr/>
        </p:nvPicPr>
        <p:blipFill>
          <a:blip r:embed="rId1"/>
          <a:stretch/>
        </p:blipFill>
        <p:spPr>
          <a:xfrm>
            <a:off x="1062000" y="0"/>
            <a:ext cx="547560" cy="781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"/>
          <p:cNvPicPr/>
          <p:nvPr/>
        </p:nvPicPr>
        <p:blipFill>
          <a:blip r:embed="rId2"/>
          <a:stretch/>
        </p:blipFill>
        <p:spPr>
          <a:xfrm>
            <a:off x="557280" y="0"/>
            <a:ext cx="547560" cy="781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2" descr=""/>
          <p:cNvPicPr/>
          <p:nvPr/>
        </p:nvPicPr>
        <p:blipFill>
          <a:blip r:embed="rId3"/>
          <a:stretch/>
        </p:blipFill>
        <p:spPr>
          <a:xfrm>
            <a:off x="22320" y="0"/>
            <a:ext cx="547560" cy="7812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749600" y="217440"/>
            <a:ext cx="73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Tahoma"/>
              </a:rPr>
              <a:t>Доходы и расходы ЛПУ за январь-февраль 2009-2010 г.г.</a:t>
            </a:r>
            <a:br>
              <a:rPr sz="1600"/>
            </a:b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по данным 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290520" y="1042920"/>
          <a:ext cx="8475480" cy="536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042920"/>
                    <a:ext cx="847548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1631880" y="317520"/>
            <a:ext cx="75121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ода (Советский КВД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4" descr=""/>
          <p:cNvPicPr/>
          <p:nvPr/>
        </p:nvPicPr>
        <p:blipFill>
          <a:blip r:embed="rId3"/>
          <a:stretch/>
        </p:blipFill>
        <p:spPr>
          <a:xfrm>
            <a:off x="307800" y="0"/>
            <a:ext cx="530280" cy="800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4"/>
          <a:stretch/>
        </p:blipFill>
        <p:spPr>
          <a:xfrm>
            <a:off x="866880" y="14400"/>
            <a:ext cx="500040" cy="7556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84160" y="844560"/>
            <a:ext cx="40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12 час./5 раб. дн. (36 часов в н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34960" y="798480"/>
          <a:ext cx="808848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798480"/>
                    <a:ext cx="80884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77960" y="200160"/>
            <a:ext cx="7466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. (Нестеровская ЦРБ, поликлиник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3"/>
          <a:stretch/>
        </p:blipFill>
        <p:spPr>
          <a:xfrm>
            <a:off x="52560" y="0"/>
            <a:ext cx="703080" cy="765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4"/>
          <a:stretch/>
        </p:blipFill>
        <p:spPr>
          <a:xfrm>
            <a:off x="844560" y="0"/>
            <a:ext cx="703080" cy="765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69720" y="844560"/>
            <a:ext cx="47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 участк.),                    - 6,36 час./5 раб. дн.  (33 часа в нед. «узк.» спец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33360" y="692280"/>
          <a:ext cx="8505720" cy="59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692280"/>
                    <a:ext cx="850572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77960" y="200160"/>
            <a:ext cx="7466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. (Нестеровская ЦРБ, стациона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3"/>
          <a:stretch/>
        </p:blipFill>
        <p:spPr>
          <a:xfrm>
            <a:off x="52560" y="0"/>
            <a:ext cx="703080" cy="765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4"/>
          <a:stretch/>
        </p:blipFill>
        <p:spPr>
          <a:xfrm>
            <a:off x="844560" y="0"/>
            <a:ext cx="703080" cy="765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884160" y="844560"/>
            <a:ext cx="40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011240"/>
            <a:ext cx="8713800" cy="4140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Дополнительная иммунизация  населения области в 2010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280" y="1857240"/>
          <a:ext cx="8424720" cy="4019760"/>
        </p:xfrm>
        <a:graphic>
          <a:graphicData uri="http://schemas.openxmlformats.org/drawingml/2006/table">
            <a:tbl>
              <a:tblPr/>
              <a:tblGrid>
                <a:gridCol w="3094200"/>
                <a:gridCol w="3409920"/>
                <a:gridCol w="1920600"/>
              </a:tblGrid>
              <a:tr h="119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вакци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вакцинации (категори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лиц, под-лежащих вакцин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686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т 18 до 55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967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Грип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ети, подростки, взросл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о 60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480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f4e7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6699"/>
                          </a:solidFill>
                          <a:latin typeface="Arial"/>
                        </a:rPr>
                        <a:t>179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4e7e7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0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76120" y="871560"/>
          <a:ext cx="8591760" cy="54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871560"/>
                    <a:ext cx="85917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63560" y="189000"/>
            <a:ext cx="7380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. (Балтийская ЦГБ, поликлиник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3"/>
          <a:stretch/>
        </p:blipFill>
        <p:spPr>
          <a:xfrm>
            <a:off x="468360" y="0"/>
            <a:ext cx="703080" cy="765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884160" y="844560"/>
            <a:ext cx="515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 участк.),                    - 6,36 час./5 раб. дн.  (33 часа в нед. «узк.» спец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63560" y="189000"/>
            <a:ext cx="7380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. (Балтийская ЦГБ, стациона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468360" y="0"/>
            <a:ext cx="703080" cy="765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84160" y="844560"/>
            <a:ext cx="40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01680" y="568440"/>
          <a:ext cx="8591400" cy="602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568440"/>
                    <a:ext cx="85914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46240" y="871560"/>
          <a:ext cx="8664480" cy="60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871560"/>
                    <a:ext cx="866448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63560" y="189000"/>
            <a:ext cx="7380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. (Балтийская ЦГБ, участковы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3"/>
          <a:stretch/>
        </p:blipFill>
        <p:spPr>
          <a:xfrm>
            <a:off x="468360" y="0"/>
            <a:ext cx="703080" cy="765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12840" y="844560"/>
            <a:ext cx="44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 участк.)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61800" y="711360"/>
          <a:ext cx="8418600" cy="59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711360"/>
                    <a:ext cx="841860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1663560" y="160200"/>
            <a:ext cx="7380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ода (ГДП № 1, «узкие» специалис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4" descr=""/>
          <p:cNvPicPr/>
          <p:nvPr/>
        </p:nvPicPr>
        <p:blipFill>
          <a:blip r:embed="rId3"/>
          <a:stretch/>
        </p:blipFill>
        <p:spPr>
          <a:xfrm>
            <a:off x="452520" y="0"/>
            <a:ext cx="690480" cy="7840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4000" y="838080"/>
            <a:ext cx="51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6,36 час./5 раб. дн.  (33 часа в нед. «узк.» спец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03200" y="798480"/>
          <a:ext cx="8612280" cy="598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798480"/>
                    <a:ext cx="861228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663560" y="160200"/>
            <a:ext cx="7380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ода (ГДП № 1, АУП и участковая служб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4" descr=""/>
          <p:cNvPicPr/>
          <p:nvPr/>
        </p:nvPicPr>
        <p:blipFill>
          <a:blip r:embed="rId3"/>
          <a:stretch/>
        </p:blipFill>
        <p:spPr>
          <a:xfrm>
            <a:off x="452520" y="0"/>
            <a:ext cx="690480" cy="784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884160" y="844560"/>
            <a:ext cx="51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 участ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333360" y="816120"/>
          <a:ext cx="8564400" cy="60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816120"/>
                    <a:ext cx="8564400" cy="60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692360" y="146160"/>
            <a:ext cx="73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ода (ГДП № 2, «узкие» специалис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3"/>
          <a:stretch/>
        </p:blipFill>
        <p:spPr>
          <a:xfrm>
            <a:off x="457200" y="0"/>
            <a:ext cx="690480" cy="784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84160" y="844560"/>
            <a:ext cx="51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6,36 час./5 раб. дн.  (33 часа в нед. «узк.» спец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100000">
              <a:srgbClr val="f3f3f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64960" y="725400"/>
          <a:ext cx="8569440" cy="592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725400"/>
                    <a:ext cx="856944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692360" y="146160"/>
            <a:ext cx="73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33"/>
                </a:solidFill>
                <a:latin typeface="Tahoma"/>
              </a:rPr>
              <a:t>Средняя заработная плата за март 2010 года (ГДП № 2, участковы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161928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4" descr=""/>
          <p:cNvPicPr/>
          <p:nvPr/>
        </p:nvPicPr>
        <p:blipFill>
          <a:blip r:embed="rId3"/>
          <a:stretch/>
        </p:blipFill>
        <p:spPr>
          <a:xfrm>
            <a:off x="457200" y="0"/>
            <a:ext cx="690480" cy="784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84160" y="844560"/>
            <a:ext cx="51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ahoma"/>
              </a:rPr>
              <a:t>1 ст. – 7,42 час./5 раб. дн. (39 часов в нед. участ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351000" y="2639880"/>
          <a:ext cx="8435880" cy="33782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9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14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05111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918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324000" y="855720"/>
            <a:ext cx="8569080" cy="91692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необходимыми лекарственными средствами лиц льготных категорий граждан (федеральных льготников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13.05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53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351000" y="2852640"/>
          <a:ext cx="8435880" cy="31604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 по Программе 7-ми высокозатратных нозоло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65278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73018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граждан Калининградской области лекарственными средствами, предназначенными для лечения больных гемофилией, муковисцидозом, гипофизарным нанизмом, болезнью Гоше, злокачественными новообразованиями лимфоидной, кроветворной и родственных им тканей, рассеянным склерозом, а также пос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нсплантации органов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) тканей на 13.05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54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78880" y="6504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51000" y="3043080"/>
          <a:ext cx="8435880" cy="297828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ьготников, имеющих пра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льготное лекарственное обеспечение за счет средств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9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45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9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765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924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региональных льготников лекарственными средствами за счет областного бюджета в рамках целевой программы «Развитие здравоохранения Калининградской области на период 2008-2012 годов», подпрограммы «Льготные лекарства» и в соответствии с постановлением Правительства РФ от 30.07.1994 № 890 по состоянию  на 13.05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555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42920" y="549360"/>
          <a:ext cx="8856720" cy="6237360"/>
        </p:xfrm>
        <a:graphic>
          <a:graphicData uri="http://schemas.openxmlformats.org/drawingml/2006/table">
            <a:tbl>
              <a:tblPr/>
              <a:tblGrid>
                <a:gridCol w="533520"/>
                <a:gridCol w="2346120"/>
                <a:gridCol w="1440000"/>
                <a:gridCol w="1206360"/>
                <a:gridCol w="1314360"/>
                <a:gridCol w="1079640"/>
                <a:gridCol w="936720"/>
              </a:tblGrid>
              <a:tr h="3301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ление старше 18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4e7e7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и подрос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4e7e7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-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ло вакцинации 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ло вакцинации 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4e7e7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6699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16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52360" y="44280"/>
            <a:ext cx="8640720" cy="440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акцинация против гриппа А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в 201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00808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34920" y="4032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65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63440" y="549360"/>
          <a:ext cx="8872560" cy="6119640"/>
        </p:xfrm>
        <a:graphic>
          <a:graphicData uri="http://schemas.openxmlformats.org/drawingml/2006/table">
            <a:tbl>
              <a:tblPr/>
              <a:tblGrid>
                <a:gridCol w="480960"/>
                <a:gridCol w="2705400"/>
                <a:gridCol w="1269720"/>
                <a:gridCol w="1268640"/>
                <a:gridCol w="988920"/>
                <a:gridCol w="1224000"/>
                <a:gridCol w="934920"/>
              </a:tblGrid>
              <a:tr h="649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ит вакц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1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-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1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-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7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58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40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8736120" y="6504120"/>
            <a:ext cx="5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2360" y="44280"/>
            <a:ext cx="8640720" cy="398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акцинация против гепатита В населения старше 18 лет в 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4000" y="476280"/>
          <a:ext cx="9036000" cy="6342120"/>
        </p:xfrm>
        <a:graphic>
          <a:graphicData uri="http://schemas.openxmlformats.org/drawingml/2006/table">
            <a:tbl>
              <a:tblPr/>
              <a:tblGrid>
                <a:gridCol w="341280"/>
                <a:gridCol w="2035080"/>
                <a:gridCol w="709560"/>
                <a:gridCol w="514440"/>
                <a:gridCol w="720720"/>
                <a:gridCol w="1041480"/>
                <a:gridCol w="758880"/>
                <a:gridCol w="936720"/>
                <a:gridCol w="718920"/>
                <a:gridCol w="598680"/>
                <a:gridCol w="660240"/>
              </a:tblGrid>
              <a:tr h="44892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уницип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больных ВИЧ-ин-фекци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ит на диспансерном уче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об-следованию на имунный статус и вирусную нагрузк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с целью на-значения противовирус-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ждается в ле-чении из обсле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ют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заре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 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лежа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леж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9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в т.ч. пол-а г. Светлогор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432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в т.ч. амб.-я пос. Дон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432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6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  <a:tr h="188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УФС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83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ОМ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250920" y="44280"/>
            <a:ext cx="8713800" cy="38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 в 2010 год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08000" y="568440"/>
          <a:ext cx="8891640" cy="6221160"/>
        </p:xfrm>
        <a:graphic>
          <a:graphicData uri="http://schemas.openxmlformats.org/drawingml/2006/table">
            <a:tbl>
              <a:tblPr/>
              <a:tblGrid>
                <a:gridCol w="469800"/>
                <a:gridCol w="3157560"/>
                <a:gridCol w="1457280"/>
                <a:gridCol w="727200"/>
                <a:gridCol w="1090440"/>
                <a:gridCol w="1094040"/>
                <a:gridCol w="895320"/>
              </a:tblGrid>
              <a:tr h="628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ждаются в лечении или переводе в группу неактивных боль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-чают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нуждаю-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ывы от лече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абс. числ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-лучающих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52360" y="79200"/>
            <a:ext cx="8640720" cy="398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в 2010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135080"/>
            <a:ext cx="8642160" cy="55116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 в 2010 г. – 31,934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206064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2205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8,529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368460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Родильные дома и отде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38592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17,604 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5,797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14560" y="2131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0920" y="3500280"/>
            <a:ext cx="1584360" cy="1152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3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ebb3ff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627280" y="31680"/>
            <a:ext cx="6481800" cy="5806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Совершенствование медицинской помощ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матерям и де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32:32Z</dcterms:created>
  <dc:creator>TFOMS</dc:creator>
  <dc:description/>
  <dc:language>en-US</dc:language>
  <cp:lastModifiedBy>Маскевич</cp:lastModifiedBy>
  <dcterms:modified xsi:type="dcterms:W3CDTF">2010-05-14T09:11:07Z</dcterms:modified>
  <cp:revision>520</cp:revision>
  <dc:subject/>
  <dc:title>Слайд 1</dc:title>
</cp:coreProperties>
</file>