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9.png" ContentType="image/png"/>
  <Override PartName="/ppt/media/image23.wmf" ContentType="image/x-wmf"/>
  <Override PartName="/ppt/media/image11.jpeg" ContentType="image/jpeg"/>
  <Override PartName="/ppt/media/image30.wmf" ContentType="image/x-wmf"/>
  <Override PartName="/ppt/media/image8.jpeg" ContentType="image/jpeg"/>
  <Override PartName="/ppt/media/image5.png" ContentType="image/png"/>
  <Override PartName="/ppt/media/image32.wmf" ContentType="image/x-wmf"/>
  <Override PartName="/ppt/media/image33.wmf" ContentType="image/x-wmf"/>
  <Override PartName="/ppt/media/image34.wmf" ContentType="image/x-wmf"/>
  <Override PartName="/ppt/media/image10.jpeg" ContentType="image/jpeg"/>
  <Override PartName="/ppt/media/image14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5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19.png" ContentType="image/pn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3A49044-8F93-4021-875B-6303D4822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A5372EC-2584-428A-A209-7019865EE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E89-54A1-4F71-BC9B-ABBBC0B3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AB0-1163-4485-BA41-F4C01C9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FC7-540F-4908-A5AA-AC2F45FD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C82-51AC-4108-BDC5-28116EE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829-1CE1-42AB-B30B-C2C9C0C1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C29-9C10-43E7-B140-158D115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340-9FC4-4CF3-A3DD-0E7F4EB7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630-6956-4ABB-97D0-057DE702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83E-EE6A-4BC1-835B-B1A65DE6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C6E-15A6-4442-B2F2-2F7B4C3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6F2-EB9D-4139-BD86-5A398FEE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3F9-74F4-43D9-9DF9-B3D9008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D71F-A5D6-4EC9-B376-4E1ACCBB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539640" y="3068640"/>
            <a:ext cx="86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Реализация приоритетного национального проекта «Здоровье»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Калининградской области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9 год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22432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1bd0b"/>
                </a:solidFill>
                <a:latin typeface="Tahoma"/>
              </a:rPr>
              <a:t>Министр Е.А. Клюй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51280" y="6308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8156"/>
                </a:solidFill>
                <a:latin typeface="Tahoma"/>
              </a:rPr>
              <a:t>16.11.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5796000" cy="10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11240"/>
            <a:ext cx="8713800" cy="4140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5823"/>
                </a:solidFill>
                <a:latin typeface="Arial"/>
              </a:rPr>
              <a:t>Дополнительная иммунизация  населения области в 2009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857240"/>
          <a:ext cx="8424720" cy="4092840"/>
        </p:xfrm>
        <a:graphic>
          <a:graphicData uri="http://schemas.openxmlformats.org/drawingml/2006/table">
            <a:tbl>
              <a:tblPr/>
              <a:tblGrid>
                <a:gridCol w="3094200"/>
                <a:gridCol w="3409920"/>
                <a:gridCol w="1920600"/>
              </a:tblGrid>
              <a:tr h="10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вакци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длежат вакцинации (категори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ичество лиц, под-лежащих вакцин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(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 до 1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3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т 18 до 55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956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Ко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35 ле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ранее не привитые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6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рип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, подростки, взросл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60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9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105823"/>
                        </a:gs>
                        <a:gs pos="50000">
                          <a:srgbClr val="99ff99"/>
                        </a:gs>
                        <a:gs pos="100000">
                          <a:srgbClr val="10582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300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105823"/>
                        </a:gs>
                        <a:gs pos="50000">
                          <a:srgbClr val="99ff99"/>
                        </a:gs>
                        <a:gs pos="100000">
                          <a:srgbClr val="105823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7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3080" y="476280"/>
          <a:ext cx="9036000" cy="6340320"/>
        </p:xfrm>
        <a:graphic>
          <a:graphicData uri="http://schemas.openxmlformats.org/drawingml/2006/table">
            <a:tbl>
              <a:tblPr/>
              <a:tblGrid>
                <a:gridCol w="368280"/>
                <a:gridCol w="2008080"/>
                <a:gridCol w="682560"/>
                <a:gridCol w="541440"/>
                <a:gridCol w="720720"/>
                <a:gridCol w="1041480"/>
                <a:gridCol w="758880"/>
                <a:gridCol w="936360"/>
                <a:gridCol w="719280"/>
                <a:gridCol w="598680"/>
                <a:gridCol w="660240"/>
              </a:tblGrid>
              <a:tr h="457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больных ВИЧ-ин-фекц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стоит на диспансерном уч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лежат об-следованию на имунный ста-тус и вирус-ную нагруз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следовано с целью на-значения противовирус-ного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ется в ле-чении из обсле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ают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заре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ащ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2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ФС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9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50920" y="44280"/>
            <a:ext cx="8713800" cy="3682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по состоянию на 12.11.2009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4920" y="534960"/>
          <a:ext cx="9074160" cy="631836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057320"/>
                <a:gridCol w="527040"/>
                <a:gridCol w="792000"/>
                <a:gridCol w="792360"/>
                <a:gridCol w="720720"/>
                <a:gridCol w="576360"/>
                <a:gridCol w="718920"/>
                <a:gridCol w="576360"/>
                <a:gridCol w="577800"/>
              </a:tblGrid>
              <a:tr h="693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ются в лечении или переводе в группу неактив-ных боль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-чают лече-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нуждаю-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ывы от лечения (абс.числ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-лучаю-щих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рег. очагов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обследо-вано оча-гов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.ч. бацил-ляр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зарег.-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6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52360" y="79200"/>
            <a:ext cx="8640720" cy="3988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по состоянию на 12.11.2009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16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71280" y="765000"/>
          <a:ext cx="9036360" cy="6010560"/>
        </p:xfrm>
        <a:graphic>
          <a:graphicData uri="http://schemas.openxmlformats.org/drawingml/2006/table">
            <a:tbl>
              <a:tblPr/>
              <a:tblGrid>
                <a:gridCol w="422280"/>
                <a:gridCol w="2349720"/>
                <a:gridCol w="1441440"/>
                <a:gridCol w="1439640"/>
                <a:gridCol w="935280"/>
                <a:gridCol w="1225440"/>
                <a:gridCol w="1222560"/>
              </a:tblGrid>
              <a:tr h="719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диспансериз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шли диспансеризаци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ыдан-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дан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52360" y="44280"/>
            <a:ext cx="8640720" cy="64260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работающих граж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по состоянию на 12.11.2009)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08000" y="692280"/>
          <a:ext cx="8964720" cy="6099120"/>
        </p:xfrm>
        <a:graphic>
          <a:graphicData uri="http://schemas.openxmlformats.org/drawingml/2006/table">
            <a:tbl>
              <a:tblPr/>
              <a:tblGrid>
                <a:gridCol w="504720"/>
                <a:gridCol w="2374920"/>
                <a:gridCol w="1081080"/>
                <a:gridCol w="1008000"/>
                <a:gridCol w="1008000"/>
                <a:gridCol w="1079640"/>
                <a:gridCol w="1008000"/>
                <a:gridCol w="900360"/>
              </a:tblGrid>
              <a:tr h="24048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дано разре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о медосмо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70,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69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4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4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,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,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3,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3,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2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,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6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0,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3,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6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5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3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8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0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ыполнение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8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Углубленные медицинские осмотры работников, занятых с вредными и (или) опасными производственными факторами в 2009 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4440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19240" cy="21337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87280" y="1341360"/>
            <a:ext cx="107964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868320"/>
            <a:ext cx="8064720" cy="3988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5823"/>
                </a:solidFill>
                <a:latin typeface="Arial"/>
              </a:rPr>
              <a:t>Обеспечение высокотехнологичной  медицин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920" y="4437000"/>
            <a:ext cx="4608360" cy="1767240"/>
          </a:xfrm>
          <a:prstGeom prst="rect">
            <a:avLst/>
          </a:prstGeom>
          <a:solidFill>
            <a:srgbClr val="e5ce8f"/>
          </a:solidFill>
          <a:ln w="0">
            <a:noFill/>
          </a:ln>
          <a:effectLst>
            <a:outerShdw dist="17819" dir="2700000" blurRad="0" rotWithShape="0">
              <a:srgbClr val="887b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441b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c441b"/>
                </a:solidFill>
                <a:latin typeface="Arial"/>
              </a:rPr>
              <a:t>РЕАЛИЗАЦИЯ ФЕДЕРАЛЬНЫХ ОБЪЕМ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441b"/>
                </a:solidFill>
                <a:latin typeface="Arial"/>
              </a:rPr>
              <a:t>Сердечно-сосудистая хирург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441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441b"/>
                </a:solidFill>
                <a:latin typeface="Arial"/>
              </a:rPr>
              <a:t>план – 91 чел., факт. – 45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441b"/>
                </a:solidFill>
                <a:latin typeface="Arial"/>
              </a:rPr>
              <a:t>Ортопед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441b"/>
                </a:solidFill>
                <a:latin typeface="Arial"/>
              </a:rPr>
              <a:t>план – 69 чел., факт. –  33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1341360"/>
            <a:ext cx="2736720" cy="4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12852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9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724360" y="1773360"/>
            <a:ext cx="3095640" cy="1006920"/>
          </a:xfrm>
          <a:prstGeom prst="rect">
            <a:avLst/>
          </a:prstGeom>
          <a:solidFill>
            <a:srgbClr val="e5ce8f"/>
          </a:solidFill>
          <a:ln w="0">
            <a:noFill/>
          </a:ln>
          <a:effectLst>
            <a:outerShdw dist="17819" dir="2700000" blurRad="0" rotWithShape="0">
              <a:srgbClr val="887b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c441b"/>
                </a:solidFill>
                <a:latin typeface="Arial"/>
              </a:rPr>
              <a:t>Направлено в федеральные центры в соответствии с объемами 1560 человек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c441b"/>
                </a:solidFill>
                <a:latin typeface="Arial"/>
              </a:rPr>
              <a:t>(в т.ч. 435 дете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" y="2997360"/>
            <a:ext cx="197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760" y="2997360"/>
            <a:ext cx="210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411280" y="1773360"/>
            <a:ext cx="2925720" cy="2419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33530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08000" y="981000"/>
          <a:ext cx="8928000" cy="5869080"/>
        </p:xfrm>
        <a:graphic>
          <a:graphicData uri="http://schemas.openxmlformats.org/drawingml/2006/table">
            <a:tbl>
              <a:tblPr/>
              <a:tblGrid>
                <a:gridCol w="934920"/>
                <a:gridCol w="3889440"/>
                <a:gridCol w="1295280"/>
                <a:gridCol w="2808360"/>
              </a:tblGrid>
              <a:tr h="576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отчетный период (январь-окт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,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,3 % от числа погиб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умерших во время перевозки (транспортиров-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, которым оказана медици-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,6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,8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,1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,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,1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,8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66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,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7 % от числа доставленных в травмоцен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52360" y="39600"/>
            <a:ext cx="8640720" cy="8859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при дорожно-транспортных происшествиях (январь-октябрь 2009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873000"/>
            <a:ext cx="864072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  <a:ea typeface="Tahoma"/>
              </a:rPr>
              <a:t>Центры здоровья Калинингра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13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5796000" y="4365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732720" y="4653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2050920" y="4005360"/>
            <a:ext cx="193680" cy="19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2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09600" y="1041480"/>
            <a:ext cx="8550360" cy="515880"/>
            <a:chOff x="309600" y="1041480"/>
            <a:chExt cx="8550360" cy="515880"/>
          </a:xfrm>
        </p:grpSpPr>
        <p:sp>
          <p:nvSpPr>
            <p:cNvPr id="231" name=""/>
            <p:cNvSpPr/>
            <p:nvPr/>
          </p:nvSpPr>
          <p:spPr>
            <a:xfrm>
              <a:off x="309600" y="1041480"/>
              <a:ext cx="8550360" cy="515880"/>
            </a:xfrm>
            <a:prstGeom prst="rect">
              <a:avLst/>
            </a:pr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16040" y="1085760"/>
              <a:ext cx="6447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ОСНОВНЫЕ ПРИЧИНЫ СМЕРТНОСТИ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570560" y="2743200"/>
            <a:ext cx="1440" cy="3174840"/>
          </a:xfrm>
          <a:prstGeom prst="line">
            <a:avLst/>
          </a:prstGeom>
          <a:ln cap="rnd" w="237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3520" y="1846440"/>
            <a:ext cx="8624880" cy="712440"/>
            <a:chOff x="263520" y="1846440"/>
            <a:chExt cx="8624880" cy="712440"/>
          </a:xfrm>
        </p:grpSpPr>
        <p:sp>
          <p:nvSpPr>
            <p:cNvPr id="235" name=""/>
            <p:cNvSpPr/>
            <p:nvPr/>
          </p:nvSpPr>
          <p:spPr>
            <a:xfrm>
              <a:off x="453960" y="2408400"/>
              <a:ext cx="8406000" cy="106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3960" y="2408400"/>
              <a:ext cx="8406000" cy="1062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120" y="2389320"/>
              <a:ext cx="8504280" cy="169560"/>
            </a:xfrm>
            <a:prstGeom prst="rect">
              <a:avLst/>
            </a:prstGeom>
            <a:solidFill>
              <a:srgbClr val="1b6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120" y="2389320"/>
              <a:ext cx="8489880" cy="155520"/>
            </a:xfrm>
            <a:custGeom>
              <a:avLst/>
              <a:gdLst/>
              <a:ahLst/>
              <a:rect l="l" t="t" r="r" b="b"/>
              <a:pathLst>
                <a:path w="16642" h="306">
                  <a:moveTo>
                    <a:pt x="87" y="263"/>
                  </a:moveTo>
                  <a:lnTo>
                    <a:pt x="43" y="219"/>
                  </a:lnTo>
                  <a:lnTo>
                    <a:pt x="16598" y="219"/>
                  </a:lnTo>
                  <a:lnTo>
                    <a:pt x="16555" y="263"/>
                  </a:lnTo>
                  <a:lnTo>
                    <a:pt x="16555" y="44"/>
                  </a:lnTo>
                  <a:lnTo>
                    <a:pt x="16598" y="87"/>
                  </a:lnTo>
                  <a:lnTo>
                    <a:pt x="43" y="87"/>
                  </a:lnTo>
                  <a:lnTo>
                    <a:pt x="87" y="44"/>
                  </a:lnTo>
                  <a:lnTo>
                    <a:pt x="87" y="263"/>
                  </a:lnTo>
                  <a:close/>
                  <a:moveTo>
                    <a:pt x="0" y="44"/>
                  </a:moveTo>
                  <a:cubicBezTo>
                    <a:pt x="0" y="20"/>
                    <a:pt x="19" y="0"/>
                    <a:pt x="43" y="0"/>
                  </a:cubicBezTo>
                  <a:lnTo>
                    <a:pt x="16598" y="0"/>
                  </a:lnTo>
                  <a:cubicBezTo>
                    <a:pt x="16622" y="0"/>
                    <a:pt x="16642" y="20"/>
                    <a:pt x="16642" y="44"/>
                  </a:cubicBezTo>
                  <a:lnTo>
                    <a:pt x="16642" y="263"/>
                  </a:lnTo>
                  <a:cubicBezTo>
                    <a:pt x="16642" y="287"/>
                    <a:pt x="16622" y="306"/>
                    <a:pt x="16598" y="306"/>
                  </a:cubicBezTo>
                  <a:lnTo>
                    <a:pt x="43" y="306"/>
                  </a:lnTo>
                  <a:cubicBezTo>
                    <a:pt x="19" y="306"/>
                    <a:pt x="0" y="287"/>
                    <a:pt x="0" y="263"/>
                  </a:cubicBez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4120" y="2389320"/>
              <a:ext cx="8504280" cy="169560"/>
            </a:xfrm>
            <a:prstGeom prst="rect">
              <a:avLst/>
            </a:prstGeom>
            <a:solidFill>
              <a:srgbClr val="1b6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760" y="1874880"/>
              <a:ext cx="2001600" cy="581040"/>
            </a:xfrm>
            <a:custGeom>
              <a:avLst/>
              <a:gdLst/>
              <a:ahLst/>
              <a:rect l="l" t="t" r="r" b="b"/>
              <a:pathLst>
                <a:path w="3923" h="1139">
                  <a:moveTo>
                    <a:pt x="241" y="1139"/>
                  </a:moveTo>
                  <a:lnTo>
                    <a:pt x="3681" y="1139"/>
                  </a:lnTo>
                  <a:cubicBezTo>
                    <a:pt x="3815" y="1139"/>
                    <a:pt x="3923" y="1031"/>
                    <a:pt x="3923" y="897"/>
                  </a:cubicBezTo>
                  <a:cubicBezTo>
                    <a:pt x="3923" y="897"/>
                    <a:pt x="3923" y="897"/>
                    <a:pt x="3923" y="897"/>
                  </a:cubicBezTo>
                  <a:lnTo>
                    <a:pt x="3923" y="242"/>
                  </a:lnTo>
                  <a:cubicBezTo>
                    <a:pt x="3923" y="108"/>
                    <a:pt x="3815" y="0"/>
                    <a:pt x="3681" y="0"/>
                  </a:cubicBezTo>
                  <a:lnTo>
                    <a:pt x="241" y="0"/>
                  </a:lnTo>
                  <a:cubicBezTo>
                    <a:pt x="108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8" y="1139"/>
                    <a:pt x="241" y="1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3760" y="1874880"/>
              <a:ext cx="2001600" cy="581040"/>
            </a:xfrm>
            <a:custGeom>
              <a:avLst/>
              <a:gdLst/>
              <a:ahLst/>
              <a:rect l="l" t="t" r="r" b="b"/>
              <a:pathLst>
                <a:path w="3923" h="1139">
                  <a:moveTo>
                    <a:pt x="241" y="1139"/>
                  </a:moveTo>
                  <a:lnTo>
                    <a:pt x="3681" y="1139"/>
                  </a:lnTo>
                  <a:cubicBezTo>
                    <a:pt x="3815" y="1139"/>
                    <a:pt x="3923" y="1031"/>
                    <a:pt x="3923" y="897"/>
                  </a:cubicBezTo>
                  <a:cubicBezTo>
                    <a:pt x="3923" y="897"/>
                    <a:pt x="3923" y="897"/>
                    <a:pt x="3923" y="897"/>
                  </a:cubicBezTo>
                  <a:lnTo>
                    <a:pt x="3923" y="242"/>
                  </a:lnTo>
                  <a:cubicBezTo>
                    <a:pt x="3923" y="108"/>
                    <a:pt x="3815" y="0"/>
                    <a:pt x="3681" y="0"/>
                  </a:cubicBezTo>
                  <a:lnTo>
                    <a:pt x="241" y="0"/>
                  </a:lnTo>
                  <a:cubicBezTo>
                    <a:pt x="108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8" y="1139"/>
                    <a:pt x="241" y="1139"/>
                  </a:cubicBezTo>
                  <a:close/>
                </a:path>
              </a:pathLst>
            </a:custGeom>
            <a:noFill/>
            <a:ln cap="rnd" w="12600">
              <a:solidFill>
                <a:srgbClr val="1b6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0360" y="2046240"/>
              <a:ext cx="91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АЛКОГО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520" y="1846440"/>
              <a:ext cx="2054160" cy="631800"/>
            </a:xfrm>
            <a:custGeom>
              <a:avLst/>
              <a:gdLst/>
              <a:ahLst/>
              <a:rect l="l" t="t" r="r" b="b"/>
              <a:pathLst>
                <a:path w="4027" h="1238">
                  <a:moveTo>
                    <a:pt x="350" y="1151"/>
                  </a:moveTo>
                  <a:lnTo>
                    <a:pt x="3681" y="1151"/>
                  </a:lnTo>
                  <a:lnTo>
                    <a:pt x="3738" y="1145"/>
                  </a:lnTo>
                  <a:lnTo>
                    <a:pt x="3729" y="1147"/>
                  </a:lnTo>
                  <a:lnTo>
                    <a:pt x="3786" y="1129"/>
                  </a:lnTo>
                  <a:lnTo>
                    <a:pt x="3779" y="1132"/>
                  </a:lnTo>
                  <a:lnTo>
                    <a:pt x="3830" y="1104"/>
                  </a:lnTo>
                  <a:lnTo>
                    <a:pt x="3823" y="1108"/>
                  </a:lnTo>
                  <a:lnTo>
                    <a:pt x="3868" y="1072"/>
                  </a:lnTo>
                  <a:lnTo>
                    <a:pt x="3861" y="1079"/>
                  </a:lnTo>
                  <a:lnTo>
                    <a:pt x="3897" y="1034"/>
                  </a:lnTo>
                  <a:lnTo>
                    <a:pt x="3893" y="1041"/>
                  </a:lnTo>
                  <a:lnTo>
                    <a:pt x="3921" y="990"/>
                  </a:lnTo>
                  <a:lnTo>
                    <a:pt x="3918" y="997"/>
                  </a:lnTo>
                  <a:lnTo>
                    <a:pt x="3936" y="940"/>
                  </a:lnTo>
                  <a:lnTo>
                    <a:pt x="3934" y="949"/>
                  </a:lnTo>
                  <a:lnTo>
                    <a:pt x="3940" y="888"/>
                  </a:lnTo>
                  <a:lnTo>
                    <a:pt x="3940" y="346"/>
                  </a:lnTo>
                  <a:lnTo>
                    <a:pt x="3934" y="290"/>
                  </a:lnTo>
                  <a:lnTo>
                    <a:pt x="3936" y="299"/>
                  </a:lnTo>
                  <a:lnTo>
                    <a:pt x="3918" y="242"/>
                  </a:lnTo>
                  <a:lnTo>
                    <a:pt x="3921" y="249"/>
                  </a:lnTo>
                  <a:lnTo>
                    <a:pt x="3893" y="198"/>
                  </a:lnTo>
                  <a:lnTo>
                    <a:pt x="3897" y="205"/>
                  </a:lnTo>
                  <a:lnTo>
                    <a:pt x="3861" y="160"/>
                  </a:lnTo>
                  <a:lnTo>
                    <a:pt x="3868" y="166"/>
                  </a:lnTo>
                  <a:lnTo>
                    <a:pt x="3823" y="129"/>
                  </a:lnTo>
                  <a:lnTo>
                    <a:pt x="3830" y="134"/>
                  </a:lnTo>
                  <a:lnTo>
                    <a:pt x="3779" y="106"/>
                  </a:lnTo>
                  <a:lnTo>
                    <a:pt x="3786" y="109"/>
                  </a:lnTo>
                  <a:lnTo>
                    <a:pt x="3729" y="91"/>
                  </a:lnTo>
                  <a:lnTo>
                    <a:pt x="3738" y="93"/>
                  </a:lnTo>
                  <a:lnTo>
                    <a:pt x="3677" y="87"/>
                  </a:lnTo>
                  <a:lnTo>
                    <a:pt x="345" y="87"/>
                  </a:lnTo>
                  <a:lnTo>
                    <a:pt x="289" y="93"/>
                  </a:lnTo>
                  <a:lnTo>
                    <a:pt x="298" y="91"/>
                  </a:lnTo>
                  <a:lnTo>
                    <a:pt x="241" y="109"/>
                  </a:lnTo>
                  <a:lnTo>
                    <a:pt x="248" y="106"/>
                  </a:lnTo>
                  <a:lnTo>
                    <a:pt x="197" y="134"/>
                  </a:lnTo>
                  <a:lnTo>
                    <a:pt x="204" y="129"/>
                  </a:lnTo>
                  <a:lnTo>
                    <a:pt x="159" y="166"/>
                  </a:lnTo>
                  <a:lnTo>
                    <a:pt x="165" y="160"/>
                  </a:lnTo>
                  <a:lnTo>
                    <a:pt x="129" y="205"/>
                  </a:lnTo>
                  <a:lnTo>
                    <a:pt x="134" y="198"/>
                  </a:lnTo>
                  <a:lnTo>
                    <a:pt x="106" y="249"/>
                  </a:lnTo>
                  <a:lnTo>
                    <a:pt x="109" y="242"/>
                  </a:lnTo>
                  <a:lnTo>
                    <a:pt x="91" y="299"/>
                  </a:lnTo>
                  <a:lnTo>
                    <a:pt x="93" y="290"/>
                  </a:lnTo>
                  <a:lnTo>
                    <a:pt x="87" y="351"/>
                  </a:lnTo>
                  <a:lnTo>
                    <a:pt x="87" y="892"/>
                  </a:lnTo>
                  <a:lnTo>
                    <a:pt x="93" y="949"/>
                  </a:lnTo>
                  <a:lnTo>
                    <a:pt x="91" y="940"/>
                  </a:lnTo>
                  <a:lnTo>
                    <a:pt x="109" y="997"/>
                  </a:lnTo>
                  <a:lnTo>
                    <a:pt x="106" y="990"/>
                  </a:lnTo>
                  <a:lnTo>
                    <a:pt x="134" y="1041"/>
                  </a:lnTo>
                  <a:lnTo>
                    <a:pt x="129" y="1034"/>
                  </a:lnTo>
                  <a:lnTo>
                    <a:pt x="165" y="1079"/>
                  </a:lnTo>
                  <a:lnTo>
                    <a:pt x="159" y="1072"/>
                  </a:lnTo>
                  <a:lnTo>
                    <a:pt x="204" y="1108"/>
                  </a:lnTo>
                  <a:lnTo>
                    <a:pt x="197" y="1104"/>
                  </a:lnTo>
                  <a:lnTo>
                    <a:pt x="248" y="1132"/>
                  </a:lnTo>
                  <a:lnTo>
                    <a:pt x="241" y="1129"/>
                  </a:lnTo>
                  <a:lnTo>
                    <a:pt x="298" y="1147"/>
                  </a:lnTo>
                  <a:lnTo>
                    <a:pt x="289" y="1145"/>
                  </a:lnTo>
                  <a:lnTo>
                    <a:pt x="350" y="1151"/>
                  </a:lnTo>
                  <a:close/>
                  <a:moveTo>
                    <a:pt x="280" y="1232"/>
                  </a:moveTo>
                  <a:cubicBezTo>
                    <a:pt x="277" y="1231"/>
                    <a:pt x="274" y="1231"/>
                    <a:pt x="271" y="1230"/>
                  </a:cubicBezTo>
                  <a:lnTo>
                    <a:pt x="214" y="1212"/>
                  </a:lnTo>
                  <a:cubicBezTo>
                    <a:pt x="212" y="1211"/>
                    <a:pt x="209" y="1210"/>
                    <a:pt x="207" y="1209"/>
                  </a:cubicBezTo>
                  <a:lnTo>
                    <a:pt x="156" y="1181"/>
                  </a:lnTo>
                  <a:cubicBezTo>
                    <a:pt x="153" y="1179"/>
                    <a:pt x="151" y="1178"/>
                    <a:pt x="149" y="1176"/>
                  </a:cubicBezTo>
                  <a:lnTo>
                    <a:pt x="104" y="1140"/>
                  </a:lnTo>
                  <a:cubicBezTo>
                    <a:pt x="102" y="1138"/>
                    <a:pt x="99" y="1136"/>
                    <a:pt x="97" y="1134"/>
                  </a:cubicBezTo>
                  <a:lnTo>
                    <a:pt x="61" y="1089"/>
                  </a:lnTo>
                  <a:cubicBezTo>
                    <a:pt x="60" y="1087"/>
                    <a:pt x="59" y="1085"/>
                    <a:pt x="57" y="1082"/>
                  </a:cubicBezTo>
                  <a:lnTo>
                    <a:pt x="29" y="1031"/>
                  </a:lnTo>
                  <a:cubicBezTo>
                    <a:pt x="28" y="1029"/>
                    <a:pt x="27" y="1026"/>
                    <a:pt x="26" y="1024"/>
                  </a:cubicBezTo>
                  <a:lnTo>
                    <a:pt x="8" y="967"/>
                  </a:lnTo>
                  <a:cubicBezTo>
                    <a:pt x="7" y="964"/>
                    <a:pt x="6" y="961"/>
                    <a:pt x="6" y="958"/>
                  </a:cubicBezTo>
                  <a:lnTo>
                    <a:pt x="0" y="892"/>
                  </a:lnTo>
                  <a:lnTo>
                    <a:pt x="0" y="342"/>
                  </a:lnTo>
                  <a:lnTo>
                    <a:pt x="6" y="281"/>
                  </a:lnTo>
                  <a:cubicBezTo>
                    <a:pt x="6" y="278"/>
                    <a:pt x="7" y="275"/>
                    <a:pt x="8" y="272"/>
                  </a:cubicBezTo>
                  <a:lnTo>
                    <a:pt x="26" y="215"/>
                  </a:lnTo>
                  <a:cubicBezTo>
                    <a:pt x="27" y="213"/>
                    <a:pt x="28" y="210"/>
                    <a:pt x="29" y="208"/>
                  </a:cubicBezTo>
                  <a:lnTo>
                    <a:pt x="57" y="157"/>
                  </a:lnTo>
                  <a:cubicBezTo>
                    <a:pt x="59" y="154"/>
                    <a:pt x="60" y="152"/>
                    <a:pt x="61" y="150"/>
                  </a:cubicBezTo>
                  <a:lnTo>
                    <a:pt x="97" y="105"/>
                  </a:lnTo>
                  <a:cubicBezTo>
                    <a:pt x="99" y="103"/>
                    <a:pt x="101" y="101"/>
                    <a:pt x="104" y="99"/>
                  </a:cubicBezTo>
                  <a:lnTo>
                    <a:pt x="149" y="62"/>
                  </a:lnTo>
                  <a:cubicBezTo>
                    <a:pt x="151" y="60"/>
                    <a:pt x="153" y="59"/>
                    <a:pt x="156" y="57"/>
                  </a:cubicBezTo>
                  <a:lnTo>
                    <a:pt x="207" y="29"/>
                  </a:lnTo>
                  <a:cubicBezTo>
                    <a:pt x="209" y="28"/>
                    <a:pt x="212" y="27"/>
                    <a:pt x="214" y="26"/>
                  </a:cubicBezTo>
                  <a:lnTo>
                    <a:pt x="271" y="8"/>
                  </a:lnTo>
                  <a:cubicBezTo>
                    <a:pt x="274" y="7"/>
                    <a:pt x="277" y="6"/>
                    <a:pt x="280" y="6"/>
                  </a:cubicBezTo>
                  <a:lnTo>
                    <a:pt x="345" y="0"/>
                  </a:lnTo>
                  <a:lnTo>
                    <a:pt x="3686" y="0"/>
                  </a:lnTo>
                  <a:lnTo>
                    <a:pt x="3747" y="6"/>
                  </a:lnTo>
                  <a:cubicBezTo>
                    <a:pt x="3750" y="6"/>
                    <a:pt x="3753" y="7"/>
                    <a:pt x="3756" y="8"/>
                  </a:cubicBezTo>
                  <a:lnTo>
                    <a:pt x="3813" y="26"/>
                  </a:lnTo>
                  <a:cubicBezTo>
                    <a:pt x="3815" y="27"/>
                    <a:pt x="3818" y="28"/>
                    <a:pt x="3820" y="29"/>
                  </a:cubicBezTo>
                  <a:lnTo>
                    <a:pt x="3871" y="57"/>
                  </a:lnTo>
                  <a:cubicBezTo>
                    <a:pt x="3874" y="59"/>
                    <a:pt x="3876" y="60"/>
                    <a:pt x="3878" y="62"/>
                  </a:cubicBezTo>
                  <a:lnTo>
                    <a:pt x="3923" y="99"/>
                  </a:lnTo>
                  <a:cubicBezTo>
                    <a:pt x="3925" y="101"/>
                    <a:pt x="3928" y="103"/>
                    <a:pt x="3929" y="105"/>
                  </a:cubicBezTo>
                  <a:lnTo>
                    <a:pt x="3965" y="150"/>
                  </a:lnTo>
                  <a:cubicBezTo>
                    <a:pt x="3967" y="152"/>
                    <a:pt x="3968" y="154"/>
                    <a:pt x="3970" y="157"/>
                  </a:cubicBezTo>
                  <a:lnTo>
                    <a:pt x="3998" y="208"/>
                  </a:lnTo>
                  <a:cubicBezTo>
                    <a:pt x="3999" y="210"/>
                    <a:pt x="4000" y="213"/>
                    <a:pt x="4001" y="215"/>
                  </a:cubicBezTo>
                  <a:lnTo>
                    <a:pt x="4019" y="272"/>
                  </a:lnTo>
                  <a:cubicBezTo>
                    <a:pt x="4020" y="275"/>
                    <a:pt x="4020" y="278"/>
                    <a:pt x="4021" y="281"/>
                  </a:cubicBezTo>
                  <a:lnTo>
                    <a:pt x="4027" y="346"/>
                  </a:lnTo>
                  <a:lnTo>
                    <a:pt x="4027" y="897"/>
                  </a:lnTo>
                  <a:lnTo>
                    <a:pt x="4021" y="958"/>
                  </a:lnTo>
                  <a:cubicBezTo>
                    <a:pt x="4020" y="961"/>
                    <a:pt x="4020" y="964"/>
                    <a:pt x="4019" y="967"/>
                  </a:cubicBezTo>
                  <a:lnTo>
                    <a:pt x="4001" y="1024"/>
                  </a:lnTo>
                  <a:cubicBezTo>
                    <a:pt x="4000" y="1026"/>
                    <a:pt x="3999" y="1029"/>
                    <a:pt x="3998" y="1031"/>
                  </a:cubicBezTo>
                  <a:lnTo>
                    <a:pt x="3970" y="1082"/>
                  </a:lnTo>
                  <a:cubicBezTo>
                    <a:pt x="3968" y="1085"/>
                    <a:pt x="3967" y="1087"/>
                    <a:pt x="3965" y="1089"/>
                  </a:cubicBezTo>
                  <a:lnTo>
                    <a:pt x="3929" y="1134"/>
                  </a:lnTo>
                  <a:cubicBezTo>
                    <a:pt x="3927" y="1136"/>
                    <a:pt x="3925" y="1138"/>
                    <a:pt x="3923" y="1140"/>
                  </a:cubicBezTo>
                  <a:lnTo>
                    <a:pt x="3878" y="1176"/>
                  </a:lnTo>
                  <a:cubicBezTo>
                    <a:pt x="3876" y="1178"/>
                    <a:pt x="3874" y="1179"/>
                    <a:pt x="3871" y="1181"/>
                  </a:cubicBezTo>
                  <a:lnTo>
                    <a:pt x="3820" y="1209"/>
                  </a:lnTo>
                  <a:cubicBezTo>
                    <a:pt x="3818" y="1210"/>
                    <a:pt x="3815" y="1211"/>
                    <a:pt x="3813" y="1212"/>
                  </a:cubicBezTo>
                  <a:lnTo>
                    <a:pt x="3756" y="1230"/>
                  </a:lnTo>
                  <a:cubicBezTo>
                    <a:pt x="3753" y="1231"/>
                    <a:pt x="3750" y="1231"/>
                    <a:pt x="3747" y="1232"/>
                  </a:cubicBezTo>
                  <a:lnTo>
                    <a:pt x="3681" y="1238"/>
                  </a:lnTo>
                  <a:lnTo>
                    <a:pt x="341" y="1238"/>
                  </a:lnTo>
                  <a:lnTo>
                    <a:pt x="280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75000" y="1874880"/>
              <a:ext cx="2019240" cy="581040"/>
            </a:xfrm>
            <a:custGeom>
              <a:avLst/>
              <a:gdLst/>
              <a:ahLst/>
              <a:rect l="l" t="t" r="r" b="b"/>
              <a:pathLst>
                <a:path w="3957" h="1139">
                  <a:moveTo>
                    <a:pt x="242" y="1139"/>
                  </a:moveTo>
                  <a:lnTo>
                    <a:pt x="3715" y="1139"/>
                  </a:lnTo>
                  <a:cubicBezTo>
                    <a:pt x="3848" y="1139"/>
                    <a:pt x="3957" y="1031"/>
                    <a:pt x="3957" y="897"/>
                  </a:cubicBezTo>
                  <a:cubicBezTo>
                    <a:pt x="3957" y="897"/>
                    <a:pt x="3957" y="897"/>
                    <a:pt x="3957" y="897"/>
                  </a:cubicBezTo>
                  <a:lnTo>
                    <a:pt x="3957" y="242"/>
                  </a:lnTo>
                  <a:cubicBezTo>
                    <a:pt x="3957" y="108"/>
                    <a:pt x="3848" y="0"/>
                    <a:pt x="3715" y="0"/>
                  </a:cubicBezTo>
                  <a:lnTo>
                    <a:pt x="242" y="0"/>
                  </a:lnTo>
                  <a:cubicBezTo>
                    <a:pt x="108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8" y="1139"/>
                    <a:pt x="242" y="1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5000" y="1874880"/>
              <a:ext cx="2019240" cy="581040"/>
            </a:xfrm>
            <a:custGeom>
              <a:avLst/>
              <a:gdLst/>
              <a:ahLst/>
              <a:rect l="l" t="t" r="r" b="b"/>
              <a:pathLst>
                <a:path w="3957" h="1139">
                  <a:moveTo>
                    <a:pt x="242" y="1139"/>
                  </a:moveTo>
                  <a:lnTo>
                    <a:pt x="3715" y="1139"/>
                  </a:lnTo>
                  <a:cubicBezTo>
                    <a:pt x="3848" y="1139"/>
                    <a:pt x="3957" y="1031"/>
                    <a:pt x="3957" y="897"/>
                  </a:cubicBezTo>
                  <a:cubicBezTo>
                    <a:pt x="3957" y="897"/>
                    <a:pt x="3957" y="897"/>
                    <a:pt x="3957" y="897"/>
                  </a:cubicBezTo>
                  <a:lnTo>
                    <a:pt x="3957" y="242"/>
                  </a:lnTo>
                  <a:cubicBezTo>
                    <a:pt x="3957" y="108"/>
                    <a:pt x="3848" y="0"/>
                    <a:pt x="3715" y="0"/>
                  </a:cubicBezTo>
                  <a:lnTo>
                    <a:pt x="242" y="0"/>
                  </a:lnTo>
                  <a:cubicBezTo>
                    <a:pt x="108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8" y="1139"/>
                    <a:pt x="242" y="1139"/>
                  </a:cubicBezTo>
                  <a:close/>
                </a:path>
              </a:pathLst>
            </a:custGeom>
            <a:noFill/>
            <a:ln cap="rnd" w="12600">
              <a:solidFill>
                <a:srgbClr val="1b6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03640" y="20462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ТАБА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8000" y="1846440"/>
              <a:ext cx="2073240" cy="631800"/>
            </a:xfrm>
            <a:custGeom>
              <a:avLst/>
              <a:gdLst/>
              <a:ahLst/>
              <a:rect l="l" t="t" r="r" b="b"/>
              <a:pathLst>
                <a:path w="4062" h="1238">
                  <a:moveTo>
                    <a:pt x="350" y="1151"/>
                  </a:moveTo>
                  <a:lnTo>
                    <a:pt x="3716" y="1151"/>
                  </a:lnTo>
                  <a:lnTo>
                    <a:pt x="3773" y="1145"/>
                  </a:lnTo>
                  <a:lnTo>
                    <a:pt x="3764" y="1147"/>
                  </a:lnTo>
                  <a:lnTo>
                    <a:pt x="3821" y="1129"/>
                  </a:lnTo>
                  <a:lnTo>
                    <a:pt x="3814" y="1132"/>
                  </a:lnTo>
                  <a:lnTo>
                    <a:pt x="3865" y="1104"/>
                  </a:lnTo>
                  <a:lnTo>
                    <a:pt x="3858" y="1108"/>
                  </a:lnTo>
                  <a:lnTo>
                    <a:pt x="3903" y="1072"/>
                  </a:lnTo>
                  <a:lnTo>
                    <a:pt x="3896" y="1079"/>
                  </a:lnTo>
                  <a:lnTo>
                    <a:pt x="3932" y="1034"/>
                  </a:lnTo>
                  <a:lnTo>
                    <a:pt x="3928" y="1041"/>
                  </a:lnTo>
                  <a:lnTo>
                    <a:pt x="3956" y="990"/>
                  </a:lnTo>
                  <a:lnTo>
                    <a:pt x="3953" y="997"/>
                  </a:lnTo>
                  <a:lnTo>
                    <a:pt x="3971" y="940"/>
                  </a:lnTo>
                  <a:lnTo>
                    <a:pt x="3969" y="949"/>
                  </a:lnTo>
                  <a:lnTo>
                    <a:pt x="3975" y="888"/>
                  </a:lnTo>
                  <a:lnTo>
                    <a:pt x="3975" y="346"/>
                  </a:lnTo>
                  <a:lnTo>
                    <a:pt x="3969" y="290"/>
                  </a:lnTo>
                  <a:lnTo>
                    <a:pt x="3971" y="299"/>
                  </a:lnTo>
                  <a:lnTo>
                    <a:pt x="3953" y="242"/>
                  </a:lnTo>
                  <a:lnTo>
                    <a:pt x="3956" y="249"/>
                  </a:lnTo>
                  <a:lnTo>
                    <a:pt x="3928" y="198"/>
                  </a:lnTo>
                  <a:lnTo>
                    <a:pt x="3932" y="205"/>
                  </a:lnTo>
                  <a:lnTo>
                    <a:pt x="3896" y="160"/>
                  </a:lnTo>
                  <a:lnTo>
                    <a:pt x="3903" y="166"/>
                  </a:lnTo>
                  <a:lnTo>
                    <a:pt x="3858" y="129"/>
                  </a:lnTo>
                  <a:lnTo>
                    <a:pt x="3865" y="134"/>
                  </a:lnTo>
                  <a:lnTo>
                    <a:pt x="3814" y="106"/>
                  </a:lnTo>
                  <a:lnTo>
                    <a:pt x="3821" y="109"/>
                  </a:lnTo>
                  <a:lnTo>
                    <a:pt x="3764" y="91"/>
                  </a:lnTo>
                  <a:lnTo>
                    <a:pt x="3773" y="93"/>
                  </a:lnTo>
                  <a:lnTo>
                    <a:pt x="3712" y="87"/>
                  </a:lnTo>
                  <a:lnTo>
                    <a:pt x="345" y="87"/>
                  </a:lnTo>
                  <a:lnTo>
                    <a:pt x="289" y="93"/>
                  </a:lnTo>
                  <a:lnTo>
                    <a:pt x="298" y="91"/>
                  </a:lnTo>
                  <a:lnTo>
                    <a:pt x="241" y="109"/>
                  </a:lnTo>
                  <a:lnTo>
                    <a:pt x="248" y="106"/>
                  </a:lnTo>
                  <a:lnTo>
                    <a:pt x="197" y="134"/>
                  </a:lnTo>
                  <a:lnTo>
                    <a:pt x="204" y="129"/>
                  </a:lnTo>
                  <a:lnTo>
                    <a:pt x="159" y="166"/>
                  </a:lnTo>
                  <a:lnTo>
                    <a:pt x="165" y="160"/>
                  </a:lnTo>
                  <a:lnTo>
                    <a:pt x="129" y="205"/>
                  </a:lnTo>
                  <a:lnTo>
                    <a:pt x="134" y="198"/>
                  </a:lnTo>
                  <a:lnTo>
                    <a:pt x="106" y="249"/>
                  </a:lnTo>
                  <a:lnTo>
                    <a:pt x="109" y="242"/>
                  </a:lnTo>
                  <a:lnTo>
                    <a:pt x="91" y="299"/>
                  </a:lnTo>
                  <a:lnTo>
                    <a:pt x="93" y="290"/>
                  </a:lnTo>
                  <a:lnTo>
                    <a:pt x="87" y="351"/>
                  </a:lnTo>
                  <a:lnTo>
                    <a:pt x="87" y="892"/>
                  </a:lnTo>
                  <a:lnTo>
                    <a:pt x="93" y="949"/>
                  </a:lnTo>
                  <a:lnTo>
                    <a:pt x="91" y="940"/>
                  </a:lnTo>
                  <a:lnTo>
                    <a:pt x="109" y="997"/>
                  </a:lnTo>
                  <a:lnTo>
                    <a:pt x="106" y="990"/>
                  </a:lnTo>
                  <a:lnTo>
                    <a:pt x="134" y="1041"/>
                  </a:lnTo>
                  <a:lnTo>
                    <a:pt x="129" y="1034"/>
                  </a:lnTo>
                  <a:lnTo>
                    <a:pt x="165" y="1079"/>
                  </a:lnTo>
                  <a:lnTo>
                    <a:pt x="159" y="1072"/>
                  </a:lnTo>
                  <a:lnTo>
                    <a:pt x="204" y="1108"/>
                  </a:lnTo>
                  <a:lnTo>
                    <a:pt x="197" y="1104"/>
                  </a:lnTo>
                  <a:lnTo>
                    <a:pt x="248" y="1132"/>
                  </a:lnTo>
                  <a:lnTo>
                    <a:pt x="241" y="1129"/>
                  </a:lnTo>
                  <a:lnTo>
                    <a:pt x="298" y="1147"/>
                  </a:lnTo>
                  <a:lnTo>
                    <a:pt x="289" y="1145"/>
                  </a:lnTo>
                  <a:lnTo>
                    <a:pt x="350" y="1151"/>
                  </a:lnTo>
                  <a:close/>
                  <a:moveTo>
                    <a:pt x="280" y="1232"/>
                  </a:moveTo>
                  <a:cubicBezTo>
                    <a:pt x="277" y="1231"/>
                    <a:pt x="274" y="1231"/>
                    <a:pt x="271" y="1230"/>
                  </a:cubicBezTo>
                  <a:lnTo>
                    <a:pt x="214" y="1212"/>
                  </a:lnTo>
                  <a:cubicBezTo>
                    <a:pt x="212" y="1211"/>
                    <a:pt x="209" y="1210"/>
                    <a:pt x="207" y="1209"/>
                  </a:cubicBezTo>
                  <a:lnTo>
                    <a:pt x="156" y="1181"/>
                  </a:lnTo>
                  <a:cubicBezTo>
                    <a:pt x="153" y="1179"/>
                    <a:pt x="151" y="1178"/>
                    <a:pt x="149" y="1176"/>
                  </a:cubicBezTo>
                  <a:lnTo>
                    <a:pt x="104" y="1140"/>
                  </a:lnTo>
                  <a:cubicBezTo>
                    <a:pt x="102" y="1138"/>
                    <a:pt x="99" y="1136"/>
                    <a:pt x="97" y="1134"/>
                  </a:cubicBezTo>
                  <a:lnTo>
                    <a:pt x="61" y="1089"/>
                  </a:lnTo>
                  <a:cubicBezTo>
                    <a:pt x="60" y="1087"/>
                    <a:pt x="59" y="1085"/>
                    <a:pt x="57" y="1082"/>
                  </a:cubicBezTo>
                  <a:lnTo>
                    <a:pt x="29" y="1031"/>
                  </a:lnTo>
                  <a:cubicBezTo>
                    <a:pt x="28" y="1029"/>
                    <a:pt x="27" y="1026"/>
                    <a:pt x="26" y="1024"/>
                  </a:cubicBezTo>
                  <a:lnTo>
                    <a:pt x="8" y="967"/>
                  </a:lnTo>
                  <a:cubicBezTo>
                    <a:pt x="7" y="964"/>
                    <a:pt x="6" y="961"/>
                    <a:pt x="6" y="958"/>
                  </a:cubicBezTo>
                  <a:lnTo>
                    <a:pt x="0" y="892"/>
                  </a:lnTo>
                  <a:lnTo>
                    <a:pt x="0" y="342"/>
                  </a:lnTo>
                  <a:lnTo>
                    <a:pt x="6" y="281"/>
                  </a:lnTo>
                  <a:cubicBezTo>
                    <a:pt x="6" y="278"/>
                    <a:pt x="7" y="275"/>
                    <a:pt x="8" y="272"/>
                  </a:cubicBezTo>
                  <a:lnTo>
                    <a:pt x="26" y="215"/>
                  </a:lnTo>
                  <a:cubicBezTo>
                    <a:pt x="27" y="213"/>
                    <a:pt x="28" y="210"/>
                    <a:pt x="29" y="208"/>
                  </a:cubicBezTo>
                  <a:lnTo>
                    <a:pt x="57" y="157"/>
                  </a:lnTo>
                  <a:cubicBezTo>
                    <a:pt x="59" y="154"/>
                    <a:pt x="60" y="152"/>
                    <a:pt x="61" y="150"/>
                  </a:cubicBezTo>
                  <a:lnTo>
                    <a:pt x="97" y="105"/>
                  </a:lnTo>
                  <a:cubicBezTo>
                    <a:pt x="99" y="103"/>
                    <a:pt x="101" y="101"/>
                    <a:pt x="104" y="99"/>
                  </a:cubicBezTo>
                  <a:lnTo>
                    <a:pt x="149" y="62"/>
                  </a:lnTo>
                  <a:cubicBezTo>
                    <a:pt x="151" y="60"/>
                    <a:pt x="153" y="59"/>
                    <a:pt x="156" y="57"/>
                  </a:cubicBezTo>
                  <a:lnTo>
                    <a:pt x="207" y="29"/>
                  </a:lnTo>
                  <a:cubicBezTo>
                    <a:pt x="209" y="28"/>
                    <a:pt x="212" y="27"/>
                    <a:pt x="214" y="26"/>
                  </a:cubicBezTo>
                  <a:lnTo>
                    <a:pt x="271" y="8"/>
                  </a:lnTo>
                  <a:cubicBezTo>
                    <a:pt x="274" y="7"/>
                    <a:pt x="277" y="6"/>
                    <a:pt x="280" y="6"/>
                  </a:cubicBezTo>
                  <a:lnTo>
                    <a:pt x="345" y="0"/>
                  </a:lnTo>
                  <a:lnTo>
                    <a:pt x="3721" y="0"/>
                  </a:lnTo>
                  <a:lnTo>
                    <a:pt x="3782" y="6"/>
                  </a:lnTo>
                  <a:cubicBezTo>
                    <a:pt x="3785" y="6"/>
                    <a:pt x="3788" y="7"/>
                    <a:pt x="3791" y="8"/>
                  </a:cubicBezTo>
                  <a:lnTo>
                    <a:pt x="3848" y="26"/>
                  </a:lnTo>
                  <a:cubicBezTo>
                    <a:pt x="3850" y="27"/>
                    <a:pt x="3853" y="28"/>
                    <a:pt x="3855" y="29"/>
                  </a:cubicBezTo>
                  <a:lnTo>
                    <a:pt x="3906" y="57"/>
                  </a:lnTo>
                  <a:cubicBezTo>
                    <a:pt x="3909" y="59"/>
                    <a:pt x="3911" y="60"/>
                    <a:pt x="3913" y="62"/>
                  </a:cubicBezTo>
                  <a:lnTo>
                    <a:pt x="3958" y="99"/>
                  </a:lnTo>
                  <a:cubicBezTo>
                    <a:pt x="3960" y="101"/>
                    <a:pt x="3963" y="103"/>
                    <a:pt x="3964" y="105"/>
                  </a:cubicBezTo>
                  <a:lnTo>
                    <a:pt x="4000" y="150"/>
                  </a:lnTo>
                  <a:cubicBezTo>
                    <a:pt x="4002" y="152"/>
                    <a:pt x="4003" y="154"/>
                    <a:pt x="4005" y="157"/>
                  </a:cubicBezTo>
                  <a:lnTo>
                    <a:pt x="4033" y="208"/>
                  </a:lnTo>
                  <a:cubicBezTo>
                    <a:pt x="4034" y="210"/>
                    <a:pt x="4035" y="213"/>
                    <a:pt x="4036" y="215"/>
                  </a:cubicBezTo>
                  <a:lnTo>
                    <a:pt x="4054" y="272"/>
                  </a:lnTo>
                  <a:cubicBezTo>
                    <a:pt x="4055" y="275"/>
                    <a:pt x="4055" y="278"/>
                    <a:pt x="4056" y="281"/>
                  </a:cubicBezTo>
                  <a:lnTo>
                    <a:pt x="4062" y="346"/>
                  </a:lnTo>
                  <a:lnTo>
                    <a:pt x="4062" y="897"/>
                  </a:lnTo>
                  <a:lnTo>
                    <a:pt x="4056" y="958"/>
                  </a:lnTo>
                  <a:cubicBezTo>
                    <a:pt x="4055" y="961"/>
                    <a:pt x="4055" y="964"/>
                    <a:pt x="4054" y="967"/>
                  </a:cubicBezTo>
                  <a:lnTo>
                    <a:pt x="4036" y="1024"/>
                  </a:lnTo>
                  <a:cubicBezTo>
                    <a:pt x="4035" y="1026"/>
                    <a:pt x="4034" y="1029"/>
                    <a:pt x="4033" y="1031"/>
                  </a:cubicBezTo>
                  <a:lnTo>
                    <a:pt x="4005" y="1082"/>
                  </a:lnTo>
                  <a:cubicBezTo>
                    <a:pt x="4003" y="1085"/>
                    <a:pt x="4002" y="1087"/>
                    <a:pt x="4000" y="1089"/>
                  </a:cubicBezTo>
                  <a:lnTo>
                    <a:pt x="3964" y="1134"/>
                  </a:lnTo>
                  <a:cubicBezTo>
                    <a:pt x="3962" y="1136"/>
                    <a:pt x="3960" y="1138"/>
                    <a:pt x="3958" y="1140"/>
                  </a:cubicBezTo>
                  <a:lnTo>
                    <a:pt x="3913" y="1176"/>
                  </a:lnTo>
                  <a:cubicBezTo>
                    <a:pt x="3911" y="1178"/>
                    <a:pt x="3909" y="1179"/>
                    <a:pt x="3906" y="1181"/>
                  </a:cubicBezTo>
                  <a:lnTo>
                    <a:pt x="3855" y="1209"/>
                  </a:lnTo>
                  <a:cubicBezTo>
                    <a:pt x="3853" y="1210"/>
                    <a:pt x="3850" y="1211"/>
                    <a:pt x="3848" y="1212"/>
                  </a:cubicBezTo>
                  <a:lnTo>
                    <a:pt x="3791" y="1230"/>
                  </a:lnTo>
                  <a:cubicBezTo>
                    <a:pt x="3788" y="1231"/>
                    <a:pt x="3785" y="1231"/>
                    <a:pt x="3782" y="1232"/>
                  </a:cubicBezTo>
                  <a:lnTo>
                    <a:pt x="3716" y="1238"/>
                  </a:lnTo>
                  <a:lnTo>
                    <a:pt x="341" y="1238"/>
                  </a:lnTo>
                  <a:lnTo>
                    <a:pt x="280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4440" y="1874880"/>
              <a:ext cx="2001960" cy="581040"/>
            </a:xfrm>
            <a:custGeom>
              <a:avLst/>
              <a:gdLst/>
              <a:ahLst/>
              <a:rect l="l" t="t" r="r" b="b"/>
              <a:pathLst>
                <a:path w="3924" h="1139">
                  <a:moveTo>
                    <a:pt x="242" y="1139"/>
                  </a:moveTo>
                  <a:lnTo>
                    <a:pt x="3682" y="1139"/>
                  </a:lnTo>
                  <a:cubicBezTo>
                    <a:pt x="3816" y="1139"/>
                    <a:pt x="3924" y="1031"/>
                    <a:pt x="3924" y="897"/>
                  </a:cubicBezTo>
                  <a:cubicBezTo>
                    <a:pt x="3924" y="897"/>
                    <a:pt x="3924" y="897"/>
                    <a:pt x="3924" y="897"/>
                  </a:cubicBezTo>
                  <a:lnTo>
                    <a:pt x="3924" y="242"/>
                  </a:lnTo>
                  <a:cubicBezTo>
                    <a:pt x="3924" y="108"/>
                    <a:pt x="3816" y="0"/>
                    <a:pt x="3682" y="0"/>
                  </a:cubicBezTo>
                  <a:lnTo>
                    <a:pt x="242" y="0"/>
                  </a:lnTo>
                  <a:cubicBezTo>
                    <a:pt x="109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9" y="1139"/>
                    <a:pt x="242" y="1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1874880"/>
              <a:ext cx="2001960" cy="581040"/>
            </a:xfrm>
            <a:custGeom>
              <a:avLst/>
              <a:gdLst/>
              <a:ahLst/>
              <a:rect l="l" t="t" r="r" b="b"/>
              <a:pathLst>
                <a:path w="3924" h="1139">
                  <a:moveTo>
                    <a:pt x="242" y="1139"/>
                  </a:moveTo>
                  <a:lnTo>
                    <a:pt x="3682" y="1139"/>
                  </a:lnTo>
                  <a:cubicBezTo>
                    <a:pt x="3816" y="1139"/>
                    <a:pt x="3924" y="1031"/>
                    <a:pt x="3924" y="897"/>
                  </a:cubicBezTo>
                  <a:cubicBezTo>
                    <a:pt x="3924" y="897"/>
                    <a:pt x="3924" y="897"/>
                    <a:pt x="3924" y="897"/>
                  </a:cubicBezTo>
                  <a:lnTo>
                    <a:pt x="3924" y="242"/>
                  </a:lnTo>
                  <a:cubicBezTo>
                    <a:pt x="3924" y="108"/>
                    <a:pt x="3816" y="0"/>
                    <a:pt x="3682" y="0"/>
                  </a:cubicBezTo>
                  <a:lnTo>
                    <a:pt x="242" y="0"/>
                  </a:lnTo>
                  <a:cubicBezTo>
                    <a:pt x="109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9" y="1139"/>
                    <a:pt x="242" y="1139"/>
                  </a:cubicBezTo>
                  <a:close/>
                </a:path>
              </a:pathLst>
            </a:custGeom>
            <a:noFill/>
            <a:ln cap="rnd" w="12600">
              <a:solidFill>
                <a:srgbClr val="1b6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19240" y="1952640"/>
              <a:ext cx="1826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НЕСБАЛАНСИРОВАН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НОЕ ПИТ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4560" y="1846440"/>
              <a:ext cx="2054160" cy="631800"/>
            </a:xfrm>
            <a:custGeom>
              <a:avLst/>
              <a:gdLst/>
              <a:ahLst/>
              <a:rect l="l" t="t" r="r" b="b"/>
              <a:pathLst>
                <a:path w="4028" h="1238">
                  <a:moveTo>
                    <a:pt x="351" y="1151"/>
                  </a:moveTo>
                  <a:lnTo>
                    <a:pt x="3681" y="1151"/>
                  </a:lnTo>
                  <a:lnTo>
                    <a:pt x="3738" y="1145"/>
                  </a:lnTo>
                  <a:lnTo>
                    <a:pt x="3729" y="1147"/>
                  </a:lnTo>
                  <a:lnTo>
                    <a:pt x="3786" y="1129"/>
                  </a:lnTo>
                  <a:lnTo>
                    <a:pt x="3779" y="1132"/>
                  </a:lnTo>
                  <a:lnTo>
                    <a:pt x="3830" y="1104"/>
                  </a:lnTo>
                  <a:lnTo>
                    <a:pt x="3823" y="1108"/>
                  </a:lnTo>
                  <a:lnTo>
                    <a:pt x="3868" y="1072"/>
                  </a:lnTo>
                  <a:lnTo>
                    <a:pt x="3862" y="1079"/>
                  </a:lnTo>
                  <a:lnTo>
                    <a:pt x="3899" y="1034"/>
                  </a:lnTo>
                  <a:lnTo>
                    <a:pt x="3894" y="1041"/>
                  </a:lnTo>
                  <a:lnTo>
                    <a:pt x="3922" y="990"/>
                  </a:lnTo>
                  <a:lnTo>
                    <a:pt x="3919" y="997"/>
                  </a:lnTo>
                  <a:lnTo>
                    <a:pt x="3937" y="940"/>
                  </a:lnTo>
                  <a:lnTo>
                    <a:pt x="3935" y="949"/>
                  </a:lnTo>
                  <a:lnTo>
                    <a:pt x="3941" y="888"/>
                  </a:lnTo>
                  <a:lnTo>
                    <a:pt x="3941" y="346"/>
                  </a:lnTo>
                  <a:lnTo>
                    <a:pt x="3935" y="290"/>
                  </a:lnTo>
                  <a:lnTo>
                    <a:pt x="3937" y="299"/>
                  </a:lnTo>
                  <a:lnTo>
                    <a:pt x="3919" y="242"/>
                  </a:lnTo>
                  <a:lnTo>
                    <a:pt x="3922" y="249"/>
                  </a:lnTo>
                  <a:lnTo>
                    <a:pt x="3894" y="198"/>
                  </a:lnTo>
                  <a:lnTo>
                    <a:pt x="3899" y="205"/>
                  </a:lnTo>
                  <a:lnTo>
                    <a:pt x="3862" y="160"/>
                  </a:lnTo>
                  <a:lnTo>
                    <a:pt x="3868" y="166"/>
                  </a:lnTo>
                  <a:lnTo>
                    <a:pt x="3823" y="129"/>
                  </a:lnTo>
                  <a:lnTo>
                    <a:pt x="3830" y="134"/>
                  </a:lnTo>
                  <a:lnTo>
                    <a:pt x="3779" y="106"/>
                  </a:lnTo>
                  <a:lnTo>
                    <a:pt x="3786" y="109"/>
                  </a:lnTo>
                  <a:lnTo>
                    <a:pt x="3729" y="91"/>
                  </a:lnTo>
                  <a:lnTo>
                    <a:pt x="3738" y="93"/>
                  </a:lnTo>
                  <a:lnTo>
                    <a:pt x="3677" y="87"/>
                  </a:lnTo>
                  <a:lnTo>
                    <a:pt x="346" y="87"/>
                  </a:lnTo>
                  <a:lnTo>
                    <a:pt x="290" y="93"/>
                  </a:lnTo>
                  <a:lnTo>
                    <a:pt x="299" y="91"/>
                  </a:lnTo>
                  <a:lnTo>
                    <a:pt x="242" y="109"/>
                  </a:lnTo>
                  <a:lnTo>
                    <a:pt x="249" y="106"/>
                  </a:lnTo>
                  <a:lnTo>
                    <a:pt x="198" y="134"/>
                  </a:lnTo>
                  <a:lnTo>
                    <a:pt x="205" y="129"/>
                  </a:lnTo>
                  <a:lnTo>
                    <a:pt x="160" y="166"/>
                  </a:lnTo>
                  <a:lnTo>
                    <a:pt x="166" y="160"/>
                  </a:lnTo>
                  <a:lnTo>
                    <a:pt x="129" y="205"/>
                  </a:lnTo>
                  <a:lnTo>
                    <a:pt x="134" y="198"/>
                  </a:lnTo>
                  <a:lnTo>
                    <a:pt x="106" y="249"/>
                  </a:lnTo>
                  <a:lnTo>
                    <a:pt x="109" y="242"/>
                  </a:lnTo>
                  <a:lnTo>
                    <a:pt x="91" y="299"/>
                  </a:lnTo>
                  <a:lnTo>
                    <a:pt x="93" y="290"/>
                  </a:lnTo>
                  <a:lnTo>
                    <a:pt x="87" y="351"/>
                  </a:lnTo>
                  <a:lnTo>
                    <a:pt x="87" y="892"/>
                  </a:lnTo>
                  <a:lnTo>
                    <a:pt x="93" y="949"/>
                  </a:lnTo>
                  <a:lnTo>
                    <a:pt x="91" y="940"/>
                  </a:lnTo>
                  <a:lnTo>
                    <a:pt x="109" y="997"/>
                  </a:lnTo>
                  <a:lnTo>
                    <a:pt x="106" y="990"/>
                  </a:lnTo>
                  <a:lnTo>
                    <a:pt x="134" y="1041"/>
                  </a:lnTo>
                  <a:lnTo>
                    <a:pt x="129" y="1034"/>
                  </a:lnTo>
                  <a:lnTo>
                    <a:pt x="166" y="1079"/>
                  </a:lnTo>
                  <a:lnTo>
                    <a:pt x="160" y="1072"/>
                  </a:lnTo>
                  <a:lnTo>
                    <a:pt x="205" y="1108"/>
                  </a:lnTo>
                  <a:lnTo>
                    <a:pt x="198" y="1104"/>
                  </a:lnTo>
                  <a:lnTo>
                    <a:pt x="249" y="1132"/>
                  </a:lnTo>
                  <a:lnTo>
                    <a:pt x="242" y="1129"/>
                  </a:lnTo>
                  <a:lnTo>
                    <a:pt x="299" y="1147"/>
                  </a:lnTo>
                  <a:lnTo>
                    <a:pt x="290" y="1145"/>
                  </a:lnTo>
                  <a:lnTo>
                    <a:pt x="351" y="1151"/>
                  </a:lnTo>
                  <a:close/>
                  <a:moveTo>
                    <a:pt x="281" y="1232"/>
                  </a:moveTo>
                  <a:cubicBezTo>
                    <a:pt x="278" y="1231"/>
                    <a:pt x="275" y="1231"/>
                    <a:pt x="272" y="1230"/>
                  </a:cubicBezTo>
                  <a:lnTo>
                    <a:pt x="215" y="1212"/>
                  </a:lnTo>
                  <a:cubicBezTo>
                    <a:pt x="213" y="1211"/>
                    <a:pt x="210" y="1210"/>
                    <a:pt x="208" y="1209"/>
                  </a:cubicBezTo>
                  <a:lnTo>
                    <a:pt x="157" y="1181"/>
                  </a:lnTo>
                  <a:cubicBezTo>
                    <a:pt x="154" y="1179"/>
                    <a:pt x="152" y="1178"/>
                    <a:pt x="150" y="1176"/>
                  </a:cubicBezTo>
                  <a:lnTo>
                    <a:pt x="105" y="1140"/>
                  </a:lnTo>
                  <a:cubicBezTo>
                    <a:pt x="103" y="1139"/>
                    <a:pt x="101" y="1136"/>
                    <a:pt x="99" y="1134"/>
                  </a:cubicBezTo>
                  <a:lnTo>
                    <a:pt x="62" y="1089"/>
                  </a:lnTo>
                  <a:cubicBezTo>
                    <a:pt x="60" y="1087"/>
                    <a:pt x="59" y="1085"/>
                    <a:pt x="57" y="1082"/>
                  </a:cubicBezTo>
                  <a:lnTo>
                    <a:pt x="29" y="1031"/>
                  </a:lnTo>
                  <a:cubicBezTo>
                    <a:pt x="28" y="1029"/>
                    <a:pt x="27" y="1026"/>
                    <a:pt x="26" y="1024"/>
                  </a:cubicBezTo>
                  <a:lnTo>
                    <a:pt x="8" y="967"/>
                  </a:lnTo>
                  <a:cubicBezTo>
                    <a:pt x="7" y="964"/>
                    <a:pt x="6" y="961"/>
                    <a:pt x="6" y="958"/>
                  </a:cubicBezTo>
                  <a:lnTo>
                    <a:pt x="0" y="892"/>
                  </a:lnTo>
                  <a:lnTo>
                    <a:pt x="0" y="342"/>
                  </a:lnTo>
                  <a:lnTo>
                    <a:pt x="6" y="281"/>
                  </a:lnTo>
                  <a:cubicBezTo>
                    <a:pt x="6" y="278"/>
                    <a:pt x="7" y="275"/>
                    <a:pt x="8" y="272"/>
                  </a:cubicBezTo>
                  <a:lnTo>
                    <a:pt x="26" y="215"/>
                  </a:lnTo>
                  <a:cubicBezTo>
                    <a:pt x="27" y="213"/>
                    <a:pt x="28" y="210"/>
                    <a:pt x="29" y="208"/>
                  </a:cubicBezTo>
                  <a:lnTo>
                    <a:pt x="57" y="157"/>
                  </a:lnTo>
                  <a:cubicBezTo>
                    <a:pt x="59" y="154"/>
                    <a:pt x="60" y="152"/>
                    <a:pt x="62" y="150"/>
                  </a:cubicBezTo>
                  <a:lnTo>
                    <a:pt x="99" y="105"/>
                  </a:lnTo>
                  <a:cubicBezTo>
                    <a:pt x="101" y="103"/>
                    <a:pt x="103" y="101"/>
                    <a:pt x="105" y="99"/>
                  </a:cubicBezTo>
                  <a:lnTo>
                    <a:pt x="150" y="62"/>
                  </a:lnTo>
                  <a:cubicBezTo>
                    <a:pt x="152" y="60"/>
                    <a:pt x="154" y="59"/>
                    <a:pt x="157" y="57"/>
                  </a:cubicBezTo>
                  <a:lnTo>
                    <a:pt x="208" y="29"/>
                  </a:lnTo>
                  <a:cubicBezTo>
                    <a:pt x="210" y="28"/>
                    <a:pt x="213" y="27"/>
                    <a:pt x="215" y="26"/>
                  </a:cubicBezTo>
                  <a:lnTo>
                    <a:pt x="272" y="8"/>
                  </a:lnTo>
                  <a:cubicBezTo>
                    <a:pt x="275" y="7"/>
                    <a:pt x="278" y="6"/>
                    <a:pt x="281" y="6"/>
                  </a:cubicBezTo>
                  <a:lnTo>
                    <a:pt x="346" y="0"/>
                  </a:lnTo>
                  <a:lnTo>
                    <a:pt x="3686" y="0"/>
                  </a:lnTo>
                  <a:lnTo>
                    <a:pt x="3747" y="6"/>
                  </a:lnTo>
                  <a:cubicBezTo>
                    <a:pt x="3750" y="6"/>
                    <a:pt x="3753" y="7"/>
                    <a:pt x="3756" y="8"/>
                  </a:cubicBezTo>
                  <a:lnTo>
                    <a:pt x="3813" y="26"/>
                  </a:lnTo>
                  <a:cubicBezTo>
                    <a:pt x="3815" y="27"/>
                    <a:pt x="3818" y="28"/>
                    <a:pt x="3820" y="29"/>
                  </a:cubicBezTo>
                  <a:lnTo>
                    <a:pt x="3871" y="57"/>
                  </a:lnTo>
                  <a:cubicBezTo>
                    <a:pt x="3874" y="59"/>
                    <a:pt x="3876" y="60"/>
                    <a:pt x="3878" y="62"/>
                  </a:cubicBezTo>
                  <a:lnTo>
                    <a:pt x="3923" y="99"/>
                  </a:lnTo>
                  <a:cubicBezTo>
                    <a:pt x="3925" y="101"/>
                    <a:pt x="3927" y="103"/>
                    <a:pt x="3929" y="105"/>
                  </a:cubicBezTo>
                  <a:lnTo>
                    <a:pt x="3966" y="150"/>
                  </a:lnTo>
                  <a:cubicBezTo>
                    <a:pt x="3968" y="152"/>
                    <a:pt x="3969" y="154"/>
                    <a:pt x="3971" y="157"/>
                  </a:cubicBezTo>
                  <a:lnTo>
                    <a:pt x="3999" y="208"/>
                  </a:lnTo>
                  <a:cubicBezTo>
                    <a:pt x="4000" y="210"/>
                    <a:pt x="4001" y="213"/>
                    <a:pt x="4002" y="215"/>
                  </a:cubicBezTo>
                  <a:lnTo>
                    <a:pt x="4020" y="272"/>
                  </a:lnTo>
                  <a:cubicBezTo>
                    <a:pt x="4021" y="275"/>
                    <a:pt x="4021" y="278"/>
                    <a:pt x="4022" y="281"/>
                  </a:cubicBezTo>
                  <a:lnTo>
                    <a:pt x="4028" y="346"/>
                  </a:lnTo>
                  <a:lnTo>
                    <a:pt x="4028" y="897"/>
                  </a:lnTo>
                  <a:lnTo>
                    <a:pt x="4022" y="958"/>
                  </a:lnTo>
                  <a:cubicBezTo>
                    <a:pt x="4021" y="961"/>
                    <a:pt x="4021" y="964"/>
                    <a:pt x="4020" y="967"/>
                  </a:cubicBezTo>
                  <a:lnTo>
                    <a:pt x="4002" y="1024"/>
                  </a:lnTo>
                  <a:cubicBezTo>
                    <a:pt x="4001" y="1026"/>
                    <a:pt x="4000" y="1029"/>
                    <a:pt x="3999" y="1031"/>
                  </a:cubicBezTo>
                  <a:lnTo>
                    <a:pt x="3971" y="1082"/>
                  </a:lnTo>
                  <a:cubicBezTo>
                    <a:pt x="3969" y="1085"/>
                    <a:pt x="3968" y="1087"/>
                    <a:pt x="3966" y="1089"/>
                  </a:cubicBezTo>
                  <a:lnTo>
                    <a:pt x="3929" y="1134"/>
                  </a:lnTo>
                  <a:cubicBezTo>
                    <a:pt x="3927" y="1136"/>
                    <a:pt x="3925" y="1139"/>
                    <a:pt x="3923" y="1140"/>
                  </a:cubicBezTo>
                  <a:lnTo>
                    <a:pt x="3878" y="1176"/>
                  </a:lnTo>
                  <a:cubicBezTo>
                    <a:pt x="3876" y="1178"/>
                    <a:pt x="3874" y="1179"/>
                    <a:pt x="3871" y="1181"/>
                  </a:cubicBezTo>
                  <a:lnTo>
                    <a:pt x="3820" y="1209"/>
                  </a:lnTo>
                  <a:cubicBezTo>
                    <a:pt x="3818" y="1210"/>
                    <a:pt x="3815" y="1211"/>
                    <a:pt x="3813" y="1212"/>
                  </a:cubicBezTo>
                  <a:lnTo>
                    <a:pt x="3756" y="1230"/>
                  </a:lnTo>
                  <a:cubicBezTo>
                    <a:pt x="3753" y="1231"/>
                    <a:pt x="3750" y="1231"/>
                    <a:pt x="3747" y="1232"/>
                  </a:cubicBezTo>
                  <a:lnTo>
                    <a:pt x="3681" y="1238"/>
                  </a:lnTo>
                  <a:lnTo>
                    <a:pt x="342" y="1238"/>
                  </a:lnTo>
                  <a:lnTo>
                    <a:pt x="281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35680" y="1874880"/>
              <a:ext cx="2017800" cy="581040"/>
            </a:xfrm>
            <a:custGeom>
              <a:avLst/>
              <a:gdLst/>
              <a:ahLst/>
              <a:rect l="l" t="t" r="r" b="b"/>
              <a:pathLst>
                <a:path w="3957" h="1139">
                  <a:moveTo>
                    <a:pt x="242" y="1139"/>
                  </a:moveTo>
                  <a:lnTo>
                    <a:pt x="3715" y="1139"/>
                  </a:lnTo>
                  <a:cubicBezTo>
                    <a:pt x="3849" y="1139"/>
                    <a:pt x="3957" y="1031"/>
                    <a:pt x="3957" y="897"/>
                  </a:cubicBezTo>
                  <a:cubicBezTo>
                    <a:pt x="3957" y="897"/>
                    <a:pt x="3957" y="897"/>
                    <a:pt x="3957" y="897"/>
                  </a:cubicBezTo>
                  <a:lnTo>
                    <a:pt x="3957" y="242"/>
                  </a:lnTo>
                  <a:cubicBezTo>
                    <a:pt x="3957" y="108"/>
                    <a:pt x="3849" y="0"/>
                    <a:pt x="3715" y="0"/>
                  </a:cubicBezTo>
                  <a:lnTo>
                    <a:pt x="242" y="0"/>
                  </a:lnTo>
                  <a:cubicBezTo>
                    <a:pt x="109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9" y="1139"/>
                    <a:pt x="242" y="1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5680" y="1874880"/>
              <a:ext cx="2017800" cy="581040"/>
            </a:xfrm>
            <a:custGeom>
              <a:avLst/>
              <a:gdLst/>
              <a:ahLst/>
              <a:rect l="l" t="t" r="r" b="b"/>
              <a:pathLst>
                <a:path w="3957" h="1139">
                  <a:moveTo>
                    <a:pt x="242" y="1139"/>
                  </a:moveTo>
                  <a:lnTo>
                    <a:pt x="3715" y="1139"/>
                  </a:lnTo>
                  <a:cubicBezTo>
                    <a:pt x="3849" y="1139"/>
                    <a:pt x="3957" y="1031"/>
                    <a:pt x="3957" y="897"/>
                  </a:cubicBezTo>
                  <a:cubicBezTo>
                    <a:pt x="3957" y="897"/>
                    <a:pt x="3957" y="897"/>
                    <a:pt x="3957" y="897"/>
                  </a:cubicBezTo>
                  <a:lnTo>
                    <a:pt x="3957" y="242"/>
                  </a:lnTo>
                  <a:cubicBezTo>
                    <a:pt x="3957" y="108"/>
                    <a:pt x="3849" y="0"/>
                    <a:pt x="3715" y="0"/>
                  </a:cubicBezTo>
                  <a:lnTo>
                    <a:pt x="242" y="0"/>
                  </a:lnTo>
                  <a:cubicBezTo>
                    <a:pt x="109" y="0"/>
                    <a:pt x="0" y="108"/>
                    <a:pt x="0" y="242"/>
                  </a:cubicBezTo>
                  <a:lnTo>
                    <a:pt x="0" y="242"/>
                  </a:lnTo>
                  <a:lnTo>
                    <a:pt x="0" y="897"/>
                  </a:lnTo>
                  <a:cubicBezTo>
                    <a:pt x="0" y="1031"/>
                    <a:pt x="109" y="1139"/>
                    <a:pt x="242" y="1139"/>
                  </a:cubicBezTo>
                  <a:close/>
                </a:path>
              </a:pathLst>
            </a:custGeom>
            <a:noFill/>
            <a:ln cap="rnd" w="12600">
              <a:solidFill>
                <a:srgbClr val="1b6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8280" y="1989000"/>
              <a:ext cx="1250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ИЗБЫТОЧ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b6b40"/>
                  </a:solidFill>
                  <a:latin typeface="Arial"/>
                </a:rPr>
                <a:t>ПИТ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8680" y="1846440"/>
              <a:ext cx="2073240" cy="631800"/>
            </a:xfrm>
            <a:custGeom>
              <a:avLst/>
              <a:gdLst/>
              <a:ahLst/>
              <a:rect l="l" t="t" r="r" b="b"/>
              <a:pathLst>
                <a:path w="4063" h="1238">
                  <a:moveTo>
                    <a:pt x="351" y="1151"/>
                  </a:moveTo>
                  <a:lnTo>
                    <a:pt x="3716" y="1151"/>
                  </a:lnTo>
                  <a:lnTo>
                    <a:pt x="3773" y="1145"/>
                  </a:lnTo>
                  <a:lnTo>
                    <a:pt x="3764" y="1147"/>
                  </a:lnTo>
                  <a:lnTo>
                    <a:pt x="3821" y="1129"/>
                  </a:lnTo>
                  <a:lnTo>
                    <a:pt x="3814" y="1132"/>
                  </a:lnTo>
                  <a:lnTo>
                    <a:pt x="3865" y="1104"/>
                  </a:lnTo>
                  <a:lnTo>
                    <a:pt x="3858" y="1108"/>
                  </a:lnTo>
                  <a:lnTo>
                    <a:pt x="3903" y="1072"/>
                  </a:lnTo>
                  <a:lnTo>
                    <a:pt x="3897" y="1079"/>
                  </a:lnTo>
                  <a:lnTo>
                    <a:pt x="3934" y="1034"/>
                  </a:lnTo>
                  <a:lnTo>
                    <a:pt x="3929" y="1041"/>
                  </a:lnTo>
                  <a:lnTo>
                    <a:pt x="3957" y="990"/>
                  </a:lnTo>
                  <a:lnTo>
                    <a:pt x="3954" y="997"/>
                  </a:lnTo>
                  <a:lnTo>
                    <a:pt x="3972" y="940"/>
                  </a:lnTo>
                  <a:lnTo>
                    <a:pt x="3970" y="949"/>
                  </a:lnTo>
                  <a:lnTo>
                    <a:pt x="3976" y="888"/>
                  </a:lnTo>
                  <a:lnTo>
                    <a:pt x="3976" y="346"/>
                  </a:lnTo>
                  <a:lnTo>
                    <a:pt x="3970" y="290"/>
                  </a:lnTo>
                  <a:lnTo>
                    <a:pt x="3972" y="299"/>
                  </a:lnTo>
                  <a:lnTo>
                    <a:pt x="3954" y="242"/>
                  </a:lnTo>
                  <a:lnTo>
                    <a:pt x="3957" y="249"/>
                  </a:lnTo>
                  <a:lnTo>
                    <a:pt x="3929" y="198"/>
                  </a:lnTo>
                  <a:lnTo>
                    <a:pt x="3934" y="205"/>
                  </a:lnTo>
                  <a:lnTo>
                    <a:pt x="3897" y="160"/>
                  </a:lnTo>
                  <a:lnTo>
                    <a:pt x="3903" y="166"/>
                  </a:lnTo>
                  <a:lnTo>
                    <a:pt x="3858" y="129"/>
                  </a:lnTo>
                  <a:lnTo>
                    <a:pt x="3865" y="134"/>
                  </a:lnTo>
                  <a:lnTo>
                    <a:pt x="3814" y="106"/>
                  </a:lnTo>
                  <a:lnTo>
                    <a:pt x="3821" y="109"/>
                  </a:lnTo>
                  <a:lnTo>
                    <a:pt x="3764" y="91"/>
                  </a:lnTo>
                  <a:lnTo>
                    <a:pt x="3773" y="93"/>
                  </a:lnTo>
                  <a:lnTo>
                    <a:pt x="3712" y="87"/>
                  </a:lnTo>
                  <a:lnTo>
                    <a:pt x="346" y="87"/>
                  </a:lnTo>
                  <a:lnTo>
                    <a:pt x="290" y="93"/>
                  </a:lnTo>
                  <a:lnTo>
                    <a:pt x="299" y="91"/>
                  </a:lnTo>
                  <a:lnTo>
                    <a:pt x="242" y="109"/>
                  </a:lnTo>
                  <a:lnTo>
                    <a:pt x="249" y="106"/>
                  </a:lnTo>
                  <a:lnTo>
                    <a:pt x="198" y="134"/>
                  </a:lnTo>
                  <a:lnTo>
                    <a:pt x="205" y="129"/>
                  </a:lnTo>
                  <a:lnTo>
                    <a:pt x="160" y="166"/>
                  </a:lnTo>
                  <a:lnTo>
                    <a:pt x="166" y="160"/>
                  </a:lnTo>
                  <a:lnTo>
                    <a:pt x="129" y="205"/>
                  </a:lnTo>
                  <a:lnTo>
                    <a:pt x="134" y="198"/>
                  </a:lnTo>
                  <a:lnTo>
                    <a:pt x="106" y="249"/>
                  </a:lnTo>
                  <a:lnTo>
                    <a:pt x="109" y="242"/>
                  </a:lnTo>
                  <a:lnTo>
                    <a:pt x="91" y="299"/>
                  </a:lnTo>
                  <a:lnTo>
                    <a:pt x="93" y="290"/>
                  </a:lnTo>
                  <a:lnTo>
                    <a:pt x="87" y="351"/>
                  </a:lnTo>
                  <a:lnTo>
                    <a:pt x="87" y="892"/>
                  </a:lnTo>
                  <a:lnTo>
                    <a:pt x="93" y="949"/>
                  </a:lnTo>
                  <a:lnTo>
                    <a:pt x="91" y="940"/>
                  </a:lnTo>
                  <a:lnTo>
                    <a:pt x="109" y="997"/>
                  </a:lnTo>
                  <a:lnTo>
                    <a:pt x="106" y="990"/>
                  </a:lnTo>
                  <a:lnTo>
                    <a:pt x="134" y="1041"/>
                  </a:lnTo>
                  <a:lnTo>
                    <a:pt x="129" y="1034"/>
                  </a:lnTo>
                  <a:lnTo>
                    <a:pt x="166" y="1079"/>
                  </a:lnTo>
                  <a:lnTo>
                    <a:pt x="160" y="1072"/>
                  </a:lnTo>
                  <a:lnTo>
                    <a:pt x="205" y="1108"/>
                  </a:lnTo>
                  <a:lnTo>
                    <a:pt x="198" y="1104"/>
                  </a:lnTo>
                  <a:lnTo>
                    <a:pt x="249" y="1132"/>
                  </a:lnTo>
                  <a:lnTo>
                    <a:pt x="242" y="1129"/>
                  </a:lnTo>
                  <a:lnTo>
                    <a:pt x="299" y="1147"/>
                  </a:lnTo>
                  <a:lnTo>
                    <a:pt x="290" y="1145"/>
                  </a:lnTo>
                  <a:lnTo>
                    <a:pt x="351" y="1151"/>
                  </a:lnTo>
                  <a:close/>
                  <a:moveTo>
                    <a:pt x="281" y="1232"/>
                  </a:moveTo>
                  <a:cubicBezTo>
                    <a:pt x="278" y="1231"/>
                    <a:pt x="275" y="1231"/>
                    <a:pt x="272" y="1230"/>
                  </a:cubicBezTo>
                  <a:lnTo>
                    <a:pt x="215" y="1212"/>
                  </a:lnTo>
                  <a:cubicBezTo>
                    <a:pt x="213" y="1211"/>
                    <a:pt x="210" y="1210"/>
                    <a:pt x="208" y="1209"/>
                  </a:cubicBezTo>
                  <a:lnTo>
                    <a:pt x="157" y="1181"/>
                  </a:lnTo>
                  <a:cubicBezTo>
                    <a:pt x="154" y="1179"/>
                    <a:pt x="152" y="1178"/>
                    <a:pt x="150" y="1176"/>
                  </a:cubicBezTo>
                  <a:lnTo>
                    <a:pt x="105" y="1140"/>
                  </a:lnTo>
                  <a:cubicBezTo>
                    <a:pt x="103" y="1139"/>
                    <a:pt x="101" y="1136"/>
                    <a:pt x="99" y="1134"/>
                  </a:cubicBezTo>
                  <a:lnTo>
                    <a:pt x="62" y="1089"/>
                  </a:lnTo>
                  <a:cubicBezTo>
                    <a:pt x="60" y="1087"/>
                    <a:pt x="59" y="1085"/>
                    <a:pt x="57" y="1082"/>
                  </a:cubicBezTo>
                  <a:lnTo>
                    <a:pt x="29" y="1031"/>
                  </a:lnTo>
                  <a:cubicBezTo>
                    <a:pt x="28" y="1029"/>
                    <a:pt x="27" y="1026"/>
                    <a:pt x="26" y="1024"/>
                  </a:cubicBezTo>
                  <a:lnTo>
                    <a:pt x="8" y="967"/>
                  </a:lnTo>
                  <a:cubicBezTo>
                    <a:pt x="7" y="964"/>
                    <a:pt x="6" y="961"/>
                    <a:pt x="6" y="958"/>
                  </a:cubicBezTo>
                  <a:lnTo>
                    <a:pt x="0" y="892"/>
                  </a:lnTo>
                  <a:lnTo>
                    <a:pt x="0" y="342"/>
                  </a:lnTo>
                  <a:lnTo>
                    <a:pt x="6" y="281"/>
                  </a:lnTo>
                  <a:cubicBezTo>
                    <a:pt x="6" y="278"/>
                    <a:pt x="7" y="275"/>
                    <a:pt x="8" y="272"/>
                  </a:cubicBezTo>
                  <a:lnTo>
                    <a:pt x="26" y="215"/>
                  </a:lnTo>
                  <a:cubicBezTo>
                    <a:pt x="27" y="213"/>
                    <a:pt x="28" y="210"/>
                    <a:pt x="29" y="208"/>
                  </a:cubicBezTo>
                  <a:lnTo>
                    <a:pt x="57" y="157"/>
                  </a:lnTo>
                  <a:cubicBezTo>
                    <a:pt x="59" y="154"/>
                    <a:pt x="60" y="152"/>
                    <a:pt x="62" y="150"/>
                  </a:cubicBezTo>
                  <a:lnTo>
                    <a:pt x="99" y="105"/>
                  </a:lnTo>
                  <a:cubicBezTo>
                    <a:pt x="101" y="103"/>
                    <a:pt x="103" y="101"/>
                    <a:pt x="105" y="99"/>
                  </a:cubicBezTo>
                  <a:lnTo>
                    <a:pt x="150" y="62"/>
                  </a:lnTo>
                  <a:cubicBezTo>
                    <a:pt x="152" y="60"/>
                    <a:pt x="154" y="59"/>
                    <a:pt x="157" y="57"/>
                  </a:cubicBezTo>
                  <a:lnTo>
                    <a:pt x="208" y="29"/>
                  </a:lnTo>
                  <a:cubicBezTo>
                    <a:pt x="210" y="28"/>
                    <a:pt x="213" y="27"/>
                    <a:pt x="215" y="26"/>
                  </a:cubicBezTo>
                  <a:lnTo>
                    <a:pt x="272" y="8"/>
                  </a:lnTo>
                  <a:cubicBezTo>
                    <a:pt x="275" y="7"/>
                    <a:pt x="278" y="6"/>
                    <a:pt x="281" y="6"/>
                  </a:cubicBezTo>
                  <a:lnTo>
                    <a:pt x="346" y="0"/>
                  </a:lnTo>
                  <a:lnTo>
                    <a:pt x="3721" y="0"/>
                  </a:lnTo>
                  <a:lnTo>
                    <a:pt x="3782" y="6"/>
                  </a:lnTo>
                  <a:cubicBezTo>
                    <a:pt x="3785" y="6"/>
                    <a:pt x="3788" y="7"/>
                    <a:pt x="3791" y="8"/>
                  </a:cubicBezTo>
                  <a:lnTo>
                    <a:pt x="3848" y="26"/>
                  </a:lnTo>
                  <a:cubicBezTo>
                    <a:pt x="3850" y="27"/>
                    <a:pt x="3853" y="28"/>
                    <a:pt x="3855" y="29"/>
                  </a:cubicBezTo>
                  <a:lnTo>
                    <a:pt x="3906" y="57"/>
                  </a:lnTo>
                  <a:cubicBezTo>
                    <a:pt x="3909" y="59"/>
                    <a:pt x="3911" y="60"/>
                    <a:pt x="3913" y="62"/>
                  </a:cubicBezTo>
                  <a:lnTo>
                    <a:pt x="3958" y="99"/>
                  </a:lnTo>
                  <a:cubicBezTo>
                    <a:pt x="3960" y="101"/>
                    <a:pt x="3962" y="103"/>
                    <a:pt x="3964" y="105"/>
                  </a:cubicBezTo>
                  <a:lnTo>
                    <a:pt x="4001" y="150"/>
                  </a:lnTo>
                  <a:cubicBezTo>
                    <a:pt x="4003" y="152"/>
                    <a:pt x="4004" y="154"/>
                    <a:pt x="4006" y="157"/>
                  </a:cubicBezTo>
                  <a:lnTo>
                    <a:pt x="4034" y="208"/>
                  </a:lnTo>
                  <a:cubicBezTo>
                    <a:pt x="4035" y="210"/>
                    <a:pt x="4036" y="213"/>
                    <a:pt x="4037" y="215"/>
                  </a:cubicBezTo>
                  <a:lnTo>
                    <a:pt x="4055" y="272"/>
                  </a:lnTo>
                  <a:cubicBezTo>
                    <a:pt x="4056" y="275"/>
                    <a:pt x="4056" y="278"/>
                    <a:pt x="4057" y="281"/>
                  </a:cubicBezTo>
                  <a:lnTo>
                    <a:pt x="4063" y="346"/>
                  </a:lnTo>
                  <a:lnTo>
                    <a:pt x="4063" y="897"/>
                  </a:lnTo>
                  <a:lnTo>
                    <a:pt x="4057" y="958"/>
                  </a:lnTo>
                  <a:cubicBezTo>
                    <a:pt x="4056" y="961"/>
                    <a:pt x="4056" y="964"/>
                    <a:pt x="4055" y="967"/>
                  </a:cubicBezTo>
                  <a:lnTo>
                    <a:pt x="4037" y="1024"/>
                  </a:lnTo>
                  <a:cubicBezTo>
                    <a:pt x="4036" y="1026"/>
                    <a:pt x="4035" y="1029"/>
                    <a:pt x="4034" y="1031"/>
                  </a:cubicBezTo>
                  <a:lnTo>
                    <a:pt x="4006" y="1082"/>
                  </a:lnTo>
                  <a:cubicBezTo>
                    <a:pt x="4004" y="1085"/>
                    <a:pt x="4003" y="1087"/>
                    <a:pt x="4001" y="1089"/>
                  </a:cubicBezTo>
                  <a:lnTo>
                    <a:pt x="3964" y="1134"/>
                  </a:lnTo>
                  <a:cubicBezTo>
                    <a:pt x="3962" y="1136"/>
                    <a:pt x="3960" y="1139"/>
                    <a:pt x="3958" y="1140"/>
                  </a:cubicBezTo>
                  <a:lnTo>
                    <a:pt x="3913" y="1176"/>
                  </a:lnTo>
                  <a:cubicBezTo>
                    <a:pt x="3911" y="1178"/>
                    <a:pt x="3909" y="1179"/>
                    <a:pt x="3906" y="1181"/>
                  </a:cubicBezTo>
                  <a:lnTo>
                    <a:pt x="3855" y="1209"/>
                  </a:lnTo>
                  <a:cubicBezTo>
                    <a:pt x="3853" y="1210"/>
                    <a:pt x="3850" y="1211"/>
                    <a:pt x="3848" y="1212"/>
                  </a:cubicBezTo>
                  <a:lnTo>
                    <a:pt x="3791" y="1230"/>
                  </a:lnTo>
                  <a:cubicBezTo>
                    <a:pt x="3788" y="1231"/>
                    <a:pt x="3785" y="1231"/>
                    <a:pt x="3782" y="1232"/>
                  </a:cubicBezTo>
                  <a:lnTo>
                    <a:pt x="3716" y="1238"/>
                  </a:lnTo>
                  <a:lnTo>
                    <a:pt x="342" y="1238"/>
                  </a:lnTo>
                  <a:lnTo>
                    <a:pt x="281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405160" y="2768760"/>
            <a:ext cx="1440" cy="3174840"/>
          </a:xfrm>
          <a:prstGeom prst="line">
            <a:avLst/>
          </a:prstGeom>
          <a:ln cap="rnd" w="237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5960" y="3213000"/>
            <a:ext cx="8469360" cy="2800440"/>
            <a:chOff x="345960" y="3213000"/>
            <a:chExt cx="8469360" cy="2800440"/>
          </a:xfrm>
        </p:grpSpPr>
        <p:sp>
          <p:nvSpPr>
            <p:cNvPr id="258" name=""/>
            <p:cNvSpPr/>
            <p:nvPr/>
          </p:nvSpPr>
          <p:spPr>
            <a:xfrm>
              <a:off x="380880" y="3213000"/>
              <a:ext cx="1870200" cy="2797200"/>
            </a:xfrm>
            <a:prstGeom prst="rect">
              <a:avLst/>
            </a:pr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960" y="3213000"/>
              <a:ext cx="25560" cy="280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8880" y="3213000"/>
              <a:ext cx="1870200" cy="2797200"/>
            </a:xfrm>
            <a:prstGeom prst="rect">
              <a:avLst/>
            </a:pr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23960" y="3213000"/>
              <a:ext cx="25560" cy="280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68920" y="3213000"/>
              <a:ext cx="4046400" cy="2797200"/>
            </a:xfrm>
            <a:prstGeom prst="rect">
              <a:avLst/>
            </a:pr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34000" y="3213000"/>
              <a:ext cx="25200" cy="280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6000" y="3362400"/>
              <a:ext cx="1944720" cy="23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В РФ курят 50 % граждан. Число курильщиков ежегодно увеличивается        на 1,5-2 %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Распространенность табакокурения  среди подростков             13-15 лет  составляла 33,4 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88000" y="3402000"/>
              <a:ext cx="388764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Выявлено: несоответствие между энергетической ценностью рациона и энергозатратами, избыточный уровень потребления жиров и нехватка витаминов, минеральных веществ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Дефицит витамина С (60-70 % населения, 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 (20-40 %), Са (40-60 %),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 (до 70 %), фолиевой кислоты (до 70-80 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5280" y="3362400"/>
              <a:ext cx="1944720" cy="23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С 1990 года в РФ потребление учтенного алкоголя выросло в 1,8 раз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В 2006 году зарегистрировано 2,3 млн. больных алкоголизмом, под наблюдением 0,5 млн. злоупотребля-ющих алкоголе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44520" y="2708280"/>
            <a:ext cx="8478360" cy="392040"/>
            <a:chOff x="344520" y="2708280"/>
            <a:chExt cx="8478360" cy="392040"/>
          </a:xfrm>
        </p:grpSpPr>
        <p:sp>
          <p:nvSpPr>
            <p:cNvPr id="268" name=""/>
            <p:cNvSpPr/>
            <p:nvPr/>
          </p:nvSpPr>
          <p:spPr>
            <a:xfrm>
              <a:off x="344520" y="2708280"/>
              <a:ext cx="1906560" cy="392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2520" y="2708280"/>
              <a:ext cx="1908360" cy="392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1680" y="2708280"/>
              <a:ext cx="1906560" cy="392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9400" y="2708280"/>
              <a:ext cx="1908000" cy="392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17819" dir="2700000" blurRad="0" rotWithShape="0">
                <a:srgbClr val="987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12720" y="2781360"/>
              <a:ext cx="19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2f28"/>
                  </a:solidFill>
                  <a:latin typeface="Arial"/>
                </a:rPr>
                <a:t>12,5 % СМЕРТН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2000" y="2781360"/>
              <a:ext cx="19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2f28"/>
                  </a:solidFill>
                  <a:latin typeface="Arial"/>
                </a:rPr>
                <a:t>12,9 % СМЕРТН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53480" y="2781360"/>
              <a:ext cx="19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2f28"/>
                  </a:solidFill>
                  <a:latin typeface="Arial"/>
                </a:rPr>
                <a:t>17,1 % СМЕРТН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1080" y="2781360"/>
              <a:ext cx="19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2f28"/>
                  </a:solidFill>
                  <a:latin typeface="Arial"/>
                </a:rPr>
                <a:t>11,9 % СМЕРТН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851280" y="1944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21456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4356000" y="1486080"/>
            <a:ext cx="4151520" cy="1309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324000" y="2173320"/>
            <a:ext cx="857556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информирование населения о вредных и опасных для здоровья человека фактора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оценка функциональных и адаптивных резервов организма, прогноз состояния здоровь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формирование у граждан ответственного отношения к своему здоровью и здоровью своих близки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формирование у населения принципов «ответственного родительств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обучение граждан, в том числе детей,  гигиеническим навыкам и мотивирование их к отказу от вредных привычек, включающих помощь в отказе от потребления алкоголя и таба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5714b"/>
                </a:solidFill>
                <a:latin typeface="Arial"/>
              </a:rPr>
              <a:t>обучение граждан эффективным методам профилактики заболева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2"/>
          <p:cNvSpPr/>
          <p:nvPr/>
        </p:nvSpPr>
        <p:spPr>
          <a:xfrm>
            <a:off x="395280" y="907920"/>
            <a:ext cx="8501040" cy="6858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alibri"/>
              </a:rPr>
              <a:t>Формирование здорового образа жизни у граждан Российской Федерации, включая сокращение потребления алкоголя и та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83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1"/>
          <p:cNvSpPr/>
          <p:nvPr/>
        </p:nvSpPr>
        <p:spPr>
          <a:xfrm>
            <a:off x="1476360" y="1700280"/>
            <a:ext cx="6149880" cy="419040"/>
          </a:xfrm>
          <a:prstGeom prst="rect">
            <a:avLst/>
          </a:prstGeom>
          <a:solidFill>
            <a:srgbClr val="dff1cb"/>
          </a:solidFill>
          <a:ln w="0">
            <a:noFill/>
          </a:ln>
          <a:effectLst>
            <a:outerShdw dist="17819" dir="2700000" blurRad="0" rotWithShape="0">
              <a:srgbClr val="859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Calibri"/>
              </a:rPr>
              <a:t>Функции центров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1042920" y="2781360"/>
            <a:ext cx="187344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8360" y="2781360"/>
            <a:ext cx="2448000" cy="22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07920"/>
            <a:ext cx="8280360" cy="3373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Arial"/>
              </a:rPr>
              <a:t>Направления реализации приоритетного национального  проекта «Здор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138400"/>
            <a:ext cx="3456000" cy="642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Развитие перв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2152800"/>
            <a:ext cx="4537080" cy="9169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Обеспечение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высокотехнологичной меди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a3b"/>
                </a:solidFill>
                <a:latin typeface="Arial"/>
              </a:rPr>
              <a:t>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1339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1339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068640"/>
            <a:ext cx="165564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Неонатальный скринин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989600"/>
            <a:ext cx="338472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испансеризация  насел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97320"/>
            <a:ext cx="316872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Оплата родовых сертифика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3549600"/>
            <a:ext cx="403380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Денежные выплаты работник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участковой службы, скорой помощи, ФАП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4797360"/>
            <a:ext cx="367344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иммунизация насе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5853240"/>
            <a:ext cx="352908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Профилактика, выявление и лечение больных ВИЧ, гепати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853240"/>
            <a:ext cx="367200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Подготовка и переподготовка врач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участковой служб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0920" y="2781360"/>
            <a:ext cx="865440" cy="287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781360"/>
            <a:ext cx="1008000" cy="79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18920" y="2781360"/>
            <a:ext cx="1297080" cy="1511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781360"/>
            <a:ext cx="1368360" cy="237636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781360"/>
            <a:ext cx="1512720" cy="3456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3213000"/>
            <a:ext cx="187164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Аудиологичес-кий скрининг новорожд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2781360"/>
            <a:ext cx="503280" cy="431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27080"/>
            <a:ext cx="86364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3"/>
          <p:cNvSpPr/>
          <p:nvPr/>
        </p:nvSpPr>
        <p:spPr>
          <a:xfrm>
            <a:off x="4343400" y="1417680"/>
            <a:ext cx="4151160" cy="1309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324000" y="2343240"/>
            <a:ext cx="864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Arial"/>
              </a:rPr>
              <a:t>консультирование по сохранению и укреплению здоровья, включая рекомендации по коррекции питания, двигательной активности, занятиям физкультурой и спортом, режиму сна, условиям быта, труда (учебы) и отды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Arial"/>
              </a:rPr>
              <a:t>разработка индивидуальных рекомендаций сохранения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Arial"/>
              </a:rPr>
              <a:t>организация в зоне своей ответственности, в том числе в сельской местности, мероприятий по формированию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Arial"/>
              </a:rPr>
              <a:t>мониторинг показателей в области профилактики неинфекционных заболеваний и формирования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95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51"/>
          <p:cNvSpPr/>
          <p:nvPr/>
        </p:nvSpPr>
        <p:spPr>
          <a:xfrm>
            <a:off x="1476360" y="1785960"/>
            <a:ext cx="6149880" cy="419040"/>
          </a:xfrm>
          <a:prstGeom prst="rect">
            <a:avLst/>
          </a:prstGeom>
          <a:solidFill>
            <a:srgbClr val="dff1cb"/>
          </a:solidFill>
          <a:ln w="0">
            <a:noFill/>
          </a:ln>
          <a:effectLst>
            <a:outerShdw dist="17819" dir="2700000" blurRad="0" rotWithShape="0">
              <a:srgbClr val="859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Calibri"/>
              </a:rPr>
              <a:t>Функции центров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"/>
          <p:cNvSpPr/>
          <p:nvPr/>
        </p:nvSpPr>
        <p:spPr>
          <a:xfrm>
            <a:off x="395280" y="907920"/>
            <a:ext cx="8501040" cy="6858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alibri"/>
              </a:rPr>
              <a:t>Формирование здорового образа жизни у граждан Российской Федерации, включая сокращение потребления алкоголя и та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2520" y="1481040"/>
            <a:ext cx="193680" cy="4911840"/>
          </a:xfrm>
          <a:custGeom>
            <a:avLst/>
            <a:gdLst/>
            <a:ahLst/>
            <a:rect l="l" t="t" r="r" b="b"/>
            <a:pathLst>
              <a:path w="544" h="13566">
                <a:moveTo>
                  <a:pt x="121" y="13566"/>
                </a:moveTo>
                <a:lnTo>
                  <a:pt x="423" y="13566"/>
                </a:lnTo>
                <a:cubicBezTo>
                  <a:pt x="490" y="13566"/>
                  <a:pt x="544" y="13511"/>
                  <a:pt x="544" y="13445"/>
                </a:cubicBezTo>
                <a:cubicBezTo>
                  <a:pt x="544" y="13445"/>
                  <a:pt x="544" y="13445"/>
                  <a:pt x="544" y="13445"/>
                </a:cubicBezTo>
                <a:lnTo>
                  <a:pt x="544" y="121"/>
                </a:lnTo>
                <a:cubicBezTo>
                  <a:pt x="544" y="54"/>
                  <a:pt x="490" y="0"/>
                  <a:pt x="423" y="0"/>
                </a:cubicBezTo>
                <a:lnTo>
                  <a:pt x="121" y="0"/>
                </a:lnTo>
                <a:cubicBezTo>
                  <a:pt x="54" y="0"/>
                  <a:pt x="0" y="54"/>
                  <a:pt x="0" y="121"/>
                </a:cubicBezTo>
                <a:lnTo>
                  <a:pt x="0" y="121"/>
                </a:lnTo>
                <a:lnTo>
                  <a:pt x="0" y="13445"/>
                </a:lnTo>
                <a:cubicBezTo>
                  <a:pt x="0" y="13511"/>
                  <a:pt x="54" y="13566"/>
                  <a:pt x="121" y="13566"/>
                </a:cubicBezTo>
                <a:close/>
              </a:path>
            </a:pathLst>
          </a:custGeom>
          <a:solidFill>
            <a:srgbClr val="1b6b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520" y="1481040"/>
            <a:ext cx="193680" cy="4911840"/>
          </a:xfrm>
          <a:custGeom>
            <a:avLst/>
            <a:gdLst/>
            <a:ahLst/>
            <a:rect l="l" t="t" r="r" b="b"/>
            <a:pathLst>
              <a:path w="544" h="13566">
                <a:moveTo>
                  <a:pt x="121" y="13566"/>
                </a:moveTo>
                <a:lnTo>
                  <a:pt x="423" y="13566"/>
                </a:lnTo>
                <a:cubicBezTo>
                  <a:pt x="490" y="13566"/>
                  <a:pt x="544" y="13511"/>
                  <a:pt x="544" y="13445"/>
                </a:cubicBezTo>
                <a:cubicBezTo>
                  <a:pt x="544" y="13445"/>
                  <a:pt x="544" y="13445"/>
                  <a:pt x="544" y="13445"/>
                </a:cubicBezTo>
                <a:lnTo>
                  <a:pt x="544" y="121"/>
                </a:lnTo>
                <a:cubicBezTo>
                  <a:pt x="544" y="54"/>
                  <a:pt x="490" y="0"/>
                  <a:pt x="423" y="0"/>
                </a:cubicBezTo>
                <a:lnTo>
                  <a:pt x="121" y="0"/>
                </a:lnTo>
                <a:cubicBezTo>
                  <a:pt x="54" y="0"/>
                  <a:pt x="0" y="54"/>
                  <a:pt x="0" y="121"/>
                </a:cubicBezTo>
                <a:lnTo>
                  <a:pt x="0" y="121"/>
                </a:lnTo>
                <a:lnTo>
                  <a:pt x="0" y="13445"/>
                </a:lnTo>
                <a:cubicBezTo>
                  <a:pt x="0" y="13511"/>
                  <a:pt x="54" y="13566"/>
                  <a:pt x="121" y="13566"/>
                </a:cubicBezTo>
                <a:close/>
              </a:path>
            </a:pathLst>
          </a:custGeom>
          <a:noFill/>
          <a:ln cap="rnd" w="30240">
            <a:solidFill>
              <a:srgbClr val="1b6b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55000" y="5973840"/>
            <a:ext cx="7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b6b4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800" y="1504800"/>
            <a:ext cx="204840" cy="141480"/>
          </a:xfrm>
          <a:custGeom>
            <a:avLst/>
            <a:gdLst/>
            <a:ahLst/>
            <a:rect l="l" t="t" r="r" b="b"/>
            <a:pathLst>
              <a:path w="576" h="392">
                <a:moveTo>
                  <a:pt x="121" y="392"/>
                </a:moveTo>
                <a:lnTo>
                  <a:pt x="456" y="392"/>
                </a:lnTo>
                <a:cubicBezTo>
                  <a:pt x="522" y="392"/>
                  <a:pt x="576" y="338"/>
                  <a:pt x="576" y="271"/>
                </a:cubicBezTo>
                <a:cubicBezTo>
                  <a:pt x="576" y="271"/>
                  <a:pt x="576" y="271"/>
                  <a:pt x="576" y="271"/>
                </a:cubicBezTo>
                <a:lnTo>
                  <a:pt x="576" y="121"/>
                </a:lnTo>
                <a:cubicBezTo>
                  <a:pt x="576" y="54"/>
                  <a:pt x="522" y="0"/>
                  <a:pt x="456" y="0"/>
                </a:cubicBezTo>
                <a:lnTo>
                  <a:pt x="456" y="0"/>
                </a:lnTo>
                <a:lnTo>
                  <a:pt x="121" y="0"/>
                </a:lnTo>
                <a:cubicBezTo>
                  <a:pt x="55" y="0"/>
                  <a:pt x="0" y="54"/>
                  <a:pt x="0" y="121"/>
                </a:cubicBezTo>
                <a:lnTo>
                  <a:pt x="0" y="271"/>
                </a:lnTo>
                <a:cubicBezTo>
                  <a:pt x="0" y="338"/>
                  <a:pt x="55" y="392"/>
                  <a:pt x="121" y="392"/>
                </a:cubicBezTo>
                <a:close/>
              </a:path>
            </a:pathLst>
          </a:custGeom>
          <a:solidFill>
            <a:srgbClr val="1b6b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7800" y="1504800"/>
            <a:ext cx="204840" cy="141480"/>
          </a:xfrm>
          <a:custGeom>
            <a:avLst/>
            <a:gdLst/>
            <a:ahLst/>
            <a:rect l="l" t="t" r="r" b="b"/>
            <a:pathLst>
              <a:path w="576" h="392">
                <a:moveTo>
                  <a:pt x="121" y="392"/>
                </a:moveTo>
                <a:lnTo>
                  <a:pt x="456" y="392"/>
                </a:lnTo>
                <a:cubicBezTo>
                  <a:pt x="522" y="392"/>
                  <a:pt x="576" y="338"/>
                  <a:pt x="576" y="271"/>
                </a:cubicBezTo>
                <a:cubicBezTo>
                  <a:pt x="576" y="271"/>
                  <a:pt x="576" y="271"/>
                  <a:pt x="576" y="271"/>
                </a:cubicBezTo>
                <a:lnTo>
                  <a:pt x="576" y="121"/>
                </a:lnTo>
                <a:cubicBezTo>
                  <a:pt x="576" y="54"/>
                  <a:pt x="522" y="0"/>
                  <a:pt x="456" y="0"/>
                </a:cubicBezTo>
                <a:lnTo>
                  <a:pt x="456" y="0"/>
                </a:lnTo>
                <a:lnTo>
                  <a:pt x="121" y="0"/>
                </a:lnTo>
                <a:cubicBezTo>
                  <a:pt x="55" y="0"/>
                  <a:pt x="0" y="54"/>
                  <a:pt x="0" y="121"/>
                </a:cubicBezTo>
                <a:lnTo>
                  <a:pt x="0" y="271"/>
                </a:lnTo>
                <a:cubicBezTo>
                  <a:pt x="0" y="338"/>
                  <a:pt x="55" y="392"/>
                  <a:pt x="121" y="39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7800" y="1987560"/>
            <a:ext cx="204840" cy="142920"/>
          </a:xfrm>
          <a:custGeom>
            <a:avLst/>
            <a:gdLst/>
            <a:ahLst/>
            <a:rect l="l" t="t" r="r" b="b"/>
            <a:pathLst>
              <a:path w="576" h="393">
                <a:moveTo>
                  <a:pt x="121" y="393"/>
                </a:moveTo>
                <a:lnTo>
                  <a:pt x="456" y="393"/>
                </a:lnTo>
                <a:cubicBezTo>
                  <a:pt x="522" y="393"/>
                  <a:pt x="576" y="338"/>
                  <a:pt x="576" y="272"/>
                </a:cubicBezTo>
                <a:cubicBezTo>
                  <a:pt x="576" y="272"/>
                  <a:pt x="576" y="272"/>
                  <a:pt x="576" y="272"/>
                </a:cubicBezTo>
                <a:lnTo>
                  <a:pt x="576" y="121"/>
                </a:lnTo>
                <a:cubicBezTo>
                  <a:pt x="576" y="54"/>
                  <a:pt x="522" y="0"/>
                  <a:pt x="456" y="0"/>
                </a:cubicBezTo>
                <a:lnTo>
                  <a:pt x="121" y="0"/>
                </a:lnTo>
                <a:cubicBezTo>
                  <a:pt x="55" y="0"/>
                  <a:pt x="0" y="54"/>
                  <a:pt x="0" y="121"/>
                </a:cubicBezTo>
                <a:lnTo>
                  <a:pt x="0" y="272"/>
                </a:lnTo>
                <a:cubicBezTo>
                  <a:pt x="0" y="338"/>
                  <a:pt x="55" y="393"/>
                  <a:pt x="121" y="393"/>
                </a:cubicBezTo>
                <a:close/>
              </a:path>
            </a:pathLst>
          </a:custGeom>
          <a:solidFill>
            <a:srgbClr val="1b6b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7800" y="1987560"/>
            <a:ext cx="204840" cy="142920"/>
          </a:xfrm>
          <a:custGeom>
            <a:avLst/>
            <a:gdLst/>
            <a:ahLst/>
            <a:rect l="l" t="t" r="r" b="b"/>
            <a:pathLst>
              <a:path w="576" h="393">
                <a:moveTo>
                  <a:pt x="121" y="393"/>
                </a:moveTo>
                <a:lnTo>
                  <a:pt x="456" y="393"/>
                </a:lnTo>
                <a:cubicBezTo>
                  <a:pt x="522" y="393"/>
                  <a:pt x="576" y="338"/>
                  <a:pt x="576" y="272"/>
                </a:cubicBezTo>
                <a:cubicBezTo>
                  <a:pt x="576" y="272"/>
                  <a:pt x="576" y="272"/>
                  <a:pt x="576" y="272"/>
                </a:cubicBezTo>
                <a:lnTo>
                  <a:pt x="576" y="121"/>
                </a:lnTo>
                <a:cubicBezTo>
                  <a:pt x="576" y="54"/>
                  <a:pt x="522" y="0"/>
                  <a:pt x="456" y="0"/>
                </a:cubicBezTo>
                <a:lnTo>
                  <a:pt x="121" y="0"/>
                </a:lnTo>
                <a:cubicBezTo>
                  <a:pt x="55" y="0"/>
                  <a:pt x="0" y="54"/>
                  <a:pt x="0" y="121"/>
                </a:cubicBezTo>
                <a:lnTo>
                  <a:pt x="0" y="272"/>
                </a:lnTo>
                <a:cubicBezTo>
                  <a:pt x="0" y="338"/>
                  <a:pt x="55" y="393"/>
                  <a:pt x="121" y="39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54360" y="4162320"/>
            <a:ext cx="1825560" cy="1155960"/>
          </a:xfrm>
          <a:custGeom>
            <a:avLst/>
            <a:gdLst/>
            <a:ahLst/>
            <a:rect l="l" t="t" r="r" b="b"/>
            <a:pathLst>
              <a:path w="1099" h="696">
                <a:moveTo>
                  <a:pt x="0" y="0"/>
                </a:moveTo>
                <a:lnTo>
                  <a:pt x="0" y="696"/>
                </a:lnTo>
                <a:lnTo>
                  <a:pt x="1099" y="696"/>
                </a:lnTo>
                <a:lnTo>
                  <a:pt x="10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54360" y="4162320"/>
            <a:ext cx="1825560" cy="1155960"/>
          </a:xfrm>
          <a:custGeom>
            <a:avLst/>
            <a:gdLst/>
            <a:ahLst/>
            <a:rect l="l" t="t" r="r" b="b"/>
            <a:pathLst>
              <a:path w="1099" h="696">
                <a:moveTo>
                  <a:pt x="0" y="696"/>
                </a:moveTo>
                <a:lnTo>
                  <a:pt x="1099" y="696"/>
                </a:lnTo>
                <a:lnTo>
                  <a:pt x="1099" y="0"/>
                </a:lnTo>
                <a:lnTo>
                  <a:pt x="0" y="0"/>
                </a:lnTo>
                <a:lnTo>
                  <a:pt x="0" y="696"/>
                </a:lnTo>
                <a:lnTo>
                  <a:pt x="0" y="696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52840" y="3751200"/>
            <a:ext cx="2028960" cy="1401840"/>
          </a:xfrm>
          <a:custGeom>
            <a:avLst/>
            <a:gdLst/>
            <a:ahLst/>
            <a:rect l="l" t="t" r="r" b="b"/>
            <a:pathLst>
              <a:path w="1221" h="845">
                <a:moveTo>
                  <a:pt x="0" y="149"/>
                </a:moveTo>
                <a:lnTo>
                  <a:pt x="1221" y="149"/>
                </a:lnTo>
                <a:lnTo>
                  <a:pt x="977" y="0"/>
                </a:lnTo>
                <a:lnTo>
                  <a:pt x="244" y="0"/>
                </a:lnTo>
                <a:lnTo>
                  <a:pt x="0" y="149"/>
                </a:lnTo>
                <a:lnTo>
                  <a:pt x="0" y="149"/>
                </a:lnTo>
                <a:close/>
                <a:moveTo>
                  <a:pt x="122" y="348"/>
                </a:moveTo>
                <a:lnTo>
                  <a:pt x="244" y="348"/>
                </a:lnTo>
                <a:lnTo>
                  <a:pt x="244" y="298"/>
                </a:lnTo>
                <a:lnTo>
                  <a:pt x="122" y="298"/>
                </a:lnTo>
                <a:lnTo>
                  <a:pt x="122" y="348"/>
                </a:lnTo>
                <a:lnTo>
                  <a:pt x="122" y="348"/>
                </a:lnTo>
                <a:close/>
                <a:moveTo>
                  <a:pt x="397" y="348"/>
                </a:moveTo>
                <a:lnTo>
                  <a:pt x="519" y="348"/>
                </a:lnTo>
                <a:lnTo>
                  <a:pt x="519" y="298"/>
                </a:lnTo>
                <a:lnTo>
                  <a:pt x="397" y="298"/>
                </a:lnTo>
                <a:lnTo>
                  <a:pt x="397" y="348"/>
                </a:lnTo>
                <a:lnTo>
                  <a:pt x="397" y="348"/>
                </a:lnTo>
                <a:close/>
                <a:moveTo>
                  <a:pt x="702" y="348"/>
                </a:moveTo>
                <a:lnTo>
                  <a:pt x="824" y="348"/>
                </a:lnTo>
                <a:lnTo>
                  <a:pt x="824" y="298"/>
                </a:lnTo>
                <a:lnTo>
                  <a:pt x="702" y="298"/>
                </a:lnTo>
                <a:lnTo>
                  <a:pt x="702" y="348"/>
                </a:lnTo>
                <a:lnTo>
                  <a:pt x="702" y="348"/>
                </a:lnTo>
                <a:close/>
                <a:moveTo>
                  <a:pt x="977" y="348"/>
                </a:moveTo>
                <a:lnTo>
                  <a:pt x="1099" y="348"/>
                </a:lnTo>
                <a:lnTo>
                  <a:pt x="1099" y="298"/>
                </a:lnTo>
                <a:lnTo>
                  <a:pt x="977" y="298"/>
                </a:lnTo>
                <a:lnTo>
                  <a:pt x="977" y="348"/>
                </a:lnTo>
                <a:lnTo>
                  <a:pt x="977" y="348"/>
                </a:lnTo>
                <a:close/>
                <a:moveTo>
                  <a:pt x="977" y="497"/>
                </a:moveTo>
                <a:lnTo>
                  <a:pt x="1099" y="497"/>
                </a:lnTo>
                <a:lnTo>
                  <a:pt x="1099" y="447"/>
                </a:lnTo>
                <a:lnTo>
                  <a:pt x="977" y="447"/>
                </a:lnTo>
                <a:lnTo>
                  <a:pt x="977" y="497"/>
                </a:lnTo>
                <a:lnTo>
                  <a:pt x="977" y="497"/>
                </a:lnTo>
                <a:close/>
                <a:moveTo>
                  <a:pt x="702" y="497"/>
                </a:moveTo>
                <a:lnTo>
                  <a:pt x="824" y="497"/>
                </a:lnTo>
                <a:lnTo>
                  <a:pt x="824" y="447"/>
                </a:lnTo>
                <a:lnTo>
                  <a:pt x="702" y="447"/>
                </a:lnTo>
                <a:lnTo>
                  <a:pt x="702" y="497"/>
                </a:lnTo>
                <a:lnTo>
                  <a:pt x="702" y="497"/>
                </a:lnTo>
                <a:close/>
                <a:moveTo>
                  <a:pt x="397" y="497"/>
                </a:moveTo>
                <a:lnTo>
                  <a:pt x="519" y="497"/>
                </a:lnTo>
                <a:lnTo>
                  <a:pt x="519" y="447"/>
                </a:lnTo>
                <a:lnTo>
                  <a:pt x="397" y="447"/>
                </a:lnTo>
                <a:lnTo>
                  <a:pt x="397" y="497"/>
                </a:lnTo>
                <a:lnTo>
                  <a:pt x="397" y="497"/>
                </a:lnTo>
                <a:close/>
                <a:moveTo>
                  <a:pt x="122" y="497"/>
                </a:moveTo>
                <a:lnTo>
                  <a:pt x="244" y="497"/>
                </a:lnTo>
                <a:lnTo>
                  <a:pt x="244" y="447"/>
                </a:lnTo>
                <a:lnTo>
                  <a:pt x="122" y="447"/>
                </a:lnTo>
                <a:lnTo>
                  <a:pt x="122" y="497"/>
                </a:lnTo>
                <a:lnTo>
                  <a:pt x="122" y="497"/>
                </a:lnTo>
                <a:close/>
                <a:moveTo>
                  <a:pt x="122" y="646"/>
                </a:moveTo>
                <a:lnTo>
                  <a:pt x="244" y="646"/>
                </a:lnTo>
                <a:lnTo>
                  <a:pt x="244" y="596"/>
                </a:lnTo>
                <a:lnTo>
                  <a:pt x="122" y="596"/>
                </a:lnTo>
                <a:lnTo>
                  <a:pt x="122" y="646"/>
                </a:lnTo>
                <a:lnTo>
                  <a:pt x="122" y="646"/>
                </a:lnTo>
                <a:close/>
                <a:moveTo>
                  <a:pt x="397" y="646"/>
                </a:moveTo>
                <a:lnTo>
                  <a:pt x="519" y="646"/>
                </a:lnTo>
                <a:lnTo>
                  <a:pt x="519" y="596"/>
                </a:lnTo>
                <a:lnTo>
                  <a:pt x="397" y="596"/>
                </a:lnTo>
                <a:lnTo>
                  <a:pt x="397" y="646"/>
                </a:lnTo>
                <a:lnTo>
                  <a:pt x="397" y="646"/>
                </a:lnTo>
                <a:close/>
                <a:moveTo>
                  <a:pt x="702" y="646"/>
                </a:moveTo>
                <a:lnTo>
                  <a:pt x="824" y="646"/>
                </a:lnTo>
                <a:lnTo>
                  <a:pt x="824" y="596"/>
                </a:lnTo>
                <a:lnTo>
                  <a:pt x="702" y="596"/>
                </a:lnTo>
                <a:lnTo>
                  <a:pt x="702" y="646"/>
                </a:lnTo>
                <a:lnTo>
                  <a:pt x="702" y="646"/>
                </a:lnTo>
                <a:close/>
                <a:moveTo>
                  <a:pt x="977" y="646"/>
                </a:moveTo>
                <a:lnTo>
                  <a:pt x="1099" y="646"/>
                </a:lnTo>
                <a:lnTo>
                  <a:pt x="1099" y="596"/>
                </a:lnTo>
                <a:lnTo>
                  <a:pt x="977" y="596"/>
                </a:lnTo>
                <a:lnTo>
                  <a:pt x="977" y="646"/>
                </a:lnTo>
                <a:lnTo>
                  <a:pt x="977" y="646"/>
                </a:lnTo>
                <a:close/>
                <a:moveTo>
                  <a:pt x="305" y="845"/>
                </a:moveTo>
                <a:lnTo>
                  <a:pt x="916" y="845"/>
                </a:lnTo>
                <a:lnTo>
                  <a:pt x="916" y="745"/>
                </a:lnTo>
                <a:lnTo>
                  <a:pt x="305" y="745"/>
                </a:lnTo>
                <a:lnTo>
                  <a:pt x="305" y="845"/>
                </a:lnTo>
                <a:lnTo>
                  <a:pt x="305" y="8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52840" y="3751200"/>
            <a:ext cx="2028960" cy="246240"/>
          </a:xfrm>
          <a:custGeom>
            <a:avLst/>
            <a:gdLst/>
            <a:ahLst/>
            <a:rect l="l" t="t" r="r" b="b"/>
            <a:pathLst>
              <a:path w="1221" h="149">
                <a:moveTo>
                  <a:pt x="0" y="149"/>
                </a:moveTo>
                <a:lnTo>
                  <a:pt x="1221" y="149"/>
                </a:lnTo>
                <a:lnTo>
                  <a:pt x="977" y="0"/>
                </a:lnTo>
                <a:lnTo>
                  <a:pt x="244" y="0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55880" y="4245120"/>
            <a:ext cx="203400" cy="8388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3080" y="4245120"/>
            <a:ext cx="201600" cy="8388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19600" y="4245120"/>
            <a:ext cx="201600" cy="8388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75360" y="4245120"/>
            <a:ext cx="203040" cy="8388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75360" y="4492800"/>
            <a:ext cx="203040" cy="8244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19600" y="4492800"/>
            <a:ext cx="201600" cy="8244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492800"/>
            <a:ext cx="201600" cy="8244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5880" y="4492800"/>
            <a:ext cx="203400" cy="8244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55880" y="4740120"/>
            <a:ext cx="203400" cy="8280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13080" y="4740120"/>
            <a:ext cx="201600" cy="8280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9600" y="4740120"/>
            <a:ext cx="201600" cy="8280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75360" y="4740120"/>
            <a:ext cx="203040" cy="82800"/>
          </a:xfrm>
          <a:custGeom>
            <a:avLst/>
            <a:gdLst/>
            <a:ahLst/>
            <a:rect l="l" t="t" r="r" b="b"/>
            <a:pathLst>
              <a:path w="122" h="50">
                <a:moveTo>
                  <a:pt x="0" y="50"/>
                </a:moveTo>
                <a:lnTo>
                  <a:pt x="122" y="50"/>
                </a:lnTo>
                <a:lnTo>
                  <a:pt x="122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59360" y="4987800"/>
            <a:ext cx="1015920" cy="165240"/>
          </a:xfrm>
          <a:custGeom>
            <a:avLst/>
            <a:gdLst/>
            <a:ahLst/>
            <a:rect l="l" t="t" r="r" b="b"/>
            <a:pathLst>
              <a:path w="611" h="100">
                <a:moveTo>
                  <a:pt x="0" y="100"/>
                </a:moveTo>
                <a:lnTo>
                  <a:pt x="611" y="100"/>
                </a:lnTo>
                <a:lnTo>
                  <a:pt x="611" y="0"/>
                </a:lnTo>
                <a:lnTo>
                  <a:pt x="0" y="0"/>
                </a:lnTo>
                <a:lnTo>
                  <a:pt x="0" y="100"/>
                </a:lnTo>
                <a:lnTo>
                  <a:pt x="0" y="10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55880" y="5070600"/>
            <a:ext cx="1622520" cy="247680"/>
          </a:xfrm>
          <a:custGeom>
            <a:avLst/>
            <a:gdLst/>
            <a:ahLst/>
            <a:rect l="l" t="t" r="r" b="b"/>
            <a:pathLst>
              <a:path w="977" h="149">
                <a:moveTo>
                  <a:pt x="0" y="149"/>
                </a:moveTo>
                <a:lnTo>
                  <a:pt x="122" y="149"/>
                </a:lnTo>
                <a:lnTo>
                  <a:pt x="122" y="0"/>
                </a:lnTo>
                <a:lnTo>
                  <a:pt x="0" y="0"/>
                </a:lnTo>
                <a:lnTo>
                  <a:pt x="0" y="149"/>
                </a:lnTo>
                <a:lnTo>
                  <a:pt x="0" y="149"/>
                </a:lnTo>
                <a:close/>
                <a:moveTo>
                  <a:pt x="855" y="149"/>
                </a:moveTo>
                <a:lnTo>
                  <a:pt x="977" y="149"/>
                </a:lnTo>
                <a:lnTo>
                  <a:pt x="977" y="0"/>
                </a:lnTo>
                <a:lnTo>
                  <a:pt x="855" y="0"/>
                </a:lnTo>
                <a:lnTo>
                  <a:pt x="855" y="149"/>
                </a:lnTo>
                <a:lnTo>
                  <a:pt x="855" y="14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55880" y="5070600"/>
            <a:ext cx="203400" cy="247680"/>
          </a:xfrm>
          <a:custGeom>
            <a:avLst/>
            <a:gdLst/>
            <a:ahLst/>
            <a:rect l="l" t="t" r="r" b="b"/>
            <a:pathLst>
              <a:path w="122" h="149">
                <a:moveTo>
                  <a:pt x="0" y="149"/>
                </a:moveTo>
                <a:lnTo>
                  <a:pt x="122" y="149"/>
                </a:lnTo>
                <a:lnTo>
                  <a:pt x="122" y="0"/>
                </a:lnTo>
                <a:lnTo>
                  <a:pt x="0" y="0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75360" y="5070600"/>
            <a:ext cx="203040" cy="247680"/>
          </a:xfrm>
          <a:custGeom>
            <a:avLst/>
            <a:gdLst/>
            <a:ahLst/>
            <a:rect l="l" t="t" r="r" b="b"/>
            <a:pathLst>
              <a:path w="122" h="149">
                <a:moveTo>
                  <a:pt x="0" y="149"/>
                </a:moveTo>
                <a:lnTo>
                  <a:pt x="122" y="149"/>
                </a:lnTo>
                <a:lnTo>
                  <a:pt x="122" y="0"/>
                </a:lnTo>
                <a:lnTo>
                  <a:pt x="0" y="0"/>
                </a:lnTo>
                <a:lnTo>
                  <a:pt x="0" y="149"/>
                </a:lnTo>
                <a:lnTo>
                  <a:pt x="0" y="149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4360" y="4410000"/>
            <a:ext cx="1825560" cy="493920"/>
          </a:xfrm>
          <a:custGeom>
            <a:avLst/>
            <a:gdLst/>
            <a:ahLst/>
            <a:rect l="l" t="t" r="r" b="b"/>
            <a:pathLst>
              <a:path w="1099" h="298">
                <a:moveTo>
                  <a:pt x="0" y="0"/>
                </a:moveTo>
                <a:lnTo>
                  <a:pt x="1099" y="0"/>
                </a:lnTo>
                <a:moveTo>
                  <a:pt x="0" y="150"/>
                </a:moveTo>
                <a:lnTo>
                  <a:pt x="1099" y="150"/>
                </a:lnTo>
                <a:moveTo>
                  <a:pt x="0" y="298"/>
                </a:moveTo>
                <a:lnTo>
                  <a:pt x="1099" y="298"/>
                </a:lnTo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52840" y="3666960"/>
            <a:ext cx="2028960" cy="495360"/>
          </a:xfrm>
          <a:custGeom>
            <a:avLst/>
            <a:gdLst/>
            <a:ahLst/>
            <a:rect l="l" t="t" r="r" b="b"/>
            <a:pathLst>
              <a:path w="1221" h="298">
                <a:moveTo>
                  <a:pt x="0" y="298"/>
                </a:moveTo>
                <a:lnTo>
                  <a:pt x="1221" y="298"/>
                </a:lnTo>
                <a:lnTo>
                  <a:pt x="1221" y="199"/>
                </a:lnTo>
                <a:lnTo>
                  <a:pt x="0" y="199"/>
                </a:lnTo>
                <a:lnTo>
                  <a:pt x="0" y="298"/>
                </a:lnTo>
                <a:lnTo>
                  <a:pt x="0" y="298"/>
                </a:lnTo>
                <a:close/>
                <a:moveTo>
                  <a:pt x="244" y="50"/>
                </a:moveTo>
                <a:lnTo>
                  <a:pt x="977" y="50"/>
                </a:lnTo>
                <a:lnTo>
                  <a:pt x="977" y="0"/>
                </a:lnTo>
                <a:lnTo>
                  <a:pt x="244" y="0"/>
                </a:lnTo>
                <a:lnTo>
                  <a:pt x="244" y="50"/>
                </a:lnTo>
                <a:lnTo>
                  <a:pt x="24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52840" y="3997440"/>
            <a:ext cx="2028960" cy="164880"/>
          </a:xfrm>
          <a:custGeom>
            <a:avLst/>
            <a:gdLst/>
            <a:ahLst/>
            <a:rect l="l" t="t" r="r" b="b"/>
            <a:pathLst>
              <a:path w="1221" h="99">
                <a:moveTo>
                  <a:pt x="0" y="99"/>
                </a:moveTo>
                <a:lnTo>
                  <a:pt x="1221" y="99"/>
                </a:lnTo>
                <a:lnTo>
                  <a:pt x="1221" y="0"/>
                </a:lnTo>
                <a:lnTo>
                  <a:pt x="0" y="0"/>
                </a:lnTo>
                <a:lnTo>
                  <a:pt x="0" y="99"/>
                </a:lnTo>
                <a:lnTo>
                  <a:pt x="0" y="99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9280" y="3666960"/>
            <a:ext cx="1216080" cy="84240"/>
          </a:xfrm>
          <a:custGeom>
            <a:avLst/>
            <a:gdLst/>
            <a:ahLst/>
            <a:rect l="l" t="t" r="r" b="b"/>
            <a:pathLst>
              <a:path w="733" h="50">
                <a:moveTo>
                  <a:pt x="0" y="50"/>
                </a:moveTo>
                <a:lnTo>
                  <a:pt x="733" y="50"/>
                </a:lnTo>
                <a:lnTo>
                  <a:pt x="733" y="0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noFill/>
          <a:ln cap="rnd" w="9360">
            <a:solidFill>
              <a:srgbClr val="1b6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1"/>
          <p:cNvSpPr/>
          <p:nvPr/>
        </p:nvSpPr>
        <p:spPr>
          <a:xfrm>
            <a:off x="468360" y="6093000"/>
            <a:ext cx="8496360" cy="419040"/>
          </a:xfrm>
          <a:prstGeom prst="rect">
            <a:avLst/>
          </a:prstGeom>
          <a:solidFill>
            <a:srgbClr val="dff1cb"/>
          </a:solidFill>
          <a:ln w="0">
            <a:noFill/>
          </a:ln>
          <a:effectLst>
            <a:outerShdw dist="17819" dir="2700000" blurRad="0" rotWithShape="0">
              <a:srgbClr val="859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714b"/>
                </a:solidFill>
                <a:latin typeface="Arial"/>
              </a:rPr>
              <a:t>Оснащение центров осуществляется в соответствии с перечнем оборудования, приобретаемого для государствен-ных и муниципальных учреждений, утвержденным приказом Минздравсоцразвития России от 10.08.2009 № 302 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440000"/>
            <a:ext cx="8425080" cy="1484280"/>
          </a:xfrm>
          <a:prstGeom prst="rect">
            <a:avLst/>
          </a:prstGeom>
          <a:solidFill>
            <a:srgbClr val="ffffd1"/>
          </a:solidFill>
          <a:ln w="0">
            <a:noFill/>
          </a:ln>
          <a:effectLst>
            <a:outerShdw dist="17819" dir="2700000" blurRad="0" rotWithShape="0">
              <a:srgbClr val="9898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640" y="1440000"/>
            <a:ext cx="81914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0045"/>
                </a:solidFill>
                <a:latin typeface="Arial"/>
              </a:rPr>
              <a:t>Приказ</a:t>
            </a:r>
            <a:r>
              <a:rPr b="1" lang="en-US" sz="1400" spc="-1" strike="noStrike">
                <a:solidFill>
                  <a:srgbClr val="1b6b40"/>
                </a:solidFill>
                <a:latin typeface="Arial"/>
              </a:rPr>
              <a:t> Минздравсоцразвития России от </a:t>
            </a:r>
            <a:r>
              <a:rPr b="1" lang="en-US" sz="1400" spc="-1" strike="noStrike">
                <a:solidFill>
                  <a:srgbClr val="8a0045"/>
                </a:solidFill>
                <a:latin typeface="Arial"/>
              </a:rPr>
              <a:t>10.06.2009 № 302н</a:t>
            </a:r>
            <a:r>
              <a:rPr b="1" lang="en-US" sz="1400" spc="-1" strike="noStrike">
                <a:solidFill>
                  <a:srgbClr val="1b6b40"/>
                </a:solidFill>
                <a:latin typeface="Arial"/>
              </a:rPr>
              <a:t> «О мерах по реализации постановления Правительства Российской Федерации от 18.05.2009 № 41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0045"/>
                </a:solidFill>
                <a:latin typeface="Arial"/>
              </a:rPr>
              <a:t>Приказ</a:t>
            </a:r>
            <a:r>
              <a:rPr b="1" lang="en-US" sz="1400" spc="-1" strike="noStrike">
                <a:solidFill>
                  <a:srgbClr val="1b6b40"/>
                </a:solidFill>
                <a:latin typeface="Arial"/>
              </a:rPr>
              <a:t> Минздравсоцразвития России от </a:t>
            </a:r>
            <a:r>
              <a:rPr b="1" lang="en-US" sz="1400" spc="-1" strike="noStrike">
                <a:solidFill>
                  <a:srgbClr val="8a0045"/>
                </a:solidFill>
                <a:latin typeface="Arial"/>
              </a:rPr>
              <a:t>19.08.2009 № 597н</a:t>
            </a:r>
            <a:r>
              <a:rPr b="1" lang="en-US" sz="1400" spc="-1" strike="noStrike">
                <a:solidFill>
                  <a:srgbClr val="1b6b40"/>
                </a:solidFill>
                <a:latin typeface="Arial"/>
              </a:rPr>
              <a:t> «Об организации деятельности центров здоровья по формированию здорового образа жизни у граждан Российской Федерации, включая сокращение потребления алкоголя и таба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1"/>
          <p:cNvSpPr/>
          <p:nvPr/>
        </p:nvSpPr>
        <p:spPr>
          <a:xfrm>
            <a:off x="1476360" y="907920"/>
            <a:ext cx="6149880" cy="419400"/>
          </a:xfrm>
          <a:prstGeom prst="rect">
            <a:avLst/>
          </a:prstGeom>
          <a:solidFill>
            <a:srgbClr val="dff1cb"/>
          </a:solidFill>
          <a:ln w="0">
            <a:noFill/>
          </a:ln>
          <a:effectLst>
            <a:outerShdw dist="17819" dir="2700000" blurRad="0" rotWithShape="0">
              <a:srgbClr val="859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4b"/>
                </a:solidFill>
                <a:latin typeface="Arial"/>
              </a:rPr>
              <a:t>Организация деятельности</a:t>
            </a:r>
            <a:r>
              <a:rPr b="1" lang="en-US" sz="2000" spc="-1" strike="noStrike">
                <a:solidFill>
                  <a:srgbClr val="25714b"/>
                </a:solidFill>
                <a:latin typeface="Calibri"/>
              </a:rPr>
              <a:t> центров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2360" y="123840"/>
            <a:ext cx="8640720" cy="64260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Формирование здорового образа жизни у граждан Российской Федерации, включая сокращение потребления алкоголя и таб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4869000"/>
            <a:ext cx="1673280" cy="998280"/>
            <a:chOff x="539640" y="4869000"/>
            <a:chExt cx="1673280" cy="998280"/>
          </a:xfrm>
        </p:grpSpPr>
        <p:sp>
          <p:nvSpPr>
            <p:cNvPr id="343" name=""/>
            <p:cNvSpPr/>
            <p:nvPr/>
          </p:nvSpPr>
          <p:spPr>
            <a:xfrm>
              <a:off x="539640" y="4869000"/>
              <a:ext cx="1673280" cy="998280"/>
            </a:xfrm>
            <a:custGeom>
              <a:avLst/>
              <a:gdLst/>
              <a:ahLst/>
              <a:rect l="l" t="t" r="r" b="b"/>
              <a:pathLst>
                <a:path w="4320" h="3360">
                  <a:moveTo>
                    <a:pt x="182" y="3360"/>
                  </a:moveTo>
                  <a:lnTo>
                    <a:pt x="4139" y="3360"/>
                  </a:lnTo>
                  <a:cubicBezTo>
                    <a:pt x="4239" y="3360"/>
                    <a:pt x="4320" y="3278"/>
                    <a:pt x="4320" y="3178"/>
                  </a:cubicBezTo>
                  <a:cubicBezTo>
                    <a:pt x="4320" y="3178"/>
                    <a:pt x="4320" y="3178"/>
                    <a:pt x="4320" y="3178"/>
                  </a:cubicBezTo>
                  <a:lnTo>
                    <a:pt x="4320" y="181"/>
                  </a:lnTo>
                  <a:cubicBezTo>
                    <a:pt x="4320" y="81"/>
                    <a:pt x="4239" y="0"/>
                    <a:pt x="4139" y="0"/>
                  </a:cubicBezTo>
                  <a:lnTo>
                    <a:pt x="4139" y="0"/>
                  </a:lnTo>
                  <a:lnTo>
                    <a:pt x="182" y="0"/>
                  </a:lnTo>
                  <a:cubicBezTo>
                    <a:pt x="82" y="0"/>
                    <a:pt x="0" y="81"/>
                    <a:pt x="0" y="181"/>
                  </a:cubicBezTo>
                  <a:lnTo>
                    <a:pt x="0" y="3178"/>
                  </a:lnTo>
                  <a:cubicBezTo>
                    <a:pt x="0" y="3278"/>
                    <a:pt x="82" y="3360"/>
                    <a:pt x="182" y="3360"/>
                  </a:cubicBezTo>
                  <a:close/>
                </a:path>
              </a:pathLst>
            </a:cu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9640" y="49417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Стационарно-поликлинические медицинские учре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1080" y="3141720"/>
            <a:ext cx="1673280" cy="1214280"/>
            <a:chOff x="6931080" y="3141720"/>
            <a:chExt cx="1673280" cy="1214280"/>
          </a:xfrm>
        </p:grpSpPr>
        <p:sp>
          <p:nvSpPr>
            <p:cNvPr id="346" name=""/>
            <p:cNvSpPr/>
            <p:nvPr/>
          </p:nvSpPr>
          <p:spPr>
            <a:xfrm>
              <a:off x="6931080" y="3141720"/>
              <a:ext cx="1673280" cy="1214280"/>
            </a:xfrm>
            <a:custGeom>
              <a:avLst/>
              <a:gdLst/>
              <a:ahLst/>
              <a:rect l="l" t="t" r="r" b="b"/>
              <a:pathLst>
                <a:path w="4320" h="3360">
                  <a:moveTo>
                    <a:pt x="182" y="3360"/>
                  </a:moveTo>
                  <a:lnTo>
                    <a:pt x="4139" y="3360"/>
                  </a:lnTo>
                  <a:cubicBezTo>
                    <a:pt x="4239" y="3360"/>
                    <a:pt x="4320" y="3278"/>
                    <a:pt x="4320" y="3178"/>
                  </a:cubicBezTo>
                  <a:cubicBezTo>
                    <a:pt x="4320" y="3178"/>
                    <a:pt x="4320" y="3178"/>
                    <a:pt x="4320" y="3178"/>
                  </a:cubicBezTo>
                  <a:lnTo>
                    <a:pt x="4320" y="181"/>
                  </a:lnTo>
                  <a:cubicBezTo>
                    <a:pt x="4320" y="81"/>
                    <a:pt x="4239" y="0"/>
                    <a:pt x="4139" y="0"/>
                  </a:cubicBezTo>
                  <a:lnTo>
                    <a:pt x="4139" y="0"/>
                  </a:lnTo>
                  <a:lnTo>
                    <a:pt x="182" y="0"/>
                  </a:lnTo>
                  <a:cubicBezTo>
                    <a:pt x="82" y="0"/>
                    <a:pt x="0" y="81"/>
                    <a:pt x="0" y="181"/>
                  </a:cubicBezTo>
                  <a:lnTo>
                    <a:pt x="0" y="3178"/>
                  </a:lnTo>
                  <a:cubicBezTo>
                    <a:pt x="0" y="3278"/>
                    <a:pt x="82" y="3360"/>
                    <a:pt x="182" y="3360"/>
                  </a:cubicBezTo>
                  <a:close/>
                </a:path>
              </a:pathLst>
            </a:cu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48360" y="3429000"/>
              <a:ext cx="165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Врачебно-физкультурные диспансе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931080" y="4869000"/>
            <a:ext cx="1673280" cy="998280"/>
            <a:chOff x="6931080" y="4869000"/>
            <a:chExt cx="1673280" cy="998280"/>
          </a:xfrm>
        </p:grpSpPr>
        <p:sp>
          <p:nvSpPr>
            <p:cNvPr id="349" name=""/>
            <p:cNvSpPr/>
            <p:nvPr/>
          </p:nvSpPr>
          <p:spPr>
            <a:xfrm>
              <a:off x="6931080" y="4869000"/>
              <a:ext cx="1673280" cy="998280"/>
            </a:xfrm>
            <a:custGeom>
              <a:avLst/>
              <a:gdLst/>
              <a:ahLst/>
              <a:rect l="l" t="t" r="r" b="b"/>
              <a:pathLst>
                <a:path w="4320" h="3360">
                  <a:moveTo>
                    <a:pt x="182" y="3360"/>
                  </a:moveTo>
                  <a:lnTo>
                    <a:pt x="4139" y="3360"/>
                  </a:lnTo>
                  <a:cubicBezTo>
                    <a:pt x="4239" y="3360"/>
                    <a:pt x="4320" y="3278"/>
                    <a:pt x="4320" y="3178"/>
                  </a:cubicBezTo>
                  <a:cubicBezTo>
                    <a:pt x="4320" y="3178"/>
                    <a:pt x="4320" y="3178"/>
                    <a:pt x="4320" y="3178"/>
                  </a:cubicBezTo>
                  <a:lnTo>
                    <a:pt x="4320" y="181"/>
                  </a:lnTo>
                  <a:cubicBezTo>
                    <a:pt x="4320" y="81"/>
                    <a:pt x="4239" y="0"/>
                    <a:pt x="4139" y="0"/>
                  </a:cubicBezTo>
                  <a:lnTo>
                    <a:pt x="4139" y="0"/>
                  </a:lnTo>
                  <a:lnTo>
                    <a:pt x="182" y="0"/>
                  </a:lnTo>
                  <a:cubicBezTo>
                    <a:pt x="82" y="0"/>
                    <a:pt x="0" y="81"/>
                    <a:pt x="0" y="181"/>
                  </a:cubicBezTo>
                  <a:lnTo>
                    <a:pt x="0" y="3178"/>
                  </a:lnTo>
                  <a:cubicBezTo>
                    <a:pt x="0" y="3278"/>
                    <a:pt x="82" y="3360"/>
                    <a:pt x="182" y="3360"/>
                  </a:cubicBezTo>
                  <a:close/>
                </a:path>
              </a:pathLst>
            </a:cu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48360" y="5021280"/>
              <a:ext cx="165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Центры медицинской профилакт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22360" y="3068640"/>
            <a:ext cx="1673280" cy="1214280"/>
            <a:chOff x="522360" y="3068640"/>
            <a:chExt cx="1673280" cy="1214280"/>
          </a:xfrm>
        </p:grpSpPr>
        <p:sp>
          <p:nvSpPr>
            <p:cNvPr id="352" name=""/>
            <p:cNvSpPr/>
            <p:nvPr/>
          </p:nvSpPr>
          <p:spPr>
            <a:xfrm>
              <a:off x="522360" y="3068640"/>
              <a:ext cx="1673280" cy="1214280"/>
            </a:xfrm>
            <a:custGeom>
              <a:avLst/>
              <a:gdLst/>
              <a:ahLst/>
              <a:rect l="l" t="t" r="r" b="b"/>
              <a:pathLst>
                <a:path w="4320" h="3360">
                  <a:moveTo>
                    <a:pt x="182" y="3360"/>
                  </a:moveTo>
                  <a:lnTo>
                    <a:pt x="4139" y="3360"/>
                  </a:lnTo>
                  <a:cubicBezTo>
                    <a:pt x="4239" y="3360"/>
                    <a:pt x="4320" y="3278"/>
                    <a:pt x="4320" y="3178"/>
                  </a:cubicBezTo>
                  <a:cubicBezTo>
                    <a:pt x="4320" y="3178"/>
                    <a:pt x="4320" y="3178"/>
                    <a:pt x="4320" y="3178"/>
                  </a:cubicBezTo>
                  <a:lnTo>
                    <a:pt x="4320" y="181"/>
                  </a:lnTo>
                  <a:cubicBezTo>
                    <a:pt x="4320" y="81"/>
                    <a:pt x="4239" y="0"/>
                    <a:pt x="4139" y="0"/>
                  </a:cubicBezTo>
                  <a:lnTo>
                    <a:pt x="4139" y="0"/>
                  </a:lnTo>
                  <a:lnTo>
                    <a:pt x="182" y="0"/>
                  </a:lnTo>
                  <a:cubicBezTo>
                    <a:pt x="82" y="0"/>
                    <a:pt x="0" y="81"/>
                    <a:pt x="0" y="181"/>
                  </a:cubicBezTo>
                  <a:lnTo>
                    <a:pt x="0" y="3178"/>
                  </a:lnTo>
                  <a:cubicBezTo>
                    <a:pt x="0" y="3278"/>
                    <a:pt x="82" y="3360"/>
                    <a:pt x="182" y="3360"/>
                  </a:cubicBezTo>
                  <a:close/>
                </a:path>
              </a:pathLst>
            </a:custGeom>
            <a:solidFill>
              <a:srgbClr val="d3a679"/>
            </a:solidFill>
            <a:ln w="0">
              <a:noFill/>
            </a:ln>
            <a:effectLst>
              <a:outerShdw dist="17819" dir="2700000" blurRad="0" rotWithShape="0">
                <a:srgbClr val="7e63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324324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Амбулаторно-поликлинические медицинские учре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 rot="20493000">
            <a:off x="5435640" y="3893760"/>
            <a:ext cx="1149480" cy="438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 rot="1091400">
            <a:off x="2476080" y="3807000"/>
            <a:ext cx="1022400" cy="460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 rot="1176600">
            <a:off x="5499000" y="5157720"/>
            <a:ext cx="1068480" cy="446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20398200">
            <a:off x="2484000" y="5083200"/>
            <a:ext cx="1079640" cy="44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645000" y="3776760"/>
            <a:ext cx="1790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НТР ЗДОРОВЬЯ</a:t>
            </a:r>
            <a:endParaRPr b="1" lang="en-US" sz="1600" spc="1" strike="noStrike">
              <a:ln w="12600">
                <a:solidFill>
                  <a:srgbClr val="800000"/>
                </a:solidFill>
                <a:miter/>
              </a:ln>
              <a:solidFill>
                <a:srgbClr val="ff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873000"/>
            <a:ext cx="842472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Демографические по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773360"/>
          <a:ext cx="8362800" cy="4162320"/>
        </p:xfrm>
        <a:graphic>
          <a:graphicData uri="http://schemas.openxmlformats.org/drawingml/2006/table">
            <a:tbl>
              <a:tblPr/>
              <a:tblGrid>
                <a:gridCol w="2746440"/>
                <a:gridCol w="2881080"/>
                <a:gridCol w="2735280"/>
              </a:tblGrid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лининградск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 (10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(10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Родилось всего (чел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1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65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79280" y="1704960"/>
          <a:ext cx="8205840" cy="51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4960"/>
                    <a:ext cx="820584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324000" y="9079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области за сентябрь 200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Диаграмма 2"/>
          <p:cNvGraphicFramePr/>
          <p:nvPr/>
        </p:nvGraphicFramePr>
        <p:xfrm>
          <a:off x="250920" y="1671480"/>
          <a:ext cx="844848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71480"/>
                    <a:ext cx="84484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324000" y="9097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г. Калининграда за сентябрь 200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-38160" y="1955880"/>
          <a:ext cx="922032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1955880"/>
                    <a:ext cx="922032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395280" y="890640"/>
            <a:ext cx="8569440" cy="5202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центное соотношение отсроченных рецептов к обслуженным по программе ОНЛС в разрезе  муниципальных образований на 12 но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16000" y="765000"/>
          <a:ext cx="874872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65000"/>
                    <a:ext cx="87487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324000" y="158760"/>
            <a:ext cx="8569080" cy="4590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79280" y="981000"/>
          <a:ext cx="882036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8203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24000" y="158760"/>
            <a:ext cx="8569080" cy="4590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42920" y="836640"/>
          <a:ext cx="8893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836640"/>
                    <a:ext cx="8893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24000" y="158760"/>
            <a:ext cx="8569080" cy="4590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42920" y="979560"/>
          <a:ext cx="88930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979560"/>
                    <a:ext cx="8893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24000" y="158760"/>
            <a:ext cx="8569080" cy="4590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063800"/>
            <a:ext cx="756144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«Развитие первичн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916280"/>
            <a:ext cx="7846920" cy="581400"/>
          </a:xfrm>
          <a:prstGeom prst="rect">
            <a:avLst/>
          </a:prstGeom>
          <a:solidFill>
            <a:srgbClr val="b7e7cf"/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Регистр медицинских  работников участковой службы - </a:t>
            </a:r>
            <a:r>
              <a:rPr b="1" lang="en-US" sz="1700" spc="-1" strike="noStrike">
                <a:solidFill>
                  <a:srgbClr val="00cc00"/>
                </a:solidFill>
                <a:latin typeface="Arial"/>
              </a:rPr>
              <a:t>830</a:t>
            </a: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 человек (418 врачей и 412 медицинских сесте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508640"/>
            <a:ext cx="7846920" cy="581400"/>
          </a:xfrm>
          <a:prstGeom prst="rect">
            <a:avLst/>
          </a:prstGeom>
          <a:solidFill>
            <a:srgbClr val="b7e7cf"/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Регистр сотрудников службы скорой медицинской помощи и фельдшерско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акушерских пунктов – </a:t>
            </a:r>
            <a:r>
              <a:rPr b="1" lang="ru-RU" sz="1700" spc="-1" strike="noStrike">
                <a:solidFill>
                  <a:srgbClr val="00cc00"/>
                </a:solidFill>
                <a:latin typeface="Arial"/>
              </a:rPr>
              <a:t>725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 челов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4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За январь-октябрь 2009 года дополнительные выплаты средств федерального бюджета  составили 88,1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9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92360" y="3286080"/>
            <a:ext cx="2087640" cy="647640"/>
            <a:chOff x="3492360" y="3286080"/>
            <a:chExt cx="2087640" cy="64764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187880" y="3782880"/>
              <a:ext cx="69696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3898800" y="3535200"/>
              <a:ext cx="127656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492360" y="3286080"/>
              <a:ext cx="2087640" cy="1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084720" y="278136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826920" y="2781360"/>
            <a:ext cx="20606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79280" y="981000"/>
          <a:ext cx="885672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856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24000" y="158760"/>
            <a:ext cx="8569080" cy="4590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-36360" y="1446120"/>
          <a:ext cx="9036000" cy="52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446120"/>
                    <a:ext cx="903600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1280" y="855720"/>
            <a:ext cx="896472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-36360" y="1454040"/>
          <a:ext cx="9001080" cy="52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454040"/>
                    <a:ext cx="900108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71280" y="855720"/>
            <a:ext cx="896472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08000" y="1434960"/>
          <a:ext cx="9036000" cy="52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34960"/>
                    <a:ext cx="903600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1280" y="855720"/>
            <a:ext cx="896472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-108000" y="1554120"/>
          <a:ext cx="918072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554120"/>
                    <a:ext cx="91807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71280" y="855720"/>
            <a:ext cx="896472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-31680" y="1628640"/>
          <a:ext cx="917568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80" y="1628640"/>
                    <a:ext cx="917568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1280" y="855720"/>
            <a:ext cx="896472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по состоянию на 15.10.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9"/>
          <p:cNvSpPr/>
          <p:nvPr/>
        </p:nvSpPr>
        <p:spPr>
          <a:xfrm>
            <a:off x="684360" y="2276640"/>
            <a:ext cx="0" cy="2879640"/>
          </a:xfrm>
          <a:prstGeom prst="line">
            <a:avLst/>
          </a:prstGeom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8920"/>
            <a:ext cx="8424720" cy="5511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– 92,719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916280"/>
            <a:ext cx="2952720" cy="764280"/>
          </a:xfrm>
          <a:prstGeom prst="rect">
            <a:avLst/>
          </a:prstGeom>
          <a:solidFill>
            <a:srgbClr val="b7e7cf"/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2060640"/>
            <a:ext cx="2952720" cy="398880"/>
          </a:xfrm>
          <a:prstGeom prst="rect">
            <a:avLst/>
          </a:prstGeom>
          <a:solidFill>
            <a:srgbClr val="b7e7c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8430"/>
                </a:solidFill>
                <a:latin typeface="Arial"/>
              </a:rPr>
              <a:t>24,420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613320"/>
            <a:ext cx="2952720" cy="764280"/>
          </a:xfrm>
          <a:prstGeom prst="rect">
            <a:avLst/>
          </a:prstGeom>
          <a:solidFill>
            <a:srgbClr val="b7e7cf"/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Родильные дома и отде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b7e7cf"/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3787920"/>
            <a:ext cx="2952720" cy="398880"/>
          </a:xfrm>
          <a:prstGeom prst="rect">
            <a:avLst/>
          </a:prstGeom>
          <a:solidFill>
            <a:srgbClr val="b7e7c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8430"/>
                </a:solidFill>
                <a:latin typeface="Arial"/>
              </a:rPr>
              <a:t>52,362 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b7e7c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6d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8430"/>
                </a:solidFill>
                <a:latin typeface="Arial"/>
              </a:rPr>
              <a:t>15,937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1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31760"/>
            <a:ext cx="858960" cy="69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14560" y="19875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556000" y="4724280"/>
            <a:ext cx="5256000" cy="14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556000" y="3068640"/>
            <a:ext cx="5256000" cy="14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50920" y="3429000"/>
            <a:ext cx="16207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657360"/>
          <a:ext cx="8785440" cy="6048360"/>
        </p:xfrm>
        <a:graphic>
          <a:graphicData uri="http://schemas.openxmlformats.org/drawingml/2006/table">
            <a:tbl>
              <a:tblPr/>
              <a:tblGrid>
                <a:gridCol w="433440"/>
                <a:gridCol w="2951280"/>
                <a:gridCol w="1224000"/>
                <a:gridCol w="1296720"/>
                <a:gridCol w="792360"/>
                <a:gridCol w="1368360"/>
                <a:gridCol w="719280"/>
              </a:tblGrid>
              <a:tr h="693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четное число берем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-лись в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-лись во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на 12.11.2009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711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944640"/>
            <a:ext cx="7704000" cy="11142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05823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0560" y="2276640"/>
            <a:ext cx="7561440" cy="21362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05823"/>
                </a:solidFill>
                <a:latin typeface="Arial"/>
              </a:rPr>
              <a:t>В 2009 году</a:t>
            </a:r>
            <a:r>
              <a:rPr b="1" lang="en-US" sz="4000" spc="-1" strike="noStrike">
                <a:solidFill>
                  <a:srgbClr val="10582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5823"/>
                </a:solidFill>
                <a:latin typeface="Arial"/>
              </a:rPr>
              <a:t>по данным родильных домов (на 12.11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05823"/>
                </a:solidFill>
                <a:latin typeface="Arial"/>
              </a:rPr>
              <a:t>родилось 8866 детей, обследовано 99,5 %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640" y="4797360"/>
            <a:ext cx="7848720" cy="145044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2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фенилкетонурия – 1 больной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рожденный гипотиреоз – 1 больн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руппе риска наблюдается 15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3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907920"/>
            <a:ext cx="8064360" cy="977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823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105823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2425680"/>
            <a:ext cx="7561440" cy="143460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Arial"/>
              </a:rPr>
              <a:t>В 2009 году проведе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Arial"/>
              </a:rPr>
              <a:t>4629 исслед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254480"/>
            <a:ext cx="8245440" cy="173988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детей   направлены в федеральный медицинский центр для решения вопроса о необходимости оперативного лечения (за счет средств федерального бюджета, квоты выдел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дете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опериро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ребенка  находятся под наблю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4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08000" y="692280"/>
          <a:ext cx="8928000" cy="6103800"/>
        </p:xfrm>
        <a:graphic>
          <a:graphicData uri="http://schemas.openxmlformats.org/drawingml/2006/table">
            <a:tbl>
              <a:tblPr/>
              <a:tblGrid>
                <a:gridCol w="436680"/>
                <a:gridCol w="2465280"/>
                <a:gridCol w="976320"/>
                <a:gridCol w="1131840"/>
                <a:gridCol w="650880"/>
                <a:gridCol w="1015920"/>
                <a:gridCol w="1171800"/>
                <a:gridCol w="502920"/>
                <a:gridCol w="576360"/>
              </a:tblGrid>
              <a:tr h="83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-дившихся детей в марте 20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ставленных к оплате тало-нов № 3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-дившихся детей в сент.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ставленных к оплате тало-нов № 3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-д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4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19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2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611280" y="39600"/>
            <a:ext cx="79675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2009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. и 1 г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981000"/>
            <a:ext cx="806436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Диспансеризация детей-сирот и детей, находящихся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141800"/>
            <a:ext cx="7561440" cy="1800360"/>
          </a:xfrm>
          <a:prstGeom prst="rect">
            <a:avLst/>
          </a:prstGeom>
          <a:solidFill>
            <a:srgbClr val="105823">
              <a:alpha val="79000"/>
            </a:srgbClr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На 12.11.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осмотрено 1584 ребенка – 58,3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6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2492280"/>
            <a:ext cx="7561440" cy="11300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5823"/>
                </a:solidFill>
                <a:latin typeface="Arial"/>
              </a:rPr>
              <a:t>Число подлежащих диспансеризации детей – </a:t>
            </a:r>
            <a:r>
              <a:rPr b="1" lang="en-US" sz="3600" spc="-1" strike="noStrike">
                <a:solidFill>
                  <a:srgbClr val="105823"/>
                </a:solidFill>
                <a:latin typeface="Arial"/>
              </a:rPr>
              <a:t>2719</a:t>
            </a:r>
            <a:r>
              <a:rPr b="1" lang="en-US" sz="3200" spc="-1" strike="noStrike">
                <a:solidFill>
                  <a:srgbClr val="105823"/>
                </a:solidFill>
                <a:latin typeface="Arial"/>
              </a:rPr>
              <a:t>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2:32:48Z</dcterms:created>
  <dc:creator>Ivanowa</dc:creator>
  <dc:description/>
  <dc:language>en-US</dc:language>
  <cp:lastModifiedBy>Маскевич</cp:lastModifiedBy>
  <dcterms:modified xsi:type="dcterms:W3CDTF">2009-11-13T13:50:31Z</dcterms:modified>
  <cp:revision>1986</cp:revision>
  <dc:subject/>
  <dc:title>Слайд 1</dc:title>
</cp:coreProperties>
</file>