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jpeg" ContentType="image/jpeg"/>
  <Override PartName="/ppt/media/image9.png" ContentType="image/png"/>
  <Override PartName="/ppt/media/image42.wmf" ContentType="image/x-wmf"/>
  <Override PartName="/ppt/media/image20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8.wmf" ContentType="image/x-wmf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41.jpeg" ContentType="image/jpeg"/>
  <Override PartName="/ppt/media/image54.png" ContentType="image/png"/>
  <Override PartName="/ppt/media/image37.wmf" ContentType="image/x-wmf"/>
  <Override PartName="/ppt/media/image46.png" ContentType="image/png"/>
  <Override PartName="/ppt/media/image45.png" ContentType="image/png"/>
  <Override PartName="/ppt/media/image44.jpeg" ContentType="image/jpeg"/>
  <Override PartName="/ppt/media/image51.png" ContentType="image/png"/>
  <Override PartName="/ppt/media/image34.wmf" ContentType="image/x-wmf"/>
  <Override PartName="/ppt/media/image39.wmf" ContentType="image/x-wmf"/>
  <Override PartName="/ppt/media/image40.wmf" ContentType="image/x-wmf"/>
  <Override PartName="/ppt/media/image55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36.wmf" ContentType="image/x-wmf"/>
  <Override PartName="/ppt/media/image43.png" ContentType="image/png"/>
  <Override PartName="/ppt/media/image33.wmf" ContentType="image/x-wmf"/>
  <Override PartName="/ppt/media/image12.jpeg" ContentType="image/jpeg"/>
  <Override PartName="/ppt/media/image11.png" ContentType="image/png"/>
  <Override PartName="/ppt/media/image48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29.png" ContentType="image/png"/>
  <Override PartName="/ppt/media/image3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18D-2D26-4D51-992E-CAC2B1DD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D29-BC4F-4486-A727-491C014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2E2-DBD5-426B-95C6-1BC68C4F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F4A-C0BF-4810-9DDE-1E2CBD04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E13-830D-43EC-93D7-2D2328F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C7C-9CCD-489E-9163-3CEE0C89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4D6-2648-49CE-9C71-FA13B8DE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4B4-D937-4301-B2FB-0C9AE98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047-B6A6-4B62-876F-B5D8F2F9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619-04F9-4EFE-A165-33557B3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09F-DCAE-4203-A57B-7DD81CC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0C0-B2CD-4846-AE5B-DB89090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AD6-377D-4247-B08E-07919636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-720" y="0"/>
            <a:ext cx="1631880" cy="81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5760" y="0"/>
            <a:ext cx="7518240" cy="826920"/>
          </a:xfrm>
          <a:prstGeom prst="rect">
            <a:avLst/>
          </a:prstGeom>
          <a:gradFill rotWithShape="0">
            <a:gsLst>
              <a:gs pos="0">
                <a:srgbClr val="007878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2520" y="0"/>
            <a:ext cx="7521480" cy="2253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2560" y="822240"/>
            <a:ext cx="271440" cy="6035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99160"/>
            <a:ext cx="9144000" cy="258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22240"/>
            <a:ext cx="271440" cy="6035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83880" y="6645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0" y="817560"/>
            <a:ext cx="914400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4960" y="819000"/>
            <a:ext cx="0" cy="576288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22160" y="228600"/>
            <a:ext cx="752148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620360" y="0"/>
            <a:ext cx="3240" cy="8208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6591240"/>
            <a:ext cx="8609040" cy="126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875800" y="818640"/>
            <a:ext cx="0" cy="578196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04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04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b0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77777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77777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77777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-720" y="0"/>
            <a:ext cx="2158920" cy="662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765760"/>
            <a:ext cx="1523880" cy="10922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5772240"/>
            <a:ext cx="0" cy="108576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620120" y="5410080"/>
            <a:ext cx="0" cy="144792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637320"/>
            <a:ext cx="914400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080" y="6637320"/>
            <a:ext cx="2509920" cy="22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15080" y="6637320"/>
            <a:ext cx="1528920" cy="22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0"/>
            <a:ext cx="6997680" cy="1052640"/>
          </a:xfrm>
          <a:prstGeom prst="rect">
            <a:avLst/>
          </a:prstGeom>
          <a:gradFill rotWithShape="0">
            <a:gsLst>
              <a:gs pos="0">
                <a:srgbClr val="8c8c8c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58920" y="0"/>
            <a:ext cx="6985080" cy="227160"/>
          </a:xfrm>
          <a:prstGeom prst="rect">
            <a:avLst/>
          </a:prstGeom>
          <a:gradFill rotWithShape="0">
            <a:gsLst>
              <a:gs pos="0">
                <a:srgbClr val="007878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47600"/>
            <a:ext cx="258840" cy="581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5769000"/>
            <a:ext cx="2514600" cy="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400720"/>
            <a:ext cx="1523880" cy="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83880" y="6645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5200" y="2857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629400"/>
            <a:ext cx="8893080" cy="126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0" y="1047600"/>
            <a:ext cx="914400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8840" y="1047240"/>
            <a:ext cx="0" cy="55818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55680" y="228600"/>
            <a:ext cx="69883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55680" y="0"/>
            <a:ext cx="0" cy="68580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04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04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7777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77777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7777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1616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53316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16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52388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9480"/>
            <a:ext cx="9144000" cy="1524240"/>
            <a:chOff x="0" y="609480"/>
            <a:chExt cx="9144000" cy="1524240"/>
          </a:xfrm>
        </p:grpSpPr>
        <p:sp>
          <p:nvSpPr>
            <p:cNvPr id="153" name=""/>
            <p:cNvSpPr/>
            <p:nvPr/>
          </p:nvSpPr>
          <p:spPr>
            <a:xfrm>
              <a:off x="8991720" y="609480"/>
              <a:ext cx="152280" cy="152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09480"/>
              <a:ext cx="152280" cy="1524240"/>
            </a:xfrm>
            <a:prstGeom prst="rect">
              <a:avLst/>
            </a:prstGeom>
            <a:solidFill>
              <a:srgbClr val="161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1616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609480"/>
            <a:ext cx="9144000" cy="1524240"/>
            <a:chOff x="0" y="609480"/>
            <a:chExt cx="9144000" cy="1524240"/>
          </a:xfrm>
        </p:grpSpPr>
        <p:sp>
          <p:nvSpPr>
            <p:cNvPr id="194" name=""/>
            <p:cNvSpPr/>
            <p:nvPr/>
          </p:nvSpPr>
          <p:spPr>
            <a:xfrm>
              <a:off x="8991720" y="609480"/>
              <a:ext cx="152280" cy="152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09480"/>
              <a:ext cx="152280" cy="1524240"/>
            </a:xfrm>
            <a:prstGeom prst="rect">
              <a:avLst/>
            </a:prstGeom>
            <a:solidFill>
              <a:srgbClr val="161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029200" y="6553080"/>
            <a:ext cx="411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343400"/>
            <a:ext cx="82296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743200"/>
            <a:ext cx="1219320" cy="1600200"/>
          </a:xfrm>
          <a:prstGeom prst="rect">
            <a:avLst/>
          </a:prstGeom>
          <a:solidFill>
            <a:srgbClr val="000066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9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9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0.wmf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7.png"/><Relationship Id="rId16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3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3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39640" y="3068640"/>
            <a:ext cx="86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Реализация приоритетного национального проекта «Здоровье»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Калининградской области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 год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9"/>
          <p:cNvSpPr/>
          <p:nvPr/>
        </p:nvSpPr>
        <p:spPr>
          <a:xfrm>
            <a:off x="539640" y="3357720"/>
            <a:ext cx="0" cy="180000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5224320"/>
            <a:ext cx="28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f2fa"/>
                </a:solidFill>
                <a:latin typeface="Tahoma"/>
              </a:rPr>
              <a:t>Министр В.Е. Гол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2720" y="6308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28.06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00808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4000" y="1027080"/>
            <a:ext cx="33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34920" y="40320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0" y="1989000"/>
            <a:ext cx="9144000" cy="768240"/>
            <a:chOff x="0" y="1989000"/>
            <a:chExt cx="9144000" cy="768240"/>
          </a:xfrm>
        </p:grpSpPr>
        <p:grpSp>
          <p:nvGrpSpPr>
            <p:cNvPr id="247" name=""/>
            <p:cNvGrpSpPr/>
            <p:nvPr/>
          </p:nvGrpSpPr>
          <p:grpSpPr>
            <a:xfrm>
              <a:off x="0" y="1989000"/>
              <a:ext cx="9144000" cy="768240"/>
              <a:chOff x="0" y="1989000"/>
              <a:chExt cx="9144000" cy="76824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"/>
              <a:srcRect l="2876" t="0" r="0" b="-3185"/>
              <a:stretch/>
            </p:blipFill>
            <p:spPr>
              <a:xfrm>
                <a:off x="0" y="1989000"/>
                <a:ext cx="150336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96360" y="1989000"/>
                <a:ext cx="15476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1880" y="1992240"/>
                <a:ext cx="130320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13440" y="1989000"/>
                <a:ext cx="15476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60800" y="1992240"/>
                <a:ext cx="130320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7200" y="1989000"/>
                <a:ext cx="154800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468440" y="1992240"/>
                <a:ext cx="1303200" cy="73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442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135080"/>
            <a:ext cx="8642160" cy="55116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 в 2010 г. – 41,268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0920" y="206064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35640" y="2205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11,262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368460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Родильные дома и отде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38592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22,506 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7,5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114560" y="2131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50920" y="3500280"/>
            <a:ext cx="1584360" cy="1152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4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627280" y="31680"/>
            <a:ext cx="6481800" cy="5806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Совершенствование медицинской помощ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матерям и де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08000" y="657360"/>
          <a:ext cx="8928000" cy="6107040"/>
        </p:xfrm>
        <a:graphic>
          <a:graphicData uri="http://schemas.openxmlformats.org/drawingml/2006/table">
            <a:tbl>
              <a:tblPr/>
              <a:tblGrid>
                <a:gridCol w="504720"/>
                <a:gridCol w="2879640"/>
                <a:gridCol w="1727280"/>
                <a:gridCol w="1297080"/>
                <a:gridCol w="576360"/>
                <a:gridCol w="1366560"/>
                <a:gridCol w="576360"/>
              </a:tblGrid>
              <a:tr h="468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беременных,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о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ebf2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 </a:t>
                      </a:r>
                      <a:r>
                        <a:rPr b="1" i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учетом исследований ГУЗ «Перинатальный центр» и ГАУ «Региональные ПЦ»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за январь-май 2010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907920"/>
            <a:ext cx="7704000" cy="11142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66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0560" y="2239920"/>
            <a:ext cx="7561440" cy="207468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В 2010 году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(январь – май)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по данным родильных д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родилось 4244 ребенка,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обследовано 4223 чел. (99,5 %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4678200"/>
            <a:ext cx="7309080" cy="1618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0" algn="ctr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руппе риска наблюдается 28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влен 1 больной фенилкетону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 algn="ctr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 algn="ctr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6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907920"/>
            <a:ext cx="8064720" cy="9774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7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90560" y="2174760"/>
            <a:ext cx="7561440" cy="204444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В 2010 году проведено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1962 исслед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а оборудовании, полученном по ПНП «Здоровье» (100 % детей проходят звукореактотестирова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4508640"/>
            <a:ext cx="8207280" cy="1465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 дет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ждается в кохлеарной имплант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водится работа по их дообследованию, дети поставлены в лист ожидания для оперативного лечения в федеральном медицинском цен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4920" y="620640"/>
          <a:ext cx="9072720" cy="62499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нояб. 2009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е-ние поликли-ники 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. др. поликл. (установлен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ес.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1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ма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яцам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4920" y="620640"/>
          <a:ext cx="9072720" cy="62499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мае 2009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поликли-ники 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других поликли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году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2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ма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1 году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163440"/>
            <a:ext cx="8642160" cy="703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cbf3"/>
                </a:solidFill>
                <a:latin typeface="Arial"/>
              </a:rPr>
              <a:t>Исполнительская дисциплина ЛП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cbf3"/>
                </a:solidFill>
                <a:latin typeface="Arial"/>
              </a:rPr>
              <a:t>по представлению отчетности за май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5280" y="1255680"/>
            <a:ext cx="6265800" cy="2288520"/>
          </a:xfrm>
          <a:prstGeom prst="rect">
            <a:avLst/>
          </a:prstGeom>
          <a:solidFill>
            <a:srgbClr val="99cc0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ПУ, представившие полную информацию:                - ЛПУ г. Калининграда       - Балтийская ЦГБ                                                    - Нестеровская ЦРБ           - Славская ЦРБ                                                        - Правдинская ЦРБ            - Зеленоградская ЦРБ  - Краснознаменская ЦРБ  - Гусевская ЦРБ           - Черняховская ЦРБ          - Гурьевская ЦРБ         - Багратионовская Ц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3521160"/>
            <a:ext cx="6265800" cy="916920"/>
          </a:xfrm>
          <a:prstGeom prst="rect">
            <a:avLst/>
          </a:prstGeom>
          <a:solidFill>
            <a:srgbClr val="ffcc0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ПУ, частично представившие информацию:                                                       - Озерская ЦРБ                                                           - ЦГБ Советского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935640" y="4896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f9dbe"/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935640" y="1879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686480"/>
            <a:ext cx="6265800" cy="1191240"/>
          </a:xfrm>
          <a:prstGeom prst="rect">
            <a:avLst/>
          </a:prstGeom>
          <a:solidFill>
            <a:srgbClr val="df9dbe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ПУ, не представившие полную информацию:                                                        - Гвардейская ЦРБ                                                     - Неманская ЦРБ                                                         - Полесская ЦР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935640" y="36072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0" y="6264360"/>
            <a:ext cx="9144000" cy="260280"/>
            <a:chOff x="0" y="6264360"/>
            <a:chExt cx="9144000" cy="260280"/>
          </a:xfrm>
        </p:grpSpPr>
        <p:sp>
          <p:nvSpPr>
            <p:cNvPr id="396" name=""/>
            <p:cNvSpPr/>
            <p:nvPr/>
          </p:nvSpPr>
          <p:spPr>
            <a:xfrm>
              <a:off x="468360" y="626436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26436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42920" y="626436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 flipH="1">
            <a:off x="4571640" y="981000"/>
            <a:ext cx="2305080" cy="360036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24360" y="1773360"/>
            <a:ext cx="3168720" cy="2501640"/>
          </a:xfrm>
          <a:prstGeom prst="rect">
            <a:avLst/>
          </a:prstGeom>
          <a:solidFill>
            <a:srgbClr val="ffddff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За январь-май 2010 г. направлены в федеральные центры   по квотам 1002 чел.         (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в т.ч. в Калининградскую областную клиническую больницу – 50 чел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.); </a:t>
            </a: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Количество выполненных    объемов – 46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4606920"/>
            <a:ext cx="8136000" cy="154116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2010 году – по федеральным квотам запланирова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81 –сердечно-сосудистая опер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69 – операций протезирования сустав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981000"/>
            <a:ext cx="0" cy="792360"/>
          </a:xfrm>
          <a:prstGeom prst="line">
            <a:avLst/>
          </a:prstGeom>
          <a:ln w="158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63640" cy="69516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08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627280" y="31680"/>
            <a:ext cx="6481800" cy="91692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fffa"/>
                </a:solidFill>
                <a:latin typeface="Arial"/>
              </a:rPr>
              <a:t>Повышение доступности и качества специализированной, в т.ч.  высокотехнологичной  медицинской помощи</a:t>
            </a:r>
            <a:r>
              <a:rPr b="0" lang="en-US" sz="1800" spc="-1" strike="noStrike">
                <a:solidFill>
                  <a:srgbClr val="50fff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29080" y="1844640"/>
            <a:ext cx="2879640" cy="23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1484280"/>
            <a:ext cx="3095640" cy="2160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08000" y="981000"/>
          <a:ext cx="8928000" cy="5805720"/>
        </p:xfrm>
        <a:graphic>
          <a:graphicData uri="http://schemas.openxmlformats.org/drawingml/2006/table">
            <a:tbl>
              <a:tblPr/>
              <a:tblGrid>
                <a:gridCol w="934920"/>
                <a:gridCol w="3889440"/>
                <a:gridCol w="1944720"/>
                <a:gridCol w="2158920"/>
              </a:tblGrid>
              <a:tr h="50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отчетн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оответствующий период года, пред-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36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умерших во время перевозки (транспортиров-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, которым оказана медици-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6666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2360" y="3960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при дорожно-транспортных происшествиях (май 2010 год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637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796000" y="2286000"/>
            <a:ext cx="193680" cy="1922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5751360" y="4352760"/>
            <a:ext cx="195480" cy="1922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6718320" y="4586400"/>
            <a:ext cx="193680" cy="195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2050920" y="4005360"/>
            <a:ext cx="193680" cy="1936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874440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25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2920" y="836640"/>
            <a:ext cx="8893080" cy="6123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0066"/>
                </a:solidFill>
                <a:latin typeface="Arial"/>
              </a:rPr>
              <a:t>Центры здоровья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0066"/>
                </a:solidFill>
                <a:latin typeface="Arial"/>
              </a:rPr>
              <a:t>(субсидия из федерального бюджета – 2993,8 тыс.руб., 3066,3 тыс.р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627280" y="31680"/>
            <a:ext cx="6481800" cy="3682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0fffa"/>
                </a:solidFill>
                <a:latin typeface="Arial"/>
              </a:rPr>
              <a:t>Формирование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3168720" y="-13644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836640"/>
            <a:ext cx="8136000" cy="67284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Основные направления приоритетного национального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проекта «Здоровье» в 2010 год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0560" y="1916280"/>
            <a:ext cx="6913800" cy="7038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90560" y="5535720"/>
            <a:ext cx="6913800" cy="3988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Формирование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791280" y="42721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791280" y="19306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90560" y="4148280"/>
            <a:ext cx="6913800" cy="100872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Повышение доступности и качества специализированной, в т.ч. высокотехнологич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791280" y="5335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6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690560" y="2995560"/>
            <a:ext cx="6913800" cy="7038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Совершенствование медицинской помощи матерям и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791280" y="2961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888840"/>
            <a:ext cx="8424720" cy="5205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емографические 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801800"/>
          <a:ext cx="8362800" cy="4075200"/>
        </p:xfrm>
        <a:graphic>
          <a:graphicData uri="http://schemas.openxmlformats.org/drawingml/2006/table">
            <a:tbl>
              <a:tblPr/>
              <a:tblGrid>
                <a:gridCol w="3529080"/>
                <a:gridCol w="2448000"/>
                <a:gridCol w="2385720"/>
              </a:tblGrid>
              <a:tr h="378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ининградская обла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ма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ма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3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627280" y="31680"/>
            <a:ext cx="6481800" cy="3682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0fffa"/>
                </a:solidFill>
                <a:latin typeface="Arial"/>
              </a:rPr>
              <a:t>Формирование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168720" y="-13644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678880" y="6504120"/>
            <a:ext cx="55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51000" y="2639880"/>
          <a:ext cx="8435880" cy="33782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30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633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44268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82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324000" y="855720"/>
            <a:ext cx="8569080" cy="91692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необходимыми лекарственными средствами лиц льготных категорий граждан (федеральных льготников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24.06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52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51000" y="2852640"/>
          <a:ext cx="8435880" cy="31604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 по Программе 7-ми высокозатратных нозоло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8299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74451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граждан Калининградской области лекарственными средствами, предназначенными для лечения больных гемофилией, муковисцидозом, гипофизарным нанизмом, болезнью Гоше, злокачественными новообразованиями лимфоидной, кроветворной и родственных им тканей, рассеянным склерозом, а также пос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нсплантации органов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) тканей на 24.06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61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351000" y="3043080"/>
          <a:ext cx="8435880" cy="297828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ьготников, имеющих пра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льготное лекарственное обеспечение за счет средств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9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45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42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35001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25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региональных льготников лекарственными средствами за счет областного бюджета в рамках целевой программы «Развитие здравоохранения Калининградской области на период 2008-2012 годов», подпрограммы «Льготные лекарства» и в соответствии с постановлением Правительства РФ от 30.07.1994 № 890 по состоянию  на 24.06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47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0" y="2435400"/>
            <a:ext cx="9144000" cy="273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0" y="2174760"/>
            <a:ext cx="9144000" cy="2913120"/>
          </a:xfrm>
          <a:prstGeom prst="rect">
            <a:avLst/>
          </a:prstGeom>
          <a:solidFill>
            <a:srgbClr val="00b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217440" y="1973160"/>
            <a:ext cx="349092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0" descr="001"/>
          <p:cNvPicPr/>
          <p:nvPr/>
        </p:nvPicPr>
        <p:blipFill>
          <a:blip r:embed="rId1"/>
          <a:stretch/>
        </p:blipFill>
        <p:spPr>
          <a:xfrm>
            <a:off x="250920" y="2001960"/>
            <a:ext cx="3438360" cy="32446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1"/>
          <p:cNvSpPr/>
          <p:nvPr/>
        </p:nvSpPr>
        <p:spPr>
          <a:xfrm>
            <a:off x="611280" y="33703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q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2520" y="606600"/>
            <a:ext cx="375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31920" y="2900520"/>
            <a:ext cx="4917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e7e7"/>
                </a:solidFill>
                <a:latin typeface="Verdana"/>
              </a:rPr>
              <a:t>О состоянии дел </a:t>
            </a:r>
            <a:br>
              <a:rPr sz="2400"/>
            </a:br>
            <a:r>
              <a:rPr b="1" lang="en-US" sz="2400" spc="-1" strike="noStrike">
                <a:solidFill>
                  <a:srgbClr val="f4e7e7"/>
                </a:solidFill>
                <a:latin typeface="Verdana"/>
              </a:rPr>
              <a:t>в системе здравоохранения Калининградской области</a:t>
            </a:r>
            <a:endParaRPr b="1" lang="en-US" sz="2400" spc="-1" strike="noStrike">
              <a:solidFill>
                <a:srgbClr val="009999"/>
              </a:solidFill>
              <a:latin typeface="Verdan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71680" y="152280"/>
            <a:ext cx="892080" cy="798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77920" y="2065320"/>
            <a:ext cx="1643040" cy="31370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8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700360" y="333360"/>
            <a:ext cx="4995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Verdana"/>
              </a:rPr>
              <a:t>Перечень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80880" y="1154160"/>
          <a:ext cx="8512200" cy="5408280"/>
        </p:xfrm>
        <a:graphic>
          <a:graphicData uri="http://schemas.openxmlformats.org/drawingml/2006/table">
            <a:tbl>
              <a:tblPr/>
              <a:tblGrid>
                <a:gridCol w="8512200"/>
              </a:tblGrid>
              <a:tr h="542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ластное государственное учреждение «Советский кожно-венерологический диспансер»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ое учреждение здравоохранения «Нестеровская центральная районная больница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ое учреждение здравоохранения Балтийского городского округа «Центральная городская больница»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ое учреждение здравоохранения «Детская городская поликлиника № 1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spcBef>
                          <a:spcPts val="524"/>
                        </a:spcBef>
                        <a:buClr>
                          <a:srgbClr val="ff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ое учреждение здравоохранения «Детская городская поликлиника № 2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873612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45960" y="915840"/>
          <a:ext cx="866628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915840"/>
                    <a:ext cx="866628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8707320" y="65041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24000" y="144000"/>
            <a:ext cx="7005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Средняя длительность пребывания больного </a:t>
            </a:r>
            <a:br>
              <a:rPr sz="2000"/>
            </a:b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на койке /в днях, в пересчете на год/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492" name="Picture 34" descr=""/>
          <p:cNvPicPr/>
          <p:nvPr/>
        </p:nvPicPr>
        <p:blipFill>
          <a:blip r:embed="rId3"/>
          <a:stretch/>
        </p:blipFill>
        <p:spPr>
          <a:xfrm>
            <a:off x="324000" y="79200"/>
            <a:ext cx="10476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128520" y="1528920"/>
            <a:ext cx="3614760" cy="340200"/>
            <a:chOff x="128520" y="1528920"/>
            <a:chExt cx="3614760" cy="340200"/>
          </a:xfrm>
        </p:grpSpPr>
        <p:sp>
          <p:nvSpPr>
            <p:cNvPr id="494" name=""/>
            <p:cNvSpPr/>
            <p:nvPr/>
          </p:nvSpPr>
          <p:spPr>
            <a:xfrm>
              <a:off x="128520" y="159264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720" y="1822680"/>
              <a:ext cx="2462040" cy="1440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27240" y="152892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7,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143160" y="2500200"/>
            <a:ext cx="5686560" cy="339840"/>
            <a:chOff x="3143160" y="2500200"/>
            <a:chExt cx="5686560" cy="339840"/>
          </a:xfrm>
        </p:grpSpPr>
        <p:sp>
          <p:nvSpPr>
            <p:cNvPr id="498" name=""/>
            <p:cNvSpPr/>
            <p:nvPr/>
          </p:nvSpPr>
          <p:spPr>
            <a:xfrm>
              <a:off x="3143160" y="256356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6640" y="2793960"/>
              <a:ext cx="4464360" cy="14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13680" y="250020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84000" y="304920"/>
            <a:ext cx="664524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Среднее число дней работы койки в году </a:t>
            </a:r>
            <a:br>
              <a:rPr sz="2000"/>
            </a:b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503" name="Picture 23" descr=""/>
          <p:cNvPicPr/>
          <p:nvPr/>
        </p:nvPicPr>
        <p:blipFill>
          <a:blip r:embed="rId1"/>
          <a:stretch/>
        </p:blipFill>
        <p:spPr>
          <a:xfrm>
            <a:off x="341280" y="28440"/>
            <a:ext cx="946080" cy="774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86932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79360" y="900000"/>
          <a:ext cx="8656560" cy="580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900000"/>
                    <a:ext cx="865656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"/>
          <p:cNvGrpSpPr/>
          <p:nvPr/>
        </p:nvGrpSpPr>
        <p:grpSpPr>
          <a:xfrm>
            <a:off x="115920" y="1628640"/>
            <a:ext cx="8999640" cy="340200"/>
            <a:chOff x="115920" y="1628640"/>
            <a:chExt cx="8999640" cy="340200"/>
          </a:xfrm>
        </p:grpSpPr>
        <p:sp>
          <p:nvSpPr>
            <p:cNvPr id="508" name=""/>
            <p:cNvSpPr/>
            <p:nvPr/>
          </p:nvSpPr>
          <p:spPr>
            <a:xfrm>
              <a:off x="115920" y="1692360"/>
              <a:ext cx="7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330,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6560" y="1679400"/>
              <a:ext cx="7856640" cy="14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sm" type="diamond" w="sm"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31240" y="1628640"/>
              <a:ext cx="10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нормати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68000" y="159840"/>
            <a:ext cx="68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Число амбулаторно-поликлинических посещений </a:t>
            </a:r>
            <a:br>
              <a:rPr sz="1900"/>
            </a:b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на одного жителя в пересчете на год </a:t>
            </a:r>
            <a:endParaRPr b="1" lang="en-US" sz="19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71360" y="28440"/>
            <a:ext cx="1309680" cy="7747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0" y="932040"/>
            <a:ext cx="9129600" cy="5499000"/>
            <a:chOff x="0" y="932040"/>
            <a:chExt cx="9129600" cy="5499000"/>
          </a:xfrm>
        </p:grpSpPr>
        <p:grpSp>
          <p:nvGrpSpPr>
            <p:cNvPr id="516" name=""/>
            <p:cNvGrpSpPr/>
            <p:nvPr/>
          </p:nvGrpSpPr>
          <p:grpSpPr>
            <a:xfrm>
              <a:off x="403200" y="932040"/>
              <a:ext cx="8496360" cy="5499000"/>
              <a:chOff x="403200" y="932040"/>
              <a:chExt cx="8496360" cy="5499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41520" y="4216320"/>
                <a:ext cx="8245440" cy="657360"/>
                <a:chOff x="641520" y="4216320"/>
                <a:chExt cx="8245440" cy="6573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4152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095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779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460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9129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9810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0494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1174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858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2524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3208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38924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4572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52568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5922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6606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7287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7971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8651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9335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0001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0685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1366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050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7340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3400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40840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764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5448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6128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6798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478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8162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8843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9527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193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877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15612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41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925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3591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4275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4956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5640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6320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7004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7670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8354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90384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18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04028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068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7528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2433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3117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3797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4467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5147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5831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6512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7196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7862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8546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2300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9910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0594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1274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1944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2624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3308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3989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4673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5339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6023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67072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7387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8071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8737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94216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0102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0786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1466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2136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2816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3500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41844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4864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5530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214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68988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7579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8263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8943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9613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0293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0977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1658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2342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3008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3692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3760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5056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5740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64064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0904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7770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84548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9135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98048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04852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11692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8532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25336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319960" y="486252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38836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456760" y="48625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248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59320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612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728200" y="48625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7962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864640" y="48625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4152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095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779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460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9129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9810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0494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174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858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2524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3208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38924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572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52568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5922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606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7287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971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651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9335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0001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0685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366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2050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7340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3400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40840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764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5448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6128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798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7478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8162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8843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9527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0193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0877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15612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2241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2925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3591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275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4956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5640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6320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7004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7670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8354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90384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9718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04028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068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17528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2433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3117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3797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4467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5147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5831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512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196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862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8546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92300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9910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0594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274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1944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2624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3308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3989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4673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5339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023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7072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7387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8071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8737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641520" y="2936880"/>
                <a:ext cx="8245440" cy="1290600"/>
                <a:chOff x="641520" y="2936880"/>
                <a:chExt cx="8245440" cy="12906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94216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0102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0786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1466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2136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2816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3500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41844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4864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5530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6214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68988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7579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8263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8943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9613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293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0977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58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2342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3008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3692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43760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5056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5740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64064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0904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7770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84548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9135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98048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04852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11692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18532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25336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319960" y="421632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38836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456760" y="421632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5248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9320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6612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28200" y="421632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962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864640" y="421632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4152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095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779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460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129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9810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494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174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1858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2524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208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8924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4572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52568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5922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6606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7287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7971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651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9335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0001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0685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1366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2050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27340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3400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40840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4764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5448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6128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6798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7478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8162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8843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9527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0193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0877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15612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2241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2925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3591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4275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4956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5640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6320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7004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7670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8354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90384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9718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04028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1068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17528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433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3117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3797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4467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5147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5831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6512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7196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7862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8546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92300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9910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0594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1274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1944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24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3308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989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4673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339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6023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67072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7387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8071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8737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94216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0102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0786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466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2136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2816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3500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41844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4864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5530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6214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68988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7579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8263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8943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9613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0293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0977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658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2342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3008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3692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43760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5056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5740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64064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70904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7770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84548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135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98048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04852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11692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18532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25336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319960" y="358308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38836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456760" y="35830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5248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59320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6612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28200" y="35830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962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864640" y="35830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4152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95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779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460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9129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9810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0494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1174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1858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2524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3208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38924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4572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52568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5922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6606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7287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7971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8651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335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0001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0685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1366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2050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27340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3400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40840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4764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5448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6128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6798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7478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8162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8843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641520" y="2301840"/>
                <a:ext cx="8245440" cy="646200"/>
                <a:chOff x="641520" y="2301840"/>
                <a:chExt cx="8245440" cy="6462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9527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0193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0877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15612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2241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2925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3591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4275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4956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5640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6320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7004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7670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8354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90384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9718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04028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1068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17528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2433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3117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3797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4467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5147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5831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6512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196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7862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46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300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910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0594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1274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1944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2624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3308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3989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4673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5339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023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67072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7387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8071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8737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94216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0102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0786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1466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2136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2816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3500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41844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4864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5530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6214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68988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7579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8263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8943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9613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0293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0977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1658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2342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3008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3692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43760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5056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5740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64064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70904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7770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84548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9135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98048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04852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11692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18532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25336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319960" y="293688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38836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456760" y="293688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5248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59320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612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728200" y="293688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7962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864640" y="293688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152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095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779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460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9129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9810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0494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1174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1858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2524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3208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38924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4572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52568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5922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6606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7287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7971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8651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9335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0001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0685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1366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2050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27340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3400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40840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4764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5448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6128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6798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7478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8162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8843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9527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0193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0877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15612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241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2925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3591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4275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4956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5640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320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7004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7670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8354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90384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9718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04028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1068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17528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2433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797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4467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5147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5831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6512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7196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7862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8546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92300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9910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0594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1274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1944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2624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3308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3989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4673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5339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6023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67072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387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8071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8737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94216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0102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0786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1466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2136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2816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3500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1844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4864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5530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6214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668988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7579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8263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8943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9613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0293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0977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1658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2342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3008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3692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43760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5056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5740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64064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70904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7770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84548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9135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98048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804852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11692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18532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641520" y="1022400"/>
                <a:ext cx="8245440" cy="1290600"/>
                <a:chOff x="641520" y="1022400"/>
                <a:chExt cx="8245440" cy="129060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825336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319960" y="230184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38836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456760" y="23018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5248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59320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6612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28200" y="23018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962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864640" y="23018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4152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095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779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460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9129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9810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0494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1174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1858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2524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3208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38924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4572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52568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5922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6606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7287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7971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8651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9335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0001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0685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1366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2050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27340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3400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40840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4764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5448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6128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6798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7478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8162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8843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9527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0193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0877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15612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2241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2925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3591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4275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4956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5640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6320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7004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7670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8354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90384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9718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04028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068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528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2433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3117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3797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4467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5147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5831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6512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7196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7862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8546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92300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9910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0594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1274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1944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2624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3308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3989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4673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5339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6023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67072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7387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8071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8737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594216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0102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0786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61466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62136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2816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3500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41844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64864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5530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6214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68988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7579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8263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68943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9613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70293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70977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1658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2342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3008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73692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743760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5056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5740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64064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770904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7770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84548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9135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98048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04852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11692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18532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25336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319960" y="165744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38836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456760" y="165744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5248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59320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612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728200" y="165744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7962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864640" y="165744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4152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095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779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460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9129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9810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0494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11174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11858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2524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3208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38924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4572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52568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5922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6606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7287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7971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8651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335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0001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0685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1366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2050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27340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3400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40840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4764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5448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128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798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7478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8162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8843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527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30193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0877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15612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2241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2925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3591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4275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4956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5640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6320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37004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37670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38354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390384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9718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04028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1068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17528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2433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3117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3797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467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5147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5831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6512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7196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7862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8546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92300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9910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0594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1274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1944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969840" y="1022400"/>
                <a:ext cx="7917120" cy="4484520"/>
                <a:chOff x="969840" y="1022400"/>
                <a:chExt cx="7917120" cy="448452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2624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3308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3989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4673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55339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6023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67072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7387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8071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8737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94216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0102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60786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1466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2136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2816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3500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41844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4864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5530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6214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68988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7579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8263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8943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9613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0293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0977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1658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2342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3008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3692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43760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5056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5740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64064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70904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7770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84548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9135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98048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04852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11692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18532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25336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319960" y="1022400"/>
                  <a:ext cx="241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38836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456760" y="1022400"/>
                  <a:ext cx="219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5248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59320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6612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28200" y="1022400"/>
                  <a:ext cx="2376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962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864640" y="1022400"/>
                  <a:ext cx="22320" cy="1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434960" y="3887640"/>
                  <a:ext cx="33480" cy="1619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003320" y="5495760"/>
                  <a:ext cx="4651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506760" y="3254400"/>
                  <a:ext cx="34920" cy="225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065400" y="5495760"/>
                  <a:ext cx="476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568840" y="1203480"/>
                  <a:ext cx="33480" cy="4303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138640" y="5495760"/>
                  <a:ext cx="4636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629480" y="1940040"/>
                  <a:ext cx="34920" cy="356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199280" y="5495760"/>
                  <a:ext cx="4651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98640" y="3989520"/>
                  <a:ext cx="34920" cy="1517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457280" y="5495760"/>
                  <a:ext cx="476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960720" y="3468600"/>
                  <a:ext cx="33480" cy="2038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530520" y="5495760"/>
                  <a:ext cx="4636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032520" y="1940040"/>
                  <a:ext cx="34920" cy="356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591160" y="5495760"/>
                  <a:ext cx="476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094600" y="2449440"/>
                  <a:ext cx="33480" cy="3057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653240" y="5495760"/>
                  <a:ext cx="4748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352600" y="5427720"/>
                  <a:ext cx="33480" cy="79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20960" y="5495760"/>
                  <a:ext cx="4651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424400" y="5292720"/>
                  <a:ext cx="34920" cy="21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3983040" y="5495760"/>
                  <a:ext cx="476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486480" y="4782960"/>
                  <a:ext cx="33480" cy="72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056280" y="5495760"/>
                  <a:ext cx="4636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547120" y="5008680"/>
                  <a:ext cx="34920" cy="498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116920" y="5495760"/>
                  <a:ext cx="4651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969840" y="3854520"/>
                  <a:ext cx="452520" cy="1238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969840" y="3978360"/>
                  <a:ext cx="452520" cy="68040"/>
                </a:xfrm>
                <a:prstGeom prst="rect">
                  <a:avLst/>
                </a:prstGeom>
                <a:solidFill>
                  <a:srgbClr val="ffc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969840" y="4046400"/>
                  <a:ext cx="452520" cy="79560"/>
                </a:xfrm>
                <a:prstGeom prst="rect">
                  <a:avLst/>
                </a:prstGeom>
                <a:solidFill>
                  <a:srgbClr val="ffcf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969840" y="4125960"/>
                  <a:ext cx="452520" cy="57240"/>
                </a:xfrm>
                <a:prstGeom prst="rect">
                  <a:avLst/>
                </a:prstGeom>
                <a:solidFill>
                  <a:srgbClr val="ffd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969840" y="4183200"/>
                  <a:ext cx="452520" cy="4428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969840" y="4227480"/>
                  <a:ext cx="452520" cy="57240"/>
                </a:xfrm>
                <a:prstGeom prst="rect">
                  <a:avLst/>
                </a:prstGeom>
                <a:solidFill>
                  <a:srgbClr val="ffd3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969840" y="4284720"/>
                  <a:ext cx="452520" cy="4428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969840" y="4329000"/>
                  <a:ext cx="452520" cy="57240"/>
                </a:xfrm>
                <a:prstGeom prst="rect">
                  <a:avLst/>
                </a:prstGeom>
                <a:solidFill>
                  <a:srgbClr val="ffd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969840" y="4386240"/>
                  <a:ext cx="452520" cy="46080"/>
                </a:xfrm>
                <a:prstGeom prst="rect">
                  <a:avLst/>
                </a:prstGeom>
                <a:solidFill>
                  <a:srgbClr val="ff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969840" y="4432320"/>
                  <a:ext cx="452520" cy="22320"/>
                </a:xfrm>
                <a:prstGeom prst="rect">
                  <a:avLst/>
                </a:prstGeom>
                <a:solidFill>
                  <a:srgbClr val="ffdb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969840" y="4454640"/>
                  <a:ext cx="452520" cy="44280"/>
                </a:xfrm>
                <a:prstGeom prst="rect">
                  <a:avLst/>
                </a:prstGeom>
                <a:solidFill>
                  <a:srgbClr val="ffdd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969840" y="4498920"/>
                  <a:ext cx="452520" cy="34920"/>
                </a:xfrm>
                <a:prstGeom prst="rect">
                  <a:avLst/>
                </a:prstGeom>
                <a:solidFill>
                  <a:srgbClr val="ffd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969840" y="4533840"/>
                  <a:ext cx="452520" cy="22320"/>
                </a:xfrm>
                <a:prstGeom prst="rect">
                  <a:avLst/>
                </a:prstGeom>
                <a:solidFill>
                  <a:srgbClr val="ffe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969840" y="4556160"/>
                  <a:ext cx="452520" cy="33480"/>
                </a:xfrm>
                <a:prstGeom prst="rect">
                  <a:avLst/>
                </a:prstGeom>
                <a:solidFill>
                  <a:srgbClr val="ffe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969840" y="4589640"/>
                  <a:ext cx="452520" cy="23760"/>
                </a:xfrm>
                <a:prstGeom prst="rect">
                  <a:avLst/>
                </a:prstGeom>
                <a:solidFill>
                  <a:srgbClr val="ffe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969840" y="4613400"/>
                  <a:ext cx="452520" cy="44280"/>
                </a:xfrm>
                <a:prstGeom prst="rect">
                  <a:avLst/>
                </a:prstGeom>
                <a:solidFill>
                  <a:srgbClr val="ffe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69840" y="4657680"/>
                  <a:ext cx="452520" cy="34920"/>
                </a:xfrm>
                <a:prstGeom prst="rect">
                  <a:avLst/>
                </a:prstGeom>
                <a:solidFill>
                  <a:srgbClr val="ffe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969840" y="4692600"/>
                  <a:ext cx="452520" cy="44640"/>
                </a:xfrm>
                <a:prstGeom prst="rect">
                  <a:avLst/>
                </a:prstGeom>
                <a:solidFill>
                  <a:srgbClr val="ffe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969840" y="4737240"/>
                  <a:ext cx="452520" cy="3492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969840" y="4772160"/>
                  <a:ext cx="452520" cy="21960"/>
                </a:xfrm>
                <a:prstGeom prst="rect">
                  <a:avLst/>
                </a:prstGeom>
                <a:solidFill>
                  <a:srgbClr val="ffe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969840" y="4794120"/>
                  <a:ext cx="452520" cy="44640"/>
                </a:xfrm>
                <a:prstGeom prst="rect">
                  <a:avLst/>
                </a:prstGeom>
                <a:solidFill>
                  <a:srgbClr val="ffe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969840" y="4838760"/>
                  <a:ext cx="452520" cy="57240"/>
                </a:xfrm>
                <a:prstGeom prst="rect">
                  <a:avLst/>
                </a:prstGeom>
                <a:solidFill>
                  <a:srgbClr val="fff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969840" y="4896000"/>
                  <a:ext cx="452520" cy="45720"/>
                </a:xfrm>
                <a:prstGeom prst="rect">
                  <a:avLst/>
                </a:prstGeom>
                <a:solidFill>
                  <a:srgbClr val="fff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969840" y="4941720"/>
                  <a:ext cx="452520" cy="55800"/>
                </a:xfrm>
                <a:prstGeom prst="rect">
                  <a:avLst/>
                </a:prstGeom>
                <a:solidFill>
                  <a:srgbClr val="fff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969840" y="4997520"/>
                  <a:ext cx="452520" cy="46080"/>
                </a:xfrm>
                <a:prstGeom prst="rect">
                  <a:avLst/>
                </a:prstGeom>
                <a:solidFill>
                  <a:srgbClr val="fff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969840" y="5043600"/>
                  <a:ext cx="452520" cy="56880"/>
                </a:xfrm>
                <a:prstGeom prst="rect">
                  <a:avLst/>
                </a:prstGeom>
                <a:solidFill>
                  <a:srgbClr val="fff8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969840" y="5100480"/>
                  <a:ext cx="452520" cy="44640"/>
                </a:xfrm>
                <a:prstGeom prst="rect">
                  <a:avLst/>
                </a:prstGeom>
                <a:solidFill>
                  <a:srgbClr val="fff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969840" y="5145120"/>
                  <a:ext cx="452520" cy="101520"/>
                </a:xfrm>
                <a:prstGeom prst="rect">
                  <a:avLst/>
                </a:prstGeom>
                <a:solidFill>
                  <a:srgbClr val="fffb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969840" y="5246640"/>
                  <a:ext cx="452520" cy="79560"/>
                </a:xfrm>
                <a:prstGeom prst="rect">
                  <a:avLst/>
                </a:prstGeom>
                <a:solidFill>
                  <a:srgbClr val="fff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969840" y="5326200"/>
                  <a:ext cx="452520" cy="1476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981000" y="3865680"/>
                  <a:ext cx="453960" cy="1630080"/>
                </a:xfrm>
                <a:prstGeom prst="rect">
                  <a:avLst/>
                </a:prstGeom>
                <a:noFill/>
                <a:ln w="11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032280" y="3219480"/>
                  <a:ext cx="463320" cy="1699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032280" y="3389400"/>
                  <a:ext cx="463320" cy="101520"/>
                </a:xfrm>
                <a:prstGeom prst="rect">
                  <a:avLst/>
                </a:prstGeom>
                <a:solidFill>
                  <a:srgbClr val="ffc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032280" y="3490920"/>
                  <a:ext cx="463320" cy="103320"/>
                </a:xfrm>
                <a:prstGeom prst="rect">
                  <a:avLst/>
                </a:prstGeom>
                <a:solidFill>
                  <a:srgbClr val="ffcf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032280" y="3594240"/>
                  <a:ext cx="463320" cy="79200"/>
                </a:xfrm>
                <a:prstGeom prst="rect">
                  <a:avLst/>
                </a:prstGeom>
                <a:solidFill>
                  <a:srgbClr val="ffd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032280" y="3673440"/>
                  <a:ext cx="463320" cy="6660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3032280" y="3740040"/>
                  <a:ext cx="463320" cy="68400"/>
                </a:xfrm>
                <a:prstGeom prst="rect">
                  <a:avLst/>
                </a:prstGeom>
                <a:solidFill>
                  <a:srgbClr val="ffd3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3032280" y="3808440"/>
                  <a:ext cx="463320" cy="6840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3032280" y="3876840"/>
                  <a:ext cx="463320" cy="79200"/>
                </a:xfrm>
                <a:prstGeom prst="rect">
                  <a:avLst/>
                </a:prstGeom>
                <a:solidFill>
                  <a:srgbClr val="ffd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3032280" y="3956040"/>
                  <a:ext cx="463320" cy="57240"/>
                </a:xfrm>
                <a:prstGeom prst="rect">
                  <a:avLst/>
                </a:prstGeom>
                <a:solidFill>
                  <a:srgbClr val="ff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032280" y="4013280"/>
                  <a:ext cx="463320" cy="44280"/>
                </a:xfrm>
                <a:prstGeom prst="rect">
                  <a:avLst/>
                </a:prstGeom>
                <a:solidFill>
                  <a:srgbClr val="ffdb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032280" y="4057560"/>
                  <a:ext cx="463320" cy="57240"/>
                </a:xfrm>
                <a:prstGeom prst="rect">
                  <a:avLst/>
                </a:prstGeom>
                <a:solidFill>
                  <a:srgbClr val="ffdd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032280" y="4114800"/>
                  <a:ext cx="463320" cy="44280"/>
                </a:xfrm>
                <a:prstGeom prst="rect">
                  <a:avLst/>
                </a:prstGeom>
                <a:solidFill>
                  <a:srgbClr val="ffd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3032280" y="4159080"/>
                  <a:ext cx="463320" cy="34920"/>
                </a:xfrm>
                <a:prstGeom prst="rect">
                  <a:avLst/>
                </a:prstGeom>
                <a:solidFill>
                  <a:srgbClr val="ffe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032280" y="4194000"/>
                  <a:ext cx="463320" cy="44640"/>
                </a:xfrm>
                <a:prstGeom prst="rect">
                  <a:avLst/>
                </a:prstGeom>
                <a:solidFill>
                  <a:srgbClr val="ffe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032280" y="4238640"/>
                  <a:ext cx="463320" cy="34920"/>
                </a:xfrm>
                <a:prstGeom prst="rect">
                  <a:avLst/>
                </a:prstGeom>
                <a:solidFill>
                  <a:srgbClr val="ffe3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032280" y="4273560"/>
                  <a:ext cx="463320" cy="68400"/>
                </a:xfrm>
                <a:prstGeom prst="rect">
                  <a:avLst/>
                </a:prstGeom>
                <a:solidFill>
                  <a:srgbClr val="ffe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3032280" y="4341960"/>
                  <a:ext cx="463320" cy="44280"/>
                </a:xfrm>
                <a:prstGeom prst="rect">
                  <a:avLst/>
                </a:prstGeom>
                <a:solidFill>
                  <a:srgbClr val="ffe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032280" y="4386240"/>
                  <a:ext cx="463320" cy="57240"/>
                </a:xfrm>
                <a:prstGeom prst="rect">
                  <a:avLst/>
                </a:prstGeom>
                <a:solidFill>
                  <a:srgbClr val="ffe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032280" y="4443480"/>
                  <a:ext cx="463320" cy="4428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032280" y="4487760"/>
                  <a:ext cx="463320" cy="34920"/>
                </a:xfrm>
                <a:prstGeom prst="rect">
                  <a:avLst/>
                </a:prstGeom>
                <a:solidFill>
                  <a:srgbClr val="ffec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032280" y="4522680"/>
                  <a:ext cx="463320" cy="66960"/>
                </a:xfrm>
                <a:prstGeom prst="rect">
                  <a:avLst/>
                </a:prstGeom>
                <a:solidFill>
                  <a:srgbClr val="ffe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3032280" y="4589640"/>
                  <a:ext cx="463320" cy="68040"/>
                </a:xfrm>
                <a:prstGeom prst="rect">
                  <a:avLst/>
                </a:prstGeom>
                <a:solidFill>
                  <a:srgbClr val="fff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3032280" y="4657680"/>
                  <a:ext cx="463320" cy="68400"/>
                </a:xfrm>
                <a:prstGeom prst="rect">
                  <a:avLst/>
                </a:prstGeom>
                <a:solidFill>
                  <a:srgbClr val="fff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3032280" y="4726080"/>
                  <a:ext cx="463320" cy="79200"/>
                </a:xfrm>
                <a:prstGeom prst="rect">
                  <a:avLst/>
                </a:prstGeom>
                <a:solidFill>
                  <a:srgbClr val="fff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3032280" y="4805280"/>
                  <a:ext cx="463320" cy="68400"/>
                </a:xfrm>
                <a:prstGeom prst="rect">
                  <a:avLst/>
                </a:prstGeom>
                <a:solidFill>
                  <a:srgbClr val="fff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032280" y="4873680"/>
                  <a:ext cx="463320" cy="68040"/>
                </a:xfrm>
                <a:prstGeom prst="rect">
                  <a:avLst/>
                </a:prstGeom>
                <a:solidFill>
                  <a:srgbClr val="fff8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032280" y="4941720"/>
                  <a:ext cx="463320" cy="66960"/>
                </a:xfrm>
                <a:prstGeom prst="rect">
                  <a:avLst/>
                </a:prstGeom>
                <a:solidFill>
                  <a:srgbClr val="fff9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3032280" y="5008680"/>
                  <a:ext cx="463320" cy="147600"/>
                </a:xfrm>
                <a:prstGeom prst="rect">
                  <a:avLst/>
                </a:prstGeom>
                <a:solidFill>
                  <a:srgbClr val="fffb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032280" y="5156280"/>
                  <a:ext cx="463320" cy="101520"/>
                </a:xfrm>
                <a:prstGeom prst="rect">
                  <a:avLst/>
                </a:prstGeom>
                <a:solidFill>
                  <a:srgbClr val="fff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032280" y="5257800"/>
                  <a:ext cx="463320" cy="2160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3043080" y="3230640"/>
                  <a:ext cx="463680" cy="2265120"/>
                </a:xfrm>
                <a:prstGeom prst="rect">
                  <a:avLst/>
                </a:prstGeom>
                <a:noFill/>
                <a:ln w="11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103720" y="1170000"/>
                  <a:ext cx="453960" cy="3175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103720" y="1487520"/>
                  <a:ext cx="453960" cy="203040"/>
                </a:xfrm>
                <a:prstGeom prst="rect">
                  <a:avLst/>
                </a:prstGeom>
                <a:solidFill>
                  <a:srgbClr val="ffc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5103720" y="1690560"/>
                  <a:ext cx="453960" cy="181080"/>
                </a:xfrm>
                <a:prstGeom prst="rect">
                  <a:avLst/>
                </a:prstGeom>
                <a:solidFill>
                  <a:srgbClr val="ffcf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103720" y="1871640"/>
                  <a:ext cx="453960" cy="158760"/>
                </a:xfrm>
                <a:prstGeom prst="rect">
                  <a:avLst/>
                </a:prstGeom>
                <a:solidFill>
                  <a:srgbClr val="ffd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5103720" y="2030400"/>
                  <a:ext cx="453960" cy="11268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103720" y="2143080"/>
                  <a:ext cx="453960" cy="136440"/>
                </a:xfrm>
                <a:prstGeom prst="rect">
                  <a:avLst/>
                </a:prstGeom>
                <a:solidFill>
                  <a:srgbClr val="ffd3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103720" y="2279520"/>
                  <a:ext cx="453960" cy="13680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103720" y="2416320"/>
                  <a:ext cx="453960" cy="134640"/>
                </a:xfrm>
                <a:prstGeom prst="rect">
                  <a:avLst/>
                </a:prstGeom>
                <a:solidFill>
                  <a:srgbClr val="ffd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103720" y="2550960"/>
                  <a:ext cx="453960" cy="114480"/>
                </a:xfrm>
                <a:prstGeom prst="rect">
                  <a:avLst/>
                </a:prstGeom>
                <a:solidFill>
                  <a:srgbClr val="ff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103720" y="2665440"/>
                  <a:ext cx="453960" cy="101520"/>
                </a:xfrm>
                <a:prstGeom prst="rect">
                  <a:avLst/>
                </a:prstGeom>
                <a:solidFill>
                  <a:srgbClr val="ffdb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5103720" y="2766960"/>
                  <a:ext cx="453960" cy="101520"/>
                </a:xfrm>
                <a:prstGeom prst="rect">
                  <a:avLst/>
                </a:prstGeom>
                <a:solidFill>
                  <a:srgbClr val="ffdd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5103720" y="2868480"/>
                  <a:ext cx="453960" cy="68400"/>
                </a:xfrm>
                <a:prstGeom prst="rect">
                  <a:avLst/>
                </a:prstGeom>
                <a:solidFill>
                  <a:srgbClr val="ffd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103720" y="2936880"/>
                  <a:ext cx="453960" cy="79200"/>
                </a:xfrm>
                <a:prstGeom prst="rect">
                  <a:avLst/>
                </a:prstGeom>
                <a:solidFill>
                  <a:srgbClr val="ffe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103720" y="3016080"/>
                  <a:ext cx="453960" cy="68400"/>
                </a:xfrm>
                <a:prstGeom prst="rect">
                  <a:avLst/>
                </a:prstGeom>
                <a:solidFill>
                  <a:srgbClr val="ffe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103720" y="3084480"/>
                  <a:ext cx="453960" cy="90360"/>
                </a:xfrm>
                <a:prstGeom prst="rect">
                  <a:avLst/>
                </a:prstGeom>
                <a:solidFill>
                  <a:srgbClr val="ffe3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103720" y="3174840"/>
                  <a:ext cx="453960" cy="66960"/>
                </a:xfrm>
                <a:prstGeom prst="rect">
                  <a:avLst/>
                </a:prstGeom>
                <a:solidFill>
                  <a:srgbClr val="ffe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103720" y="3241800"/>
                  <a:ext cx="453960" cy="102960"/>
                </a:xfrm>
                <a:prstGeom prst="rect">
                  <a:avLst/>
                </a:prstGeom>
                <a:solidFill>
                  <a:srgbClr val="ffe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103720" y="3344760"/>
                  <a:ext cx="453960" cy="101880"/>
                </a:xfrm>
                <a:prstGeom prst="rect">
                  <a:avLst/>
                </a:prstGeom>
                <a:solidFill>
                  <a:srgbClr val="ffe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103720" y="3446640"/>
                  <a:ext cx="453960" cy="101520"/>
                </a:xfrm>
                <a:prstGeom prst="rect">
                  <a:avLst/>
                </a:prstGeom>
                <a:solidFill>
                  <a:srgbClr val="ffea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103720" y="3548160"/>
                  <a:ext cx="453960" cy="68040"/>
                </a:xfrm>
                <a:prstGeom prst="rect">
                  <a:avLst/>
                </a:prstGeom>
                <a:solidFill>
                  <a:srgbClr val="ffe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5103720" y="3616200"/>
                  <a:ext cx="453960" cy="90720"/>
                </a:xfrm>
                <a:prstGeom prst="rect">
                  <a:avLst/>
                </a:prstGeom>
                <a:solidFill>
                  <a:srgbClr val="ffe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103720" y="3706920"/>
                  <a:ext cx="453960" cy="68040"/>
                </a:xfrm>
                <a:prstGeom prst="rect">
                  <a:avLst/>
                </a:prstGeom>
                <a:solidFill>
                  <a:srgbClr val="ffe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5103720" y="3774960"/>
                  <a:ext cx="453960" cy="123840"/>
                </a:xfrm>
                <a:prstGeom prst="rect">
                  <a:avLst/>
                </a:prstGeom>
                <a:solidFill>
                  <a:srgbClr val="fff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103720" y="3898800"/>
                  <a:ext cx="453960" cy="136800"/>
                </a:xfrm>
                <a:prstGeom prst="rect">
                  <a:avLst/>
                </a:prstGeom>
                <a:solidFill>
                  <a:srgbClr val="fff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103720" y="4035600"/>
                  <a:ext cx="453960" cy="134640"/>
                </a:xfrm>
                <a:prstGeom prst="rect">
                  <a:avLst/>
                </a:prstGeom>
                <a:solidFill>
                  <a:srgbClr val="fff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5103720" y="4170240"/>
                  <a:ext cx="453960" cy="103320"/>
                </a:xfrm>
                <a:prstGeom prst="rect">
                  <a:avLst/>
                </a:prstGeom>
                <a:solidFill>
                  <a:srgbClr val="fff6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103720" y="4273560"/>
                  <a:ext cx="453960" cy="146160"/>
                </a:xfrm>
                <a:prstGeom prst="rect">
                  <a:avLst/>
                </a:prstGeom>
                <a:solidFill>
                  <a:srgbClr val="fff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103720" y="4419720"/>
                  <a:ext cx="453960" cy="147600"/>
                </a:xfrm>
                <a:prstGeom prst="rect">
                  <a:avLst/>
                </a:prstGeom>
                <a:solidFill>
                  <a:srgbClr val="fff9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5103720" y="4567320"/>
                  <a:ext cx="453960" cy="169920"/>
                </a:xfrm>
                <a:prstGeom prst="rect">
                  <a:avLst/>
                </a:prstGeom>
                <a:solidFill>
                  <a:srgbClr val="fff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103720" y="4737240"/>
                  <a:ext cx="453960" cy="306360"/>
                </a:xfrm>
                <a:prstGeom prst="rect">
                  <a:avLst/>
                </a:prstGeom>
                <a:solidFill>
                  <a:srgbClr val="fffc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103720" y="5043600"/>
                  <a:ext cx="453960" cy="271440"/>
                </a:xfrm>
                <a:prstGeom prst="rect">
                  <a:avLst/>
                </a:prstGeom>
                <a:solidFill>
                  <a:srgbClr val="fff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103720" y="5315040"/>
                  <a:ext cx="453960" cy="1587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114880" y="1181160"/>
                  <a:ext cx="453960" cy="4314600"/>
                </a:xfrm>
                <a:prstGeom prst="rect">
                  <a:avLst/>
                </a:prstGeom>
                <a:noFill/>
                <a:ln w="11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165800" y="1906560"/>
                  <a:ext cx="452520" cy="26028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165800" y="2166840"/>
                  <a:ext cx="452520" cy="169920"/>
                </a:xfrm>
                <a:prstGeom prst="rect">
                  <a:avLst/>
                </a:prstGeom>
                <a:solidFill>
                  <a:srgbClr val="ffc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165800" y="2336760"/>
                  <a:ext cx="452520" cy="158760"/>
                </a:xfrm>
                <a:prstGeom prst="rect">
                  <a:avLst/>
                </a:prstGeom>
                <a:solidFill>
                  <a:srgbClr val="ffcf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165800" y="2495520"/>
                  <a:ext cx="452520" cy="123840"/>
                </a:xfrm>
                <a:prstGeom prst="rect">
                  <a:avLst/>
                </a:prstGeom>
                <a:solidFill>
                  <a:srgbClr val="ffd0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165800" y="2619360"/>
                  <a:ext cx="452520" cy="9036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165800" y="2709720"/>
                  <a:ext cx="452520" cy="114480"/>
                </a:xfrm>
                <a:prstGeom prst="rect">
                  <a:avLst/>
                </a:prstGeom>
                <a:solidFill>
                  <a:srgbClr val="ffd3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165800" y="2824200"/>
                  <a:ext cx="452520" cy="11268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165800" y="2936880"/>
                  <a:ext cx="452520" cy="112680"/>
                </a:xfrm>
                <a:prstGeom prst="rect">
                  <a:avLst/>
                </a:prstGeom>
                <a:solidFill>
                  <a:srgbClr val="ffd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165800" y="3049560"/>
                  <a:ext cx="452520" cy="101520"/>
                </a:xfrm>
                <a:prstGeom prst="rect">
                  <a:avLst/>
                </a:prstGeom>
                <a:solidFill>
                  <a:srgbClr val="ff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165800" y="3151080"/>
                  <a:ext cx="452520" cy="79560"/>
                </a:xfrm>
                <a:prstGeom prst="rect">
                  <a:avLst/>
                </a:prstGeom>
                <a:solidFill>
                  <a:srgbClr val="ffdb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165800" y="3230640"/>
                  <a:ext cx="452520" cy="90360"/>
                </a:xfrm>
                <a:prstGeom prst="rect">
                  <a:avLst/>
                </a:prstGeom>
                <a:solidFill>
                  <a:srgbClr val="ffdd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165800" y="3321000"/>
                  <a:ext cx="452520" cy="46080"/>
                </a:xfrm>
                <a:prstGeom prst="rect">
                  <a:avLst/>
                </a:prstGeom>
                <a:solidFill>
                  <a:srgbClr val="ffd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165800" y="3367080"/>
                  <a:ext cx="452520" cy="79560"/>
                </a:xfrm>
                <a:prstGeom prst="rect">
                  <a:avLst/>
                </a:prstGeom>
                <a:solidFill>
                  <a:srgbClr val="ffe0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165800" y="3446640"/>
                  <a:ext cx="452520" cy="56880"/>
                </a:xfrm>
                <a:prstGeom prst="rect">
                  <a:avLst/>
                </a:prstGeom>
                <a:solidFill>
                  <a:srgbClr val="ffe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165800" y="3503520"/>
                  <a:ext cx="452520" cy="66600"/>
                </a:xfrm>
                <a:prstGeom prst="rect">
                  <a:avLst/>
                </a:prstGeom>
                <a:solidFill>
                  <a:srgbClr val="ffe3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165800" y="3570120"/>
                  <a:ext cx="452520" cy="57240"/>
                </a:xfrm>
                <a:prstGeom prst="rect">
                  <a:avLst/>
                </a:prstGeom>
                <a:solidFill>
                  <a:srgbClr val="ffe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165800" y="3627360"/>
                  <a:ext cx="452520" cy="79560"/>
                </a:xfrm>
                <a:prstGeom prst="rect">
                  <a:avLst/>
                </a:prstGeom>
                <a:solidFill>
                  <a:srgbClr val="ffe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165800" y="3706920"/>
                  <a:ext cx="452520" cy="90360"/>
                </a:xfrm>
                <a:prstGeom prst="rect">
                  <a:avLst/>
                </a:prstGeom>
                <a:solidFill>
                  <a:srgbClr val="ffe8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165800" y="3797280"/>
                  <a:ext cx="452520" cy="79560"/>
                </a:xfrm>
                <a:prstGeom prst="rect">
                  <a:avLst/>
                </a:prstGeom>
                <a:solidFill>
                  <a:srgbClr val="ffea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165800" y="3876840"/>
                  <a:ext cx="452520" cy="56880"/>
                </a:xfrm>
                <a:prstGeom prst="rect">
                  <a:avLst/>
                </a:prstGeom>
                <a:solidFill>
                  <a:srgbClr val="ffeb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165800" y="3933720"/>
                  <a:ext cx="452520" cy="79560"/>
                </a:xfrm>
                <a:prstGeom prst="rect">
                  <a:avLst/>
                </a:prstGeom>
                <a:solidFill>
                  <a:srgbClr val="ffe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165800" y="4013280"/>
                  <a:ext cx="452520" cy="55440"/>
                </a:xfrm>
                <a:prstGeom prst="rect">
                  <a:avLst/>
                </a:prstGeom>
                <a:solidFill>
                  <a:srgbClr val="ffee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165800" y="4068720"/>
                  <a:ext cx="452520" cy="101520"/>
                </a:xfrm>
                <a:prstGeom prst="rect">
                  <a:avLst/>
                </a:prstGeom>
                <a:solidFill>
                  <a:srgbClr val="fff0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165800" y="4170240"/>
                  <a:ext cx="452520" cy="114480"/>
                </a:xfrm>
                <a:prstGeom prst="rect">
                  <a:avLst/>
                </a:prstGeom>
                <a:solidFill>
                  <a:srgbClr val="fff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165800" y="4284720"/>
                  <a:ext cx="452520" cy="112680"/>
                </a:xfrm>
                <a:prstGeom prst="rect">
                  <a:avLst/>
                </a:prstGeom>
                <a:solidFill>
                  <a:srgbClr val="fff4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165800" y="4397400"/>
                  <a:ext cx="452520" cy="79200"/>
                </a:xfrm>
                <a:prstGeom prst="rect">
                  <a:avLst/>
                </a:prstGeom>
                <a:solidFill>
                  <a:srgbClr val="fff6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165800" y="4476600"/>
                  <a:ext cx="452520" cy="125640"/>
                </a:xfrm>
                <a:prstGeom prst="rect">
                  <a:avLst/>
                </a:prstGeom>
                <a:solidFill>
                  <a:srgbClr val="fff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1422360" y="1906560"/>
                <a:ext cx="6207120" cy="3589200"/>
                <a:chOff x="1422360" y="1906560"/>
                <a:chExt cx="6207120" cy="358920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7165800" y="4602240"/>
                  <a:ext cx="452520" cy="123840"/>
                </a:xfrm>
                <a:prstGeom prst="rect">
                  <a:avLst/>
                </a:prstGeom>
                <a:solidFill>
                  <a:srgbClr val="fff9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165800" y="4726080"/>
                  <a:ext cx="452520" cy="147600"/>
                </a:xfrm>
                <a:prstGeom prst="rect">
                  <a:avLst/>
                </a:prstGeom>
                <a:solidFill>
                  <a:srgbClr val="fff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165800" y="4873680"/>
                  <a:ext cx="452520" cy="249120"/>
                </a:xfrm>
                <a:prstGeom prst="rect">
                  <a:avLst/>
                </a:prstGeom>
                <a:solidFill>
                  <a:srgbClr val="fffc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7165800" y="5122800"/>
                  <a:ext cx="452520" cy="225360"/>
                </a:xfrm>
                <a:prstGeom prst="rect">
                  <a:avLst/>
                </a:prstGeom>
                <a:solidFill>
                  <a:srgbClr val="fff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165800" y="5348160"/>
                  <a:ext cx="452520" cy="125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7176960" y="1917720"/>
                  <a:ext cx="452520" cy="3578040"/>
                </a:xfrm>
                <a:prstGeom prst="rect">
                  <a:avLst/>
                </a:prstGeom>
                <a:noFill/>
                <a:ln w="11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422360" y="3956040"/>
                  <a:ext cx="465120" cy="111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422360" y="3967200"/>
                  <a:ext cx="465120" cy="11160"/>
                </a:xfrm>
                <a:prstGeom prst="rect">
                  <a:avLst/>
                </a:prstGeom>
                <a:solidFill>
                  <a:srgbClr val="ff66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422360" y="3978360"/>
                  <a:ext cx="465120" cy="11160"/>
                </a:xfrm>
                <a:prstGeom prst="rect">
                  <a:avLst/>
                </a:prstGeom>
                <a:solidFill>
                  <a:srgbClr val="ff66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422360" y="3989520"/>
                  <a:ext cx="465120" cy="11160"/>
                </a:xfrm>
                <a:prstGeom prst="rect">
                  <a:avLst/>
                </a:prstGeom>
                <a:solidFill>
                  <a:srgbClr val="ff66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422360" y="4000680"/>
                  <a:ext cx="465120" cy="12600"/>
                </a:xfrm>
                <a:prstGeom prst="rect">
                  <a:avLst/>
                </a:prstGeom>
                <a:solidFill>
                  <a:srgbClr val="ff67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422360" y="4013280"/>
                  <a:ext cx="465120" cy="11160"/>
                </a:xfrm>
                <a:prstGeom prst="rect">
                  <a:avLst/>
                </a:prstGeom>
                <a:solidFill>
                  <a:srgbClr val="ff67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1422360" y="4024440"/>
                  <a:ext cx="465120" cy="11160"/>
                </a:xfrm>
                <a:prstGeom prst="rect">
                  <a:avLst/>
                </a:prstGeom>
                <a:solidFill>
                  <a:srgbClr val="ff67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1422360" y="4035600"/>
                  <a:ext cx="465120" cy="10800"/>
                </a:xfrm>
                <a:prstGeom prst="rect">
                  <a:avLst/>
                </a:prstGeom>
                <a:solidFill>
                  <a:srgbClr val="ff67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1422360" y="4046400"/>
                  <a:ext cx="465120" cy="11160"/>
                </a:xfrm>
                <a:prstGeom prst="rect">
                  <a:avLst/>
                </a:prstGeom>
                <a:solidFill>
                  <a:srgbClr val="ff6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1422360" y="4057560"/>
                  <a:ext cx="465120" cy="11160"/>
                </a:xfrm>
                <a:prstGeom prst="rect">
                  <a:avLst/>
                </a:prstGeom>
                <a:solidFill>
                  <a:srgbClr val="ff67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1422360" y="4068720"/>
                  <a:ext cx="465120" cy="11160"/>
                </a:xfrm>
                <a:prstGeom prst="rect">
                  <a:avLst/>
                </a:prstGeom>
                <a:solidFill>
                  <a:srgbClr val="ff68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422360" y="4079880"/>
                  <a:ext cx="465120" cy="12600"/>
                </a:xfrm>
                <a:prstGeom prst="rect">
                  <a:avLst/>
                </a:prstGeom>
                <a:solidFill>
                  <a:srgbClr val="ff68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422360" y="4092480"/>
                  <a:ext cx="465120" cy="11160"/>
                </a:xfrm>
                <a:prstGeom prst="rect">
                  <a:avLst/>
                </a:prstGeom>
                <a:solidFill>
                  <a:srgbClr val="ff6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1422360" y="4103640"/>
                  <a:ext cx="465120" cy="11160"/>
                </a:xfrm>
                <a:prstGeom prst="rect">
                  <a:avLst/>
                </a:prstGeom>
                <a:solidFill>
                  <a:srgbClr val="ff68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1422360" y="4114800"/>
                  <a:ext cx="465120" cy="22320"/>
                </a:xfrm>
                <a:prstGeom prst="rect">
                  <a:avLst/>
                </a:prstGeom>
                <a:solidFill>
                  <a:srgbClr val="ff6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1422360" y="4137120"/>
                  <a:ext cx="465120" cy="11160"/>
                </a:xfrm>
                <a:prstGeom prst="rect">
                  <a:avLst/>
                </a:prstGeom>
                <a:solidFill>
                  <a:srgbClr val="ff6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1422360" y="4148280"/>
                  <a:ext cx="465120" cy="10800"/>
                </a:xfrm>
                <a:prstGeom prst="rect">
                  <a:avLst/>
                </a:prstGeom>
                <a:solidFill>
                  <a:srgbClr val="ff6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1422360" y="4159080"/>
                  <a:ext cx="465120" cy="11160"/>
                </a:xfrm>
                <a:prstGeom prst="rect">
                  <a:avLst/>
                </a:prstGeom>
                <a:solidFill>
                  <a:srgbClr val="ff6a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1422360" y="4170240"/>
                  <a:ext cx="465120" cy="12960"/>
                </a:xfrm>
                <a:prstGeom prst="rect">
                  <a:avLst/>
                </a:prstGeom>
                <a:solidFill>
                  <a:srgbClr val="ff6a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1422360" y="4183200"/>
                  <a:ext cx="465120" cy="10800"/>
                </a:xfrm>
                <a:prstGeom prst="rect">
                  <a:avLst/>
                </a:prstGeom>
                <a:solidFill>
                  <a:srgbClr val="ff6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1422360" y="4194000"/>
                  <a:ext cx="465120" cy="11160"/>
                </a:xfrm>
                <a:prstGeom prst="rect">
                  <a:avLst/>
                </a:prstGeom>
                <a:solidFill>
                  <a:srgbClr val="ff6a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1422360" y="4205160"/>
                  <a:ext cx="465120" cy="11160"/>
                </a:xfrm>
                <a:prstGeom prst="rect">
                  <a:avLst/>
                </a:prstGeom>
                <a:solidFill>
                  <a:srgbClr val="ff6a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1422360" y="4216320"/>
                  <a:ext cx="465120" cy="11160"/>
                </a:xfrm>
                <a:prstGeom prst="rect">
                  <a:avLst/>
                </a:prstGeom>
                <a:solidFill>
                  <a:srgbClr val="ff6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1422360" y="4227480"/>
                  <a:ext cx="465120" cy="22320"/>
                </a:xfrm>
                <a:prstGeom prst="rect">
                  <a:avLst/>
                </a:prstGeom>
                <a:solidFill>
                  <a:srgbClr val="ff6b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1422360" y="4249800"/>
                  <a:ext cx="465120" cy="12600"/>
                </a:xfrm>
                <a:prstGeom prst="rect">
                  <a:avLst/>
                </a:prstGeom>
                <a:solidFill>
                  <a:srgbClr val="ff6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1422360" y="4262400"/>
                  <a:ext cx="465120" cy="11160"/>
                </a:xfrm>
                <a:prstGeom prst="rect">
                  <a:avLst/>
                </a:prstGeom>
                <a:solidFill>
                  <a:srgbClr val="ff6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1422360" y="4273560"/>
                  <a:ext cx="465120" cy="11160"/>
                </a:xfrm>
                <a:prstGeom prst="rect">
                  <a:avLst/>
                </a:prstGeom>
                <a:solidFill>
                  <a:srgbClr val="ff6c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422360" y="4284720"/>
                  <a:ext cx="465120" cy="11160"/>
                </a:xfrm>
                <a:prstGeom prst="rect">
                  <a:avLst/>
                </a:prstGeom>
                <a:solidFill>
                  <a:srgbClr val="ff6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1422360" y="4295880"/>
                  <a:ext cx="465120" cy="11160"/>
                </a:xfrm>
                <a:prstGeom prst="rect">
                  <a:avLst/>
                </a:prstGeom>
                <a:solidFill>
                  <a:srgbClr val="ff6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1422360" y="4307040"/>
                  <a:ext cx="465120" cy="10800"/>
                </a:xfrm>
                <a:prstGeom prst="rect">
                  <a:avLst/>
                </a:prstGeom>
                <a:solidFill>
                  <a:srgbClr val="ff6e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1422360" y="4317840"/>
                  <a:ext cx="465120" cy="11160"/>
                </a:xfrm>
                <a:prstGeom prst="rect">
                  <a:avLst/>
                </a:prstGeom>
                <a:solidFill>
                  <a:srgbClr val="ff6e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1422360" y="4329000"/>
                  <a:ext cx="465120" cy="23760"/>
                </a:xfrm>
                <a:prstGeom prst="rect">
                  <a:avLst/>
                </a:prstGeom>
                <a:solidFill>
                  <a:srgbClr val="ff6f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1422360" y="4352760"/>
                  <a:ext cx="465120" cy="11160"/>
                </a:xfrm>
                <a:prstGeom prst="rect">
                  <a:avLst/>
                </a:prstGeom>
                <a:solidFill>
                  <a:srgbClr val="ff70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1422360" y="4363920"/>
                  <a:ext cx="465120" cy="11160"/>
                </a:xfrm>
                <a:prstGeom prst="rect">
                  <a:avLst/>
                </a:prstGeom>
                <a:solidFill>
                  <a:srgbClr val="ff70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1422360" y="4375080"/>
                  <a:ext cx="465120" cy="11160"/>
                </a:xfrm>
                <a:prstGeom prst="rect">
                  <a:avLst/>
                </a:prstGeom>
                <a:solidFill>
                  <a:srgbClr val="ff71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1422360" y="4386240"/>
                  <a:ext cx="465120" cy="11160"/>
                </a:xfrm>
                <a:prstGeom prst="rect">
                  <a:avLst/>
                </a:prstGeom>
                <a:solidFill>
                  <a:srgbClr val="ff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1422360" y="4397400"/>
                  <a:ext cx="465120" cy="11160"/>
                </a:xfrm>
                <a:prstGeom prst="rect">
                  <a:avLst/>
                </a:prstGeom>
                <a:solidFill>
                  <a:srgbClr val="ff71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422360" y="4408560"/>
                  <a:ext cx="465120" cy="11160"/>
                </a:xfrm>
                <a:prstGeom prst="rect">
                  <a:avLst/>
                </a:prstGeom>
                <a:solidFill>
                  <a:srgbClr val="ff72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1422360" y="4419720"/>
                  <a:ext cx="465120" cy="12600"/>
                </a:xfrm>
                <a:prstGeom prst="rect">
                  <a:avLst/>
                </a:prstGeom>
                <a:solidFill>
                  <a:srgbClr val="ff72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422360" y="4432320"/>
                  <a:ext cx="465120" cy="11160"/>
                </a:xfrm>
                <a:prstGeom prst="rect">
                  <a:avLst/>
                </a:prstGeom>
                <a:solidFill>
                  <a:srgbClr val="ff73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1422360" y="4443480"/>
                  <a:ext cx="465120" cy="22320"/>
                </a:xfrm>
                <a:prstGeom prst="rect">
                  <a:avLst/>
                </a:prstGeom>
                <a:solidFill>
                  <a:srgbClr val="ff7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1422360" y="4465800"/>
                  <a:ext cx="465120" cy="10800"/>
                </a:xfrm>
                <a:prstGeom prst="rect">
                  <a:avLst/>
                </a:prstGeom>
                <a:solidFill>
                  <a:srgbClr val="ff7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422360" y="4476600"/>
                  <a:ext cx="465120" cy="11160"/>
                </a:xfrm>
                <a:prstGeom prst="rect">
                  <a:avLst/>
                </a:prstGeom>
                <a:solidFill>
                  <a:srgbClr val="ff75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422360" y="4487760"/>
                  <a:ext cx="465120" cy="11160"/>
                </a:xfrm>
                <a:prstGeom prst="rect">
                  <a:avLst/>
                </a:prstGeom>
                <a:solidFill>
                  <a:srgbClr val="ff76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1422360" y="4498920"/>
                  <a:ext cx="465120" cy="12600"/>
                </a:xfrm>
                <a:prstGeom prst="rect">
                  <a:avLst/>
                </a:prstGeom>
                <a:solidFill>
                  <a:srgbClr val="ff77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1422360" y="4511520"/>
                  <a:ext cx="465120" cy="11160"/>
                </a:xfrm>
                <a:prstGeom prst="rect">
                  <a:avLst/>
                </a:prstGeom>
                <a:solidFill>
                  <a:srgbClr val="ff7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1422360" y="4522680"/>
                  <a:ext cx="465120" cy="11160"/>
                </a:xfrm>
                <a:prstGeom prst="rect">
                  <a:avLst/>
                </a:prstGeom>
                <a:solidFill>
                  <a:srgbClr val="ff7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1422360" y="4533840"/>
                  <a:ext cx="465120" cy="11160"/>
                </a:xfrm>
                <a:prstGeom prst="rect">
                  <a:avLst/>
                </a:prstGeom>
                <a:solidFill>
                  <a:srgbClr val="ff78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1422360" y="4545000"/>
                  <a:ext cx="465120" cy="11160"/>
                </a:xfrm>
                <a:prstGeom prst="rect">
                  <a:avLst/>
                </a:prstGeom>
                <a:solidFill>
                  <a:srgbClr val="ff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1422360" y="4556160"/>
                  <a:ext cx="465120" cy="22320"/>
                </a:xfrm>
                <a:prstGeom prst="rect">
                  <a:avLst/>
                </a:prstGeom>
                <a:solidFill>
                  <a:srgbClr val="ff7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422360" y="4578480"/>
                  <a:ext cx="465120" cy="11160"/>
                </a:xfrm>
                <a:prstGeom prst="rect">
                  <a:avLst/>
                </a:prstGeom>
                <a:solidFill>
                  <a:srgbClr val="ff7b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1422360" y="4589640"/>
                  <a:ext cx="465120" cy="126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1422360" y="4602240"/>
                  <a:ext cx="465120" cy="11160"/>
                </a:xfrm>
                <a:prstGeom prst="rect">
                  <a:avLst/>
                </a:prstGeom>
                <a:solidFill>
                  <a:srgbClr val="ff7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1422360" y="4613400"/>
                  <a:ext cx="465120" cy="11160"/>
                </a:xfrm>
                <a:prstGeom prst="rect">
                  <a:avLst/>
                </a:prstGeom>
                <a:solidFill>
                  <a:srgbClr val="ff7c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1422360" y="4624560"/>
                  <a:ext cx="465120" cy="10800"/>
                </a:xfrm>
                <a:prstGeom prst="rect">
                  <a:avLst/>
                </a:prstGeom>
                <a:solidFill>
                  <a:srgbClr val="ff7d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1422360" y="4635360"/>
                  <a:ext cx="465120" cy="11160"/>
                </a:xfrm>
                <a:prstGeom prst="rect">
                  <a:avLst/>
                </a:prstGeom>
                <a:solidFill>
                  <a:srgbClr val="ff7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1422360" y="4646520"/>
                  <a:ext cx="465120" cy="11160"/>
                </a:xfrm>
                <a:prstGeom prst="rect">
                  <a:avLst/>
                </a:prstGeom>
                <a:solidFill>
                  <a:srgbClr val="ff7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422360" y="4657680"/>
                  <a:ext cx="465120" cy="23760"/>
                </a:xfrm>
                <a:prstGeom prst="rect">
                  <a:avLst/>
                </a:prstGeom>
                <a:solidFill>
                  <a:srgbClr val="ff7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1422360" y="4681440"/>
                  <a:ext cx="465120" cy="22320"/>
                </a:xfrm>
                <a:prstGeom prst="rect">
                  <a:avLst/>
                </a:prstGeom>
                <a:solidFill>
                  <a:srgbClr val="ff8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1422360" y="4703760"/>
                  <a:ext cx="465120" cy="11160"/>
                </a:xfrm>
                <a:prstGeom prst="rect">
                  <a:avLst/>
                </a:prstGeom>
                <a:solidFill>
                  <a:srgbClr val="ff81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1422360" y="4714920"/>
                  <a:ext cx="465120" cy="11160"/>
                </a:xfrm>
                <a:prstGeom prst="rect">
                  <a:avLst/>
                </a:prstGeom>
                <a:solidFill>
                  <a:srgbClr val="ff82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1422360" y="4726080"/>
                  <a:ext cx="465120" cy="21960"/>
                </a:xfrm>
                <a:prstGeom prst="rect">
                  <a:avLst/>
                </a:prstGeom>
                <a:solidFill>
                  <a:srgbClr val="ff82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1422360" y="4748040"/>
                  <a:ext cx="465120" cy="11160"/>
                </a:xfrm>
                <a:prstGeom prst="rect">
                  <a:avLst/>
                </a:prstGeom>
                <a:solidFill>
                  <a:srgbClr val="ff8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1422360" y="4759200"/>
                  <a:ext cx="465120" cy="23760"/>
                </a:xfrm>
                <a:prstGeom prst="rect">
                  <a:avLst/>
                </a:prstGeom>
                <a:solidFill>
                  <a:srgbClr val="ff8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1422360" y="4782960"/>
                  <a:ext cx="465120" cy="22320"/>
                </a:xfrm>
                <a:prstGeom prst="rect">
                  <a:avLst/>
                </a:prstGeom>
                <a:solidFill>
                  <a:srgbClr val="ff86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1422360" y="4805280"/>
                  <a:ext cx="465120" cy="22320"/>
                </a:xfrm>
                <a:prstGeom prst="rect">
                  <a:avLst/>
                </a:prstGeom>
                <a:solidFill>
                  <a:srgbClr val="ff8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1422360" y="4827600"/>
                  <a:ext cx="465120" cy="23760"/>
                </a:xfrm>
                <a:prstGeom prst="rect">
                  <a:avLst/>
                </a:prstGeom>
                <a:solidFill>
                  <a:srgbClr val="ff89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422360" y="4851360"/>
                  <a:ext cx="465120" cy="11160"/>
                </a:xfrm>
                <a:prstGeom prst="rect">
                  <a:avLst/>
                </a:prstGeom>
                <a:solidFill>
                  <a:srgbClr val="ff8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1422360" y="4862520"/>
                  <a:ext cx="465120" cy="22320"/>
                </a:xfrm>
                <a:prstGeom prst="rect">
                  <a:avLst/>
                </a:prstGeom>
                <a:solidFill>
                  <a:srgbClr val="ff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422360" y="4884840"/>
                  <a:ext cx="465120" cy="21960"/>
                </a:xfrm>
                <a:prstGeom prst="rect">
                  <a:avLst/>
                </a:prstGeom>
                <a:solidFill>
                  <a:srgbClr val="ff8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1422360" y="4906800"/>
                  <a:ext cx="465120" cy="11160"/>
                </a:xfrm>
                <a:prstGeom prst="rect">
                  <a:avLst/>
                </a:prstGeom>
                <a:solidFill>
                  <a:srgbClr val="ff8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422360" y="4917960"/>
                  <a:ext cx="465120" cy="23760"/>
                </a:xfrm>
                <a:prstGeom prst="rect">
                  <a:avLst/>
                </a:prstGeom>
                <a:solidFill>
                  <a:srgbClr val="ff8c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422360" y="4941720"/>
                  <a:ext cx="465120" cy="22320"/>
                </a:xfrm>
                <a:prstGeom prst="rect">
                  <a:avLst/>
                </a:prstGeom>
                <a:solidFill>
                  <a:srgbClr val="ff8d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422360" y="4964040"/>
                  <a:ext cx="465120" cy="22320"/>
                </a:xfrm>
                <a:prstGeom prst="rect">
                  <a:avLst/>
                </a:prstGeom>
                <a:solidFill>
                  <a:srgbClr val="ff8e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422360" y="4986360"/>
                  <a:ext cx="465120" cy="22320"/>
                </a:xfrm>
                <a:prstGeom prst="rect">
                  <a:avLst/>
                </a:prstGeom>
                <a:solidFill>
                  <a:srgbClr val="ff8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422360" y="5008680"/>
                  <a:ext cx="465120" cy="23760"/>
                </a:xfrm>
                <a:prstGeom prst="rect">
                  <a:avLst/>
                </a:prstGeom>
                <a:solidFill>
                  <a:srgbClr val="ff90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422360" y="5032440"/>
                  <a:ext cx="465120" cy="22320"/>
                </a:xfrm>
                <a:prstGeom prst="rect">
                  <a:avLst/>
                </a:prstGeom>
                <a:solidFill>
                  <a:srgbClr val="ff91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1422360" y="5054760"/>
                  <a:ext cx="465120" cy="21960"/>
                </a:xfrm>
                <a:prstGeom prst="rect">
                  <a:avLst/>
                </a:prstGeom>
                <a:solidFill>
                  <a:srgbClr val="ff92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1422360" y="5076720"/>
                  <a:ext cx="465120" cy="34920"/>
                </a:xfrm>
                <a:prstGeom prst="rect">
                  <a:avLst/>
                </a:prstGeom>
                <a:solidFill>
                  <a:srgbClr val="ff92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1422360" y="5111640"/>
                  <a:ext cx="465120" cy="33480"/>
                </a:xfrm>
                <a:prstGeom prst="rect">
                  <a:avLst/>
                </a:prstGeom>
                <a:solidFill>
                  <a:srgbClr val="ff9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1422360" y="5145120"/>
                  <a:ext cx="465120" cy="33480"/>
                </a:xfrm>
                <a:prstGeom prst="rect">
                  <a:avLst/>
                </a:prstGeom>
                <a:solidFill>
                  <a:srgbClr val="ff9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1422360" y="5178600"/>
                  <a:ext cx="465120" cy="34920"/>
                </a:xfrm>
                <a:prstGeom prst="rect">
                  <a:avLst/>
                </a:prstGeom>
                <a:solidFill>
                  <a:srgbClr val="ff95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1422360" y="5213520"/>
                  <a:ext cx="465120" cy="44280"/>
                </a:xfrm>
                <a:prstGeom prst="rect">
                  <a:avLst/>
                </a:prstGeom>
                <a:solidFill>
                  <a:srgbClr val="ff9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1422360" y="5257800"/>
                  <a:ext cx="465120" cy="79200"/>
                </a:xfrm>
                <a:prstGeom prst="rect">
                  <a:avLst/>
                </a:prstGeom>
                <a:solidFill>
                  <a:srgbClr val="ff9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422360" y="5337000"/>
                  <a:ext cx="465120" cy="68400"/>
                </a:xfrm>
                <a:prstGeom prst="rect">
                  <a:avLst/>
                </a:prstGeom>
                <a:solidFill>
                  <a:srgbClr val="ff98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1422360" y="5405400"/>
                  <a:ext cx="465120" cy="684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1434960" y="3967200"/>
                  <a:ext cx="463680" cy="152856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495600" y="3435480"/>
                  <a:ext cx="453960" cy="111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495600" y="3446640"/>
                  <a:ext cx="453960" cy="10800"/>
                </a:xfrm>
                <a:prstGeom prst="rect">
                  <a:avLst/>
                </a:prstGeom>
                <a:solidFill>
                  <a:srgbClr val="ff6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495600" y="3457440"/>
                  <a:ext cx="453960" cy="11160"/>
                </a:xfrm>
                <a:prstGeom prst="rect">
                  <a:avLst/>
                </a:prstGeom>
                <a:solidFill>
                  <a:srgbClr val="ff66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495600" y="3468600"/>
                  <a:ext cx="453960" cy="11160"/>
                </a:xfrm>
                <a:prstGeom prst="rect">
                  <a:avLst/>
                </a:prstGeom>
                <a:solidFill>
                  <a:srgbClr val="ff6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495600" y="3479760"/>
                  <a:ext cx="453960" cy="11160"/>
                </a:xfrm>
                <a:prstGeom prst="rect">
                  <a:avLst/>
                </a:prstGeom>
                <a:solidFill>
                  <a:srgbClr val="ff66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495600" y="3490920"/>
                  <a:ext cx="453960" cy="12600"/>
                </a:xfrm>
                <a:prstGeom prst="rect">
                  <a:avLst/>
                </a:prstGeom>
                <a:solidFill>
                  <a:srgbClr val="ff67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495600" y="3503520"/>
                  <a:ext cx="453960" cy="22320"/>
                </a:xfrm>
                <a:prstGeom prst="rect">
                  <a:avLst/>
                </a:prstGeom>
                <a:solidFill>
                  <a:srgbClr val="ff6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495600" y="3525840"/>
                  <a:ext cx="453960" cy="11160"/>
                </a:xfrm>
                <a:prstGeom prst="rect">
                  <a:avLst/>
                </a:prstGeom>
                <a:solidFill>
                  <a:srgbClr val="ff67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495600" y="3537000"/>
                  <a:ext cx="453960" cy="22320"/>
                </a:xfrm>
                <a:prstGeom prst="rect">
                  <a:avLst/>
                </a:prstGeom>
                <a:solidFill>
                  <a:srgbClr val="ff67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495600" y="3559320"/>
                  <a:ext cx="453960" cy="23760"/>
                </a:xfrm>
                <a:prstGeom prst="rect">
                  <a:avLst/>
                </a:prstGeom>
                <a:solidFill>
                  <a:srgbClr val="ff6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495600" y="3583080"/>
                  <a:ext cx="453960" cy="11160"/>
                </a:xfrm>
                <a:prstGeom prst="rect">
                  <a:avLst/>
                </a:prstGeom>
                <a:solidFill>
                  <a:srgbClr val="ff68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495600" y="3594240"/>
                  <a:ext cx="453960" cy="10800"/>
                </a:xfrm>
                <a:prstGeom prst="rect">
                  <a:avLst/>
                </a:prstGeom>
                <a:solidFill>
                  <a:srgbClr val="ff6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495600" y="3605040"/>
                  <a:ext cx="453960" cy="22320"/>
                </a:xfrm>
                <a:prstGeom prst="rect">
                  <a:avLst/>
                </a:prstGeom>
                <a:solidFill>
                  <a:srgbClr val="ff68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495600" y="3627360"/>
                  <a:ext cx="453960" cy="22320"/>
                </a:xfrm>
                <a:prstGeom prst="rect">
                  <a:avLst/>
                </a:prstGeom>
                <a:solidFill>
                  <a:srgbClr val="ff6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495600" y="3649680"/>
                  <a:ext cx="453960" cy="23760"/>
                </a:xfrm>
                <a:prstGeom prst="rect">
                  <a:avLst/>
                </a:prstGeom>
                <a:solidFill>
                  <a:srgbClr val="ff6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495600" y="3673440"/>
                  <a:ext cx="453960" cy="22320"/>
                </a:xfrm>
                <a:prstGeom prst="rect">
                  <a:avLst/>
                </a:prstGeom>
                <a:solidFill>
                  <a:srgbClr val="ff6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495600" y="3695760"/>
                  <a:ext cx="453960" cy="22320"/>
                </a:xfrm>
                <a:prstGeom prst="rect">
                  <a:avLst/>
                </a:prstGeom>
                <a:solidFill>
                  <a:srgbClr val="ff6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495600" y="3718080"/>
                  <a:ext cx="453960" cy="10800"/>
                </a:xfrm>
                <a:prstGeom prst="rect">
                  <a:avLst/>
                </a:prstGeom>
                <a:solidFill>
                  <a:srgbClr val="ff6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495600" y="3728880"/>
                  <a:ext cx="453960" cy="11160"/>
                </a:xfrm>
                <a:prstGeom prst="rect">
                  <a:avLst/>
                </a:prstGeom>
                <a:solidFill>
                  <a:srgbClr val="ff6a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495600" y="3740040"/>
                  <a:ext cx="453960" cy="23760"/>
                </a:xfrm>
                <a:prstGeom prst="rect">
                  <a:avLst/>
                </a:prstGeom>
                <a:solidFill>
                  <a:srgbClr val="ff6a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495600" y="3763800"/>
                  <a:ext cx="453960" cy="22320"/>
                </a:xfrm>
                <a:prstGeom prst="rect">
                  <a:avLst/>
                </a:prstGeom>
                <a:solidFill>
                  <a:srgbClr val="ff6a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495600" y="3786120"/>
                  <a:ext cx="453960" cy="22320"/>
                </a:xfrm>
                <a:prstGeom prst="rect">
                  <a:avLst/>
                </a:prstGeom>
                <a:solidFill>
                  <a:srgbClr val="ff6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495600" y="3808440"/>
                  <a:ext cx="453960" cy="22320"/>
                </a:xfrm>
                <a:prstGeom prst="rect">
                  <a:avLst/>
                </a:prstGeom>
                <a:solidFill>
                  <a:srgbClr val="ff6c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495600" y="3830760"/>
                  <a:ext cx="453960" cy="23760"/>
                </a:xfrm>
                <a:prstGeom prst="rect">
                  <a:avLst/>
                </a:prstGeom>
                <a:solidFill>
                  <a:srgbClr val="ff6c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5600" y="3854520"/>
                  <a:ext cx="453960" cy="11160"/>
                </a:xfrm>
                <a:prstGeom prst="rect">
                  <a:avLst/>
                </a:prstGeom>
                <a:solidFill>
                  <a:srgbClr val="ff6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495600" y="3865680"/>
                  <a:ext cx="453960" cy="11160"/>
                </a:xfrm>
                <a:prstGeom prst="rect">
                  <a:avLst/>
                </a:prstGeom>
                <a:solidFill>
                  <a:srgbClr val="ff6c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495600" y="3876840"/>
                  <a:ext cx="453960" cy="10800"/>
                </a:xfrm>
                <a:prstGeom prst="rect">
                  <a:avLst/>
                </a:prstGeom>
                <a:solidFill>
                  <a:srgbClr val="ff6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495600" y="3887640"/>
                  <a:ext cx="453960" cy="22320"/>
                </a:xfrm>
                <a:prstGeom prst="rect">
                  <a:avLst/>
                </a:prstGeom>
                <a:solidFill>
                  <a:srgbClr val="ff6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495600" y="3909960"/>
                  <a:ext cx="453960" cy="12600"/>
                </a:xfrm>
                <a:prstGeom prst="rect">
                  <a:avLst/>
                </a:prstGeom>
                <a:solidFill>
                  <a:srgbClr val="ff6e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495600" y="3922560"/>
                  <a:ext cx="453960" cy="22320"/>
                </a:xfrm>
                <a:prstGeom prst="rect">
                  <a:avLst/>
                </a:prstGeom>
                <a:solidFill>
                  <a:srgbClr val="ff6e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495600" y="3944880"/>
                  <a:ext cx="453960" cy="22320"/>
                </a:xfrm>
                <a:prstGeom prst="rect">
                  <a:avLst/>
                </a:prstGeom>
                <a:solidFill>
                  <a:srgbClr val="ff6f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495600" y="3967200"/>
                  <a:ext cx="453960" cy="11160"/>
                </a:xfrm>
                <a:prstGeom prst="rect">
                  <a:avLst/>
                </a:prstGeom>
                <a:solidFill>
                  <a:srgbClr val="ff70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495600" y="3978360"/>
                  <a:ext cx="453960" cy="11160"/>
                </a:xfrm>
                <a:prstGeom prst="rect">
                  <a:avLst/>
                </a:prstGeom>
                <a:solidFill>
                  <a:srgbClr val="ff70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495600" y="3989520"/>
                  <a:ext cx="453960" cy="23760"/>
                </a:xfrm>
                <a:prstGeom prst="rect">
                  <a:avLst/>
                </a:prstGeom>
                <a:solidFill>
                  <a:srgbClr val="ff70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495600" y="4013280"/>
                  <a:ext cx="453960" cy="11160"/>
                </a:xfrm>
                <a:prstGeom prst="rect">
                  <a:avLst/>
                </a:prstGeom>
                <a:solidFill>
                  <a:srgbClr val="ff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495600" y="4024440"/>
                  <a:ext cx="453960" cy="21960"/>
                </a:xfrm>
                <a:prstGeom prst="rect">
                  <a:avLst/>
                </a:prstGeom>
                <a:solidFill>
                  <a:srgbClr val="ff71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495600" y="4046400"/>
                  <a:ext cx="453960" cy="11160"/>
                </a:xfrm>
                <a:prstGeom prst="rect">
                  <a:avLst/>
                </a:prstGeom>
                <a:solidFill>
                  <a:srgbClr val="ff72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495600" y="4057560"/>
                  <a:ext cx="453960" cy="22320"/>
                </a:xfrm>
                <a:prstGeom prst="rect">
                  <a:avLst/>
                </a:prstGeom>
                <a:solidFill>
                  <a:srgbClr val="ff72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495600" y="4079880"/>
                  <a:ext cx="453960" cy="23760"/>
                </a:xfrm>
                <a:prstGeom prst="rect">
                  <a:avLst/>
                </a:prstGeom>
                <a:solidFill>
                  <a:srgbClr val="ff7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495600" y="4103640"/>
                  <a:ext cx="453960" cy="11160"/>
                </a:xfrm>
                <a:prstGeom prst="rect">
                  <a:avLst/>
                </a:prstGeom>
                <a:solidFill>
                  <a:srgbClr val="ff7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495600" y="4114800"/>
                  <a:ext cx="453960" cy="11160"/>
                </a:xfrm>
                <a:prstGeom prst="rect">
                  <a:avLst/>
                </a:prstGeom>
                <a:solidFill>
                  <a:srgbClr val="ff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495600" y="4125960"/>
                  <a:ext cx="453960" cy="11160"/>
                </a:xfrm>
                <a:prstGeom prst="rect">
                  <a:avLst/>
                </a:prstGeom>
                <a:solidFill>
                  <a:srgbClr val="ff7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495600" y="4137120"/>
                  <a:ext cx="453960" cy="21960"/>
                </a:xfrm>
                <a:prstGeom prst="rect">
                  <a:avLst/>
                </a:prstGeom>
                <a:solidFill>
                  <a:srgbClr val="ff7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495600" y="4159080"/>
                  <a:ext cx="453960" cy="24120"/>
                </a:xfrm>
                <a:prstGeom prst="rect">
                  <a:avLst/>
                </a:prstGeom>
                <a:solidFill>
                  <a:srgbClr val="ff76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495600" y="4183200"/>
                  <a:ext cx="453960" cy="10800"/>
                </a:xfrm>
                <a:prstGeom prst="rect">
                  <a:avLst/>
                </a:prstGeom>
                <a:solidFill>
                  <a:srgbClr val="ff77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3495600" y="4194000"/>
                  <a:ext cx="453960" cy="22320"/>
                </a:xfrm>
                <a:prstGeom prst="rect">
                  <a:avLst/>
                </a:prstGeom>
                <a:solidFill>
                  <a:srgbClr val="ff7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3495600" y="4216320"/>
                  <a:ext cx="453960" cy="22320"/>
                </a:xfrm>
                <a:prstGeom prst="rect">
                  <a:avLst/>
                </a:prstGeom>
                <a:solidFill>
                  <a:srgbClr val="ff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495600" y="4238640"/>
                  <a:ext cx="453960" cy="11160"/>
                </a:xfrm>
                <a:prstGeom prst="rect">
                  <a:avLst/>
                </a:prstGeom>
                <a:solidFill>
                  <a:srgbClr val="ff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3495600" y="4249800"/>
                  <a:ext cx="453960" cy="23760"/>
                </a:xfrm>
                <a:prstGeom prst="rect">
                  <a:avLst/>
                </a:prstGeom>
                <a:solidFill>
                  <a:srgbClr val="ff7a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3495600" y="4273560"/>
                  <a:ext cx="453960" cy="22320"/>
                </a:xfrm>
                <a:prstGeom prst="rect">
                  <a:avLst/>
                </a:prstGeom>
                <a:solidFill>
                  <a:srgbClr val="ff7b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3495600" y="4295880"/>
                  <a:ext cx="453960" cy="11160"/>
                </a:xfrm>
                <a:prstGeom prst="rect">
                  <a:avLst/>
                </a:prstGeom>
                <a:solidFill>
                  <a:srgbClr val="ff7c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3495600" y="4307040"/>
                  <a:ext cx="453960" cy="21960"/>
                </a:xfrm>
                <a:prstGeom prst="rect">
                  <a:avLst/>
                </a:prstGeom>
                <a:solidFill>
                  <a:srgbClr val="ff7c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3495600" y="4329000"/>
                  <a:ext cx="453960" cy="23760"/>
                </a:xfrm>
                <a:prstGeom prst="rect">
                  <a:avLst/>
                </a:prstGeom>
                <a:solidFill>
                  <a:srgbClr val="ff7d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3495600" y="4352760"/>
                  <a:ext cx="453960" cy="22320"/>
                </a:xfrm>
                <a:prstGeom prst="rect">
                  <a:avLst/>
                </a:prstGeom>
                <a:solidFill>
                  <a:srgbClr val="ff7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495600" y="4375080"/>
                  <a:ext cx="453960" cy="11160"/>
                </a:xfrm>
                <a:prstGeom prst="rect">
                  <a:avLst/>
                </a:prstGeom>
                <a:solidFill>
                  <a:srgbClr val="ff7f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495600" y="4386240"/>
                  <a:ext cx="453960" cy="22320"/>
                </a:xfrm>
                <a:prstGeom prst="rect">
                  <a:avLst/>
                </a:prstGeom>
                <a:solidFill>
                  <a:srgbClr val="ff80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495600" y="4408560"/>
                  <a:ext cx="453960" cy="23760"/>
                </a:xfrm>
                <a:prstGeom prst="rect">
                  <a:avLst/>
                </a:prstGeom>
                <a:solidFill>
                  <a:srgbClr val="ff8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3495600" y="4432320"/>
                  <a:ext cx="453960" cy="11160"/>
                </a:xfrm>
                <a:prstGeom prst="rect">
                  <a:avLst/>
                </a:prstGeom>
                <a:solidFill>
                  <a:srgbClr val="ff8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495600" y="4443480"/>
                  <a:ext cx="453960" cy="22320"/>
                </a:xfrm>
                <a:prstGeom prst="rect">
                  <a:avLst/>
                </a:prstGeom>
                <a:solidFill>
                  <a:srgbClr val="ff81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3495600" y="4465800"/>
                  <a:ext cx="453960" cy="21960"/>
                </a:xfrm>
                <a:prstGeom prst="rect">
                  <a:avLst/>
                </a:prstGeom>
                <a:solidFill>
                  <a:srgbClr val="ff82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3495600" y="4487760"/>
                  <a:ext cx="453960" cy="23760"/>
                </a:xfrm>
                <a:prstGeom prst="rect">
                  <a:avLst/>
                </a:prstGeom>
                <a:solidFill>
                  <a:srgbClr val="ff8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495600" y="4511520"/>
                  <a:ext cx="453960" cy="11160"/>
                </a:xfrm>
                <a:prstGeom prst="rect">
                  <a:avLst/>
                </a:prstGeom>
                <a:solidFill>
                  <a:srgbClr val="ff85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495600" y="4522680"/>
                  <a:ext cx="453960" cy="22320"/>
                </a:xfrm>
                <a:prstGeom prst="rect">
                  <a:avLst/>
                </a:prstGeom>
                <a:solidFill>
                  <a:srgbClr val="ff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495600" y="4545000"/>
                  <a:ext cx="453960" cy="22320"/>
                </a:xfrm>
                <a:prstGeom prst="rect">
                  <a:avLst/>
                </a:prstGeom>
                <a:solidFill>
                  <a:srgbClr val="ff86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495600" y="4567320"/>
                  <a:ext cx="453960" cy="22320"/>
                </a:xfrm>
                <a:prstGeom prst="rect">
                  <a:avLst/>
                </a:prstGeom>
                <a:solidFill>
                  <a:srgbClr val="ff87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495600" y="4589640"/>
                  <a:ext cx="453960" cy="23760"/>
                </a:xfrm>
                <a:prstGeom prst="rect">
                  <a:avLst/>
                </a:prstGeom>
                <a:solidFill>
                  <a:srgbClr val="ff88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495600" y="4613400"/>
                  <a:ext cx="453960" cy="21960"/>
                </a:xfrm>
                <a:prstGeom prst="rect">
                  <a:avLst/>
                </a:prstGeom>
                <a:solidFill>
                  <a:srgbClr val="ff89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495600" y="4635360"/>
                  <a:ext cx="453960" cy="22320"/>
                </a:xfrm>
                <a:prstGeom prst="rect">
                  <a:avLst/>
                </a:prstGeom>
                <a:solidFill>
                  <a:srgbClr val="ff8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495600" y="4657680"/>
                  <a:ext cx="453960" cy="23760"/>
                </a:xfrm>
                <a:prstGeom prst="rect">
                  <a:avLst/>
                </a:prstGeom>
                <a:solidFill>
                  <a:srgbClr val="ff8a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495600" y="4681440"/>
                  <a:ext cx="453960" cy="22320"/>
                </a:xfrm>
                <a:prstGeom prst="rect">
                  <a:avLst/>
                </a:prstGeom>
                <a:solidFill>
                  <a:srgbClr val="ff8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495600" y="4703760"/>
                  <a:ext cx="453960" cy="22320"/>
                </a:xfrm>
                <a:prstGeom prst="rect">
                  <a:avLst/>
                </a:prstGeom>
                <a:solidFill>
                  <a:srgbClr val="ff8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495600" y="4726080"/>
                  <a:ext cx="453960" cy="33120"/>
                </a:xfrm>
                <a:prstGeom prst="rect">
                  <a:avLst/>
                </a:prstGeom>
                <a:solidFill>
                  <a:srgbClr val="ff8c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495600" y="4759200"/>
                  <a:ext cx="453960" cy="23760"/>
                </a:xfrm>
                <a:prstGeom prst="rect">
                  <a:avLst/>
                </a:prstGeom>
                <a:solidFill>
                  <a:srgbClr val="ff8d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495600" y="4782960"/>
                  <a:ext cx="453960" cy="22320"/>
                </a:xfrm>
                <a:prstGeom prst="rect">
                  <a:avLst/>
                </a:prstGeom>
                <a:solidFill>
                  <a:srgbClr val="ff8e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495600" y="4805280"/>
                  <a:ext cx="453960" cy="33480"/>
                </a:xfrm>
                <a:prstGeom prst="rect">
                  <a:avLst/>
                </a:prstGeom>
                <a:solidFill>
                  <a:srgbClr val="ff8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495600" y="4838760"/>
                  <a:ext cx="453960" cy="34920"/>
                </a:xfrm>
                <a:prstGeom prst="rect">
                  <a:avLst/>
                </a:prstGeom>
                <a:solidFill>
                  <a:srgbClr val="ff90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495600" y="4873680"/>
                  <a:ext cx="453960" cy="33120"/>
                </a:xfrm>
                <a:prstGeom prst="rect">
                  <a:avLst/>
                </a:prstGeom>
                <a:solidFill>
                  <a:srgbClr val="ff91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495600" y="4906800"/>
                  <a:ext cx="453960" cy="34920"/>
                </a:xfrm>
                <a:prstGeom prst="rect">
                  <a:avLst/>
                </a:prstGeom>
                <a:solidFill>
                  <a:srgbClr val="ff92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495600" y="4941720"/>
                  <a:ext cx="453960" cy="44640"/>
                </a:xfrm>
                <a:prstGeom prst="rect">
                  <a:avLst/>
                </a:prstGeom>
                <a:solidFill>
                  <a:srgbClr val="ff92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495600" y="4986360"/>
                  <a:ext cx="453960" cy="34920"/>
                </a:xfrm>
                <a:prstGeom prst="rect">
                  <a:avLst/>
                </a:prstGeom>
                <a:solidFill>
                  <a:srgbClr val="ff9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495600" y="5021280"/>
                  <a:ext cx="453960" cy="44280"/>
                </a:xfrm>
                <a:prstGeom prst="rect">
                  <a:avLst/>
                </a:prstGeom>
                <a:solidFill>
                  <a:srgbClr val="ff9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495600" y="5065560"/>
                  <a:ext cx="453960" cy="57240"/>
                </a:xfrm>
                <a:prstGeom prst="rect">
                  <a:avLst/>
                </a:prstGeom>
                <a:solidFill>
                  <a:srgbClr val="ff95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3495600" y="5122800"/>
                  <a:ext cx="453960" cy="68400"/>
                </a:xfrm>
                <a:prstGeom prst="rect">
                  <a:avLst/>
                </a:prstGeom>
                <a:solidFill>
                  <a:srgbClr val="ff9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495600" y="5191200"/>
                  <a:ext cx="453960" cy="90360"/>
                </a:xfrm>
                <a:prstGeom prst="rect">
                  <a:avLst/>
                </a:prstGeom>
                <a:solidFill>
                  <a:srgbClr val="ff9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3495600" y="5281560"/>
                  <a:ext cx="453960" cy="101520"/>
                </a:xfrm>
                <a:prstGeom prst="rect">
                  <a:avLst/>
                </a:prstGeom>
                <a:solidFill>
                  <a:srgbClr val="ff98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3495600" y="5383080"/>
                  <a:ext cx="453960" cy="907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506760" y="3446640"/>
                  <a:ext cx="453960" cy="204912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557680" y="1906560"/>
                  <a:ext cx="463680" cy="111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557680" y="1917720"/>
                  <a:ext cx="463680" cy="11160"/>
                </a:xfrm>
                <a:prstGeom prst="rect">
                  <a:avLst/>
                </a:prstGeom>
                <a:solidFill>
                  <a:srgbClr val="ff66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557680" y="1928880"/>
                  <a:ext cx="463680" cy="11160"/>
                </a:xfrm>
                <a:prstGeom prst="rect">
                  <a:avLst/>
                </a:prstGeom>
                <a:solidFill>
                  <a:srgbClr val="ff66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557680" y="1940040"/>
                  <a:ext cx="463680" cy="11160"/>
                </a:xfrm>
                <a:prstGeom prst="rect">
                  <a:avLst/>
                </a:prstGeom>
                <a:solidFill>
                  <a:srgbClr val="ff66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557680" y="1951200"/>
                  <a:ext cx="463680" cy="21960"/>
                </a:xfrm>
                <a:prstGeom prst="rect">
                  <a:avLst/>
                </a:prstGeom>
                <a:solidFill>
                  <a:srgbClr val="ff6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5557680" y="1973160"/>
                  <a:ext cx="463680" cy="12960"/>
                </a:xfrm>
                <a:prstGeom prst="rect">
                  <a:avLst/>
                </a:prstGeom>
                <a:solidFill>
                  <a:srgbClr val="ff66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557680" y="1986120"/>
                  <a:ext cx="463680" cy="21960"/>
                </a:xfrm>
                <a:prstGeom prst="rect">
                  <a:avLst/>
                </a:prstGeom>
                <a:solidFill>
                  <a:srgbClr val="ff6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557680" y="2008080"/>
                  <a:ext cx="463680" cy="22320"/>
                </a:xfrm>
                <a:prstGeom prst="rect">
                  <a:avLst/>
                </a:prstGeom>
                <a:solidFill>
                  <a:srgbClr val="ff67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5557680" y="2030400"/>
                  <a:ext cx="463680" cy="34920"/>
                </a:xfrm>
                <a:prstGeom prst="rect">
                  <a:avLst/>
                </a:prstGeom>
                <a:solidFill>
                  <a:srgbClr val="ff67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557680" y="2065320"/>
                  <a:ext cx="463680" cy="22320"/>
                </a:xfrm>
                <a:prstGeom prst="rect">
                  <a:avLst/>
                </a:prstGeom>
                <a:solidFill>
                  <a:srgbClr val="ff67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557680" y="2087640"/>
                  <a:ext cx="463680" cy="44280"/>
                </a:xfrm>
                <a:prstGeom prst="rect">
                  <a:avLst/>
                </a:prstGeom>
                <a:solidFill>
                  <a:srgbClr val="ff67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557680" y="2131920"/>
                  <a:ext cx="463680" cy="11160"/>
                </a:xfrm>
                <a:prstGeom prst="rect">
                  <a:avLst/>
                </a:prstGeom>
                <a:solidFill>
                  <a:srgbClr val="ff6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557680" y="2143080"/>
                  <a:ext cx="463680" cy="23760"/>
                </a:xfrm>
                <a:prstGeom prst="rect">
                  <a:avLst/>
                </a:prstGeom>
                <a:solidFill>
                  <a:srgbClr val="ff6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557680" y="2166840"/>
                  <a:ext cx="463680" cy="22320"/>
                </a:xfrm>
                <a:prstGeom prst="rect">
                  <a:avLst/>
                </a:prstGeom>
                <a:solidFill>
                  <a:srgbClr val="ff68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5557680" y="2189160"/>
                  <a:ext cx="463680" cy="22320"/>
                </a:xfrm>
                <a:prstGeom prst="rect">
                  <a:avLst/>
                </a:prstGeom>
                <a:solidFill>
                  <a:srgbClr val="ff68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5557680" y="2211480"/>
                  <a:ext cx="463680" cy="34920"/>
                </a:xfrm>
                <a:prstGeom prst="rect">
                  <a:avLst/>
                </a:prstGeom>
                <a:solidFill>
                  <a:srgbClr val="ff6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557680" y="2246400"/>
                  <a:ext cx="463680" cy="21960"/>
                </a:xfrm>
                <a:prstGeom prst="rect">
                  <a:avLst/>
                </a:prstGeom>
                <a:solidFill>
                  <a:srgbClr val="ff6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557680" y="2268360"/>
                  <a:ext cx="463680" cy="22320"/>
                </a:xfrm>
                <a:prstGeom prst="rect">
                  <a:avLst/>
                </a:prstGeom>
                <a:solidFill>
                  <a:srgbClr val="ff6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557680" y="2290680"/>
                  <a:ext cx="463680" cy="34920"/>
                </a:xfrm>
                <a:prstGeom prst="rect">
                  <a:avLst/>
                </a:prstGeom>
                <a:solidFill>
                  <a:srgbClr val="ff69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557680" y="2325600"/>
                  <a:ext cx="463680" cy="11160"/>
                </a:xfrm>
                <a:prstGeom prst="rect">
                  <a:avLst/>
                </a:prstGeom>
                <a:solidFill>
                  <a:srgbClr val="ff6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1887480" y="1917720"/>
                <a:ext cx="6207120" cy="3578040"/>
                <a:chOff x="1887480" y="1917720"/>
                <a:chExt cx="6207120" cy="357804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5557680" y="2336760"/>
                  <a:ext cx="463680" cy="44640"/>
                </a:xfrm>
                <a:prstGeom prst="rect">
                  <a:avLst/>
                </a:prstGeom>
                <a:solidFill>
                  <a:srgbClr val="ff6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5557680" y="2381400"/>
                  <a:ext cx="463680" cy="34920"/>
                </a:xfrm>
                <a:prstGeom prst="rect">
                  <a:avLst/>
                </a:prstGeom>
                <a:solidFill>
                  <a:srgbClr val="ff69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5557680" y="2416320"/>
                  <a:ext cx="463680" cy="33120"/>
                </a:xfrm>
                <a:prstGeom prst="rect">
                  <a:avLst/>
                </a:prstGeom>
                <a:solidFill>
                  <a:srgbClr val="ff6a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557680" y="2449440"/>
                  <a:ext cx="463680" cy="22320"/>
                </a:xfrm>
                <a:prstGeom prst="rect">
                  <a:avLst/>
                </a:prstGeom>
                <a:solidFill>
                  <a:srgbClr val="ff6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5557680" y="2471760"/>
                  <a:ext cx="463680" cy="34920"/>
                </a:xfrm>
                <a:prstGeom prst="rect">
                  <a:avLst/>
                </a:prstGeom>
                <a:solidFill>
                  <a:srgbClr val="ff6a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5557680" y="2506680"/>
                  <a:ext cx="463680" cy="22320"/>
                </a:xfrm>
                <a:prstGeom prst="rect">
                  <a:avLst/>
                </a:prstGeom>
                <a:solidFill>
                  <a:srgbClr val="ff6b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5557680" y="2529000"/>
                  <a:ext cx="463680" cy="33120"/>
                </a:xfrm>
                <a:prstGeom prst="rect">
                  <a:avLst/>
                </a:prstGeom>
                <a:solidFill>
                  <a:srgbClr val="ff6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5557680" y="2562120"/>
                  <a:ext cx="463680" cy="23760"/>
                </a:xfrm>
                <a:prstGeom prst="rect">
                  <a:avLst/>
                </a:prstGeom>
                <a:solidFill>
                  <a:srgbClr val="ff6c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5557680" y="2585880"/>
                  <a:ext cx="463680" cy="33480"/>
                </a:xfrm>
                <a:prstGeom prst="rect">
                  <a:avLst/>
                </a:prstGeom>
                <a:solidFill>
                  <a:srgbClr val="ff6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557680" y="2619360"/>
                  <a:ext cx="463680" cy="22320"/>
                </a:xfrm>
                <a:prstGeom prst="rect">
                  <a:avLst/>
                </a:prstGeom>
                <a:solidFill>
                  <a:srgbClr val="ff6c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557680" y="2641680"/>
                  <a:ext cx="463680" cy="34920"/>
                </a:xfrm>
                <a:prstGeom prst="rect">
                  <a:avLst/>
                </a:prstGeom>
                <a:solidFill>
                  <a:srgbClr val="ff6c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5557680" y="2676600"/>
                  <a:ext cx="463680" cy="11160"/>
                </a:xfrm>
                <a:prstGeom prst="rect">
                  <a:avLst/>
                </a:prstGeom>
                <a:solidFill>
                  <a:srgbClr val="ff6d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557680" y="2687760"/>
                  <a:ext cx="463680" cy="21960"/>
                </a:xfrm>
                <a:prstGeom prst="rect">
                  <a:avLst/>
                </a:prstGeom>
                <a:solidFill>
                  <a:srgbClr val="ff6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5557680" y="2709720"/>
                  <a:ext cx="463680" cy="34920"/>
                </a:xfrm>
                <a:prstGeom prst="rect">
                  <a:avLst/>
                </a:prstGeom>
                <a:solidFill>
                  <a:srgbClr val="ff6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557680" y="2744640"/>
                  <a:ext cx="463680" cy="22320"/>
                </a:xfrm>
                <a:prstGeom prst="rect">
                  <a:avLst/>
                </a:prstGeom>
                <a:solidFill>
                  <a:srgbClr val="ff6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557680" y="2766960"/>
                  <a:ext cx="463680" cy="33480"/>
                </a:xfrm>
                <a:prstGeom prst="rect">
                  <a:avLst/>
                </a:prstGeom>
                <a:solidFill>
                  <a:srgbClr val="ff6f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557680" y="2800440"/>
                  <a:ext cx="463680" cy="23760"/>
                </a:xfrm>
                <a:prstGeom prst="rect">
                  <a:avLst/>
                </a:prstGeom>
                <a:solidFill>
                  <a:srgbClr val="ff6f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557680" y="2824200"/>
                  <a:ext cx="463680" cy="33480"/>
                </a:xfrm>
                <a:prstGeom prst="rect">
                  <a:avLst/>
                </a:prstGeom>
                <a:solidFill>
                  <a:srgbClr val="ff70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557680" y="2857680"/>
                  <a:ext cx="463680" cy="21960"/>
                </a:xfrm>
                <a:prstGeom prst="rect">
                  <a:avLst/>
                </a:prstGeom>
                <a:solidFill>
                  <a:srgbClr val="ff70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557680" y="2879640"/>
                  <a:ext cx="463680" cy="22320"/>
                </a:xfrm>
                <a:prstGeom prst="rect">
                  <a:avLst/>
                </a:prstGeom>
                <a:solidFill>
                  <a:srgbClr val="ff70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557680" y="2901960"/>
                  <a:ext cx="463680" cy="23760"/>
                </a:xfrm>
                <a:prstGeom prst="rect">
                  <a:avLst/>
                </a:prstGeom>
                <a:solidFill>
                  <a:srgbClr val="ff71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557680" y="2925720"/>
                  <a:ext cx="463680" cy="22320"/>
                </a:xfrm>
                <a:prstGeom prst="rect">
                  <a:avLst/>
                </a:prstGeom>
                <a:solidFill>
                  <a:srgbClr val="ff71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557680" y="2948040"/>
                  <a:ext cx="463680" cy="33120"/>
                </a:xfrm>
                <a:prstGeom prst="rect">
                  <a:avLst/>
                </a:prstGeom>
                <a:solidFill>
                  <a:srgbClr val="ff7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557680" y="2981160"/>
                  <a:ext cx="463680" cy="24120"/>
                </a:xfrm>
                <a:prstGeom prst="rect">
                  <a:avLst/>
                </a:prstGeom>
                <a:solidFill>
                  <a:srgbClr val="ff7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557680" y="3005280"/>
                  <a:ext cx="463680" cy="33120"/>
                </a:xfrm>
                <a:prstGeom prst="rect">
                  <a:avLst/>
                </a:prstGeom>
                <a:solidFill>
                  <a:srgbClr val="ff73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557680" y="3038400"/>
                  <a:ext cx="463680" cy="22320"/>
                </a:xfrm>
                <a:prstGeom prst="rect">
                  <a:avLst/>
                </a:prstGeom>
                <a:solidFill>
                  <a:srgbClr val="ff7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557680" y="3060720"/>
                  <a:ext cx="463680" cy="23760"/>
                </a:xfrm>
                <a:prstGeom prst="rect">
                  <a:avLst/>
                </a:prstGeom>
                <a:solidFill>
                  <a:srgbClr val="ff7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557680" y="3084480"/>
                  <a:ext cx="463680" cy="22320"/>
                </a:xfrm>
                <a:prstGeom prst="rect">
                  <a:avLst/>
                </a:prstGeom>
                <a:solidFill>
                  <a:srgbClr val="ff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557680" y="3106800"/>
                  <a:ext cx="463680" cy="33120"/>
                </a:xfrm>
                <a:prstGeom prst="rect">
                  <a:avLst/>
                </a:prstGeom>
                <a:solidFill>
                  <a:srgbClr val="ff7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557680" y="3139920"/>
                  <a:ext cx="463680" cy="24120"/>
                </a:xfrm>
                <a:prstGeom prst="rect">
                  <a:avLst/>
                </a:prstGeom>
                <a:solidFill>
                  <a:srgbClr val="ff7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557680" y="3164040"/>
                  <a:ext cx="463680" cy="21960"/>
                </a:xfrm>
                <a:prstGeom prst="rect">
                  <a:avLst/>
                </a:prstGeom>
                <a:solidFill>
                  <a:srgbClr val="ff7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557680" y="3186000"/>
                  <a:ext cx="463680" cy="33480"/>
                </a:xfrm>
                <a:prstGeom prst="rect">
                  <a:avLst/>
                </a:prstGeom>
                <a:solidFill>
                  <a:srgbClr val="ff7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557680" y="3219480"/>
                  <a:ext cx="463680" cy="22320"/>
                </a:xfrm>
                <a:prstGeom prst="rect">
                  <a:avLst/>
                </a:prstGeom>
                <a:solidFill>
                  <a:srgbClr val="ff7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557680" y="3241800"/>
                  <a:ext cx="463680" cy="34920"/>
                </a:xfrm>
                <a:prstGeom prst="rect">
                  <a:avLst/>
                </a:prstGeom>
                <a:solidFill>
                  <a:srgbClr val="ff78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557680" y="3276720"/>
                  <a:ext cx="463680" cy="21960"/>
                </a:xfrm>
                <a:prstGeom prst="rect">
                  <a:avLst/>
                </a:prstGeom>
                <a:solidFill>
                  <a:srgbClr val="ff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557680" y="3298680"/>
                  <a:ext cx="463680" cy="34920"/>
                </a:xfrm>
                <a:prstGeom prst="rect">
                  <a:avLst/>
                </a:prstGeom>
                <a:solidFill>
                  <a:srgbClr val="ff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557680" y="3333600"/>
                  <a:ext cx="463680" cy="22320"/>
                </a:xfrm>
                <a:prstGeom prst="rect">
                  <a:avLst/>
                </a:prstGeom>
                <a:solidFill>
                  <a:srgbClr val="ff7a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557680" y="3355920"/>
                  <a:ext cx="463680" cy="33480"/>
                </a:xfrm>
                <a:prstGeom prst="rect">
                  <a:avLst/>
                </a:prstGeom>
                <a:solidFill>
                  <a:srgbClr val="ff7b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557680" y="3389400"/>
                  <a:ext cx="463680" cy="21960"/>
                </a:xfrm>
                <a:prstGeom prst="rect">
                  <a:avLst/>
                </a:prstGeom>
                <a:solidFill>
                  <a:srgbClr val="ff7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557680" y="3411360"/>
                  <a:ext cx="463680" cy="35280"/>
                </a:xfrm>
                <a:prstGeom prst="rect">
                  <a:avLst/>
                </a:prstGeom>
                <a:solidFill>
                  <a:srgbClr val="ff7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557680" y="3446640"/>
                  <a:ext cx="463680" cy="21960"/>
                </a:xfrm>
                <a:prstGeom prst="rect">
                  <a:avLst/>
                </a:prstGeom>
                <a:solidFill>
                  <a:srgbClr val="ff7d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557680" y="3468600"/>
                  <a:ext cx="463680" cy="34920"/>
                </a:xfrm>
                <a:prstGeom prst="rect">
                  <a:avLst/>
                </a:prstGeom>
                <a:solidFill>
                  <a:srgbClr val="ff7d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557680" y="3503520"/>
                  <a:ext cx="463680" cy="22320"/>
                </a:xfrm>
                <a:prstGeom prst="rect">
                  <a:avLst/>
                </a:prstGeom>
                <a:solidFill>
                  <a:srgbClr val="ff7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557680" y="3525840"/>
                  <a:ext cx="463680" cy="33480"/>
                </a:xfrm>
                <a:prstGeom prst="rect">
                  <a:avLst/>
                </a:prstGeom>
                <a:solidFill>
                  <a:srgbClr val="ff7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5557680" y="3559320"/>
                  <a:ext cx="463680" cy="23760"/>
                </a:xfrm>
                <a:prstGeom prst="rect">
                  <a:avLst/>
                </a:prstGeom>
                <a:solidFill>
                  <a:srgbClr val="ff7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557680" y="3583080"/>
                  <a:ext cx="463680" cy="33120"/>
                </a:xfrm>
                <a:prstGeom prst="rect">
                  <a:avLst/>
                </a:prstGeom>
                <a:solidFill>
                  <a:srgbClr val="ff80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557680" y="3616200"/>
                  <a:ext cx="463680" cy="33480"/>
                </a:xfrm>
                <a:prstGeom prst="rect">
                  <a:avLst/>
                </a:prstGeom>
                <a:solidFill>
                  <a:srgbClr val="ff8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557680" y="3649680"/>
                  <a:ext cx="463680" cy="34920"/>
                </a:xfrm>
                <a:prstGeom prst="rect">
                  <a:avLst/>
                </a:prstGeom>
                <a:solidFill>
                  <a:srgbClr val="ff82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5557680" y="3684600"/>
                  <a:ext cx="463680" cy="22320"/>
                </a:xfrm>
                <a:prstGeom prst="rect">
                  <a:avLst/>
                </a:prstGeom>
                <a:solidFill>
                  <a:srgbClr val="ff82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5557680" y="3706920"/>
                  <a:ext cx="463680" cy="46080"/>
                </a:xfrm>
                <a:prstGeom prst="rect">
                  <a:avLst/>
                </a:prstGeom>
                <a:solidFill>
                  <a:srgbClr val="ff83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557680" y="3753000"/>
                  <a:ext cx="463680" cy="21960"/>
                </a:xfrm>
                <a:prstGeom prst="rect">
                  <a:avLst/>
                </a:prstGeom>
                <a:solidFill>
                  <a:srgbClr val="ff8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557680" y="3774960"/>
                  <a:ext cx="463680" cy="33480"/>
                </a:xfrm>
                <a:prstGeom prst="rect">
                  <a:avLst/>
                </a:prstGeom>
                <a:solidFill>
                  <a:srgbClr val="ff84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557680" y="3808440"/>
                  <a:ext cx="463680" cy="34920"/>
                </a:xfrm>
                <a:prstGeom prst="rect">
                  <a:avLst/>
                </a:prstGeom>
                <a:solidFill>
                  <a:srgbClr val="ff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557680" y="3843360"/>
                  <a:ext cx="463680" cy="33480"/>
                </a:xfrm>
                <a:prstGeom prst="rect">
                  <a:avLst/>
                </a:prstGeom>
                <a:solidFill>
                  <a:srgbClr val="ff86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557680" y="3876840"/>
                  <a:ext cx="463680" cy="45720"/>
                </a:xfrm>
                <a:prstGeom prst="rect">
                  <a:avLst/>
                </a:prstGeom>
                <a:solidFill>
                  <a:srgbClr val="ff87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557680" y="3922560"/>
                  <a:ext cx="463680" cy="22320"/>
                </a:xfrm>
                <a:prstGeom prst="rect">
                  <a:avLst/>
                </a:prstGeom>
                <a:solidFill>
                  <a:srgbClr val="ff88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557680" y="3944880"/>
                  <a:ext cx="463680" cy="44640"/>
                </a:xfrm>
                <a:prstGeom prst="rect">
                  <a:avLst/>
                </a:prstGeom>
                <a:solidFill>
                  <a:srgbClr val="ff88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557680" y="3989520"/>
                  <a:ext cx="463680" cy="46080"/>
                </a:xfrm>
                <a:prstGeom prst="rect">
                  <a:avLst/>
                </a:prstGeom>
                <a:solidFill>
                  <a:srgbClr val="ff8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557680" y="4035600"/>
                  <a:ext cx="463680" cy="21960"/>
                </a:xfrm>
                <a:prstGeom prst="rect">
                  <a:avLst/>
                </a:prstGeom>
                <a:solidFill>
                  <a:srgbClr val="ff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557680" y="4057560"/>
                  <a:ext cx="463680" cy="46080"/>
                </a:xfrm>
                <a:prstGeom prst="rect">
                  <a:avLst/>
                </a:prstGeom>
                <a:solidFill>
                  <a:srgbClr val="ff8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557680" y="4103640"/>
                  <a:ext cx="463680" cy="33480"/>
                </a:xfrm>
                <a:prstGeom prst="rect">
                  <a:avLst/>
                </a:prstGeom>
                <a:solidFill>
                  <a:srgbClr val="ff8b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557680" y="4137120"/>
                  <a:ext cx="463680" cy="56880"/>
                </a:xfrm>
                <a:prstGeom prst="rect">
                  <a:avLst/>
                </a:prstGeom>
                <a:solidFill>
                  <a:srgbClr val="ff8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557680" y="4194000"/>
                  <a:ext cx="463680" cy="44640"/>
                </a:xfrm>
                <a:prstGeom prst="rect">
                  <a:avLst/>
                </a:prstGeom>
                <a:solidFill>
                  <a:srgbClr val="ff8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557680" y="4238640"/>
                  <a:ext cx="463680" cy="46080"/>
                </a:xfrm>
                <a:prstGeom prst="rect">
                  <a:avLst/>
                </a:prstGeom>
                <a:solidFill>
                  <a:srgbClr val="ff8e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557680" y="4284720"/>
                  <a:ext cx="463680" cy="57240"/>
                </a:xfrm>
                <a:prstGeom prst="rect">
                  <a:avLst/>
                </a:prstGeom>
                <a:solidFill>
                  <a:srgbClr val="ff8f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557680" y="4341960"/>
                  <a:ext cx="463680" cy="55440"/>
                </a:xfrm>
                <a:prstGeom prst="rect">
                  <a:avLst/>
                </a:prstGeom>
                <a:solidFill>
                  <a:srgbClr val="ff9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557680" y="4397400"/>
                  <a:ext cx="463680" cy="57240"/>
                </a:xfrm>
                <a:prstGeom prst="rect">
                  <a:avLst/>
                </a:prstGeom>
                <a:solidFill>
                  <a:srgbClr val="ff90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557680" y="4454640"/>
                  <a:ext cx="463680" cy="44280"/>
                </a:xfrm>
                <a:prstGeom prst="rect">
                  <a:avLst/>
                </a:prstGeom>
                <a:solidFill>
                  <a:srgbClr val="ff91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557680" y="4498920"/>
                  <a:ext cx="463680" cy="79560"/>
                </a:xfrm>
                <a:prstGeom prst="rect">
                  <a:avLst/>
                </a:prstGeom>
                <a:solidFill>
                  <a:srgbClr val="ff9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557680" y="4578480"/>
                  <a:ext cx="463680" cy="68040"/>
                </a:xfrm>
                <a:prstGeom prst="rect">
                  <a:avLst/>
                </a:prstGeom>
                <a:solidFill>
                  <a:srgbClr val="ff93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557680" y="4646520"/>
                  <a:ext cx="463680" cy="68400"/>
                </a:xfrm>
                <a:prstGeom prst="rect">
                  <a:avLst/>
                </a:prstGeom>
                <a:solidFill>
                  <a:srgbClr val="ff9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557680" y="4714920"/>
                  <a:ext cx="463680" cy="101520"/>
                </a:xfrm>
                <a:prstGeom prst="rect">
                  <a:avLst/>
                </a:prstGeom>
                <a:solidFill>
                  <a:srgbClr val="ff9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557680" y="4816440"/>
                  <a:ext cx="463680" cy="90360"/>
                </a:xfrm>
                <a:prstGeom prst="rect">
                  <a:avLst/>
                </a:prstGeom>
                <a:solidFill>
                  <a:srgbClr val="ff9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557680" y="4906800"/>
                  <a:ext cx="463680" cy="125640"/>
                </a:xfrm>
                <a:prstGeom prst="rect">
                  <a:avLst/>
                </a:prstGeom>
                <a:solidFill>
                  <a:srgbClr val="ff9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557680" y="5032440"/>
                  <a:ext cx="463680" cy="158760"/>
                </a:xfrm>
                <a:prstGeom prst="rect">
                  <a:avLst/>
                </a:prstGeom>
                <a:solidFill>
                  <a:srgbClr val="ff97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557680" y="5191200"/>
                  <a:ext cx="463680" cy="225360"/>
                </a:xfrm>
                <a:prstGeom prst="rect">
                  <a:avLst/>
                </a:prstGeom>
                <a:solidFill>
                  <a:srgbClr val="ff98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557680" y="5416560"/>
                  <a:ext cx="463680" cy="5724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568840" y="1917720"/>
                  <a:ext cx="463680" cy="357804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618320" y="2416320"/>
                  <a:ext cx="465120" cy="1080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618320" y="2427120"/>
                  <a:ext cx="465120" cy="22320"/>
                </a:xfrm>
                <a:prstGeom prst="rect">
                  <a:avLst/>
                </a:prstGeom>
                <a:solidFill>
                  <a:srgbClr val="ff66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618320" y="2449440"/>
                  <a:ext cx="465120" cy="22320"/>
                </a:xfrm>
                <a:prstGeom prst="rect">
                  <a:avLst/>
                </a:prstGeom>
                <a:solidFill>
                  <a:srgbClr val="ff66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618320" y="2471760"/>
                  <a:ext cx="465120" cy="11160"/>
                </a:xfrm>
                <a:prstGeom prst="rect">
                  <a:avLst/>
                </a:prstGeom>
                <a:solidFill>
                  <a:srgbClr val="ff6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618320" y="2482920"/>
                  <a:ext cx="465120" cy="23760"/>
                </a:xfrm>
                <a:prstGeom prst="rect">
                  <a:avLst/>
                </a:prstGeom>
                <a:solidFill>
                  <a:srgbClr val="ff6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618320" y="2506680"/>
                  <a:ext cx="465120" cy="11160"/>
                </a:xfrm>
                <a:prstGeom prst="rect">
                  <a:avLst/>
                </a:prstGeom>
                <a:solidFill>
                  <a:srgbClr val="ff67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618320" y="2517840"/>
                  <a:ext cx="465120" cy="33120"/>
                </a:xfrm>
                <a:prstGeom prst="rect">
                  <a:avLst/>
                </a:prstGeom>
                <a:solidFill>
                  <a:srgbClr val="ff6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618320" y="2550960"/>
                  <a:ext cx="465120" cy="11160"/>
                </a:xfrm>
                <a:prstGeom prst="rect">
                  <a:avLst/>
                </a:prstGeom>
                <a:solidFill>
                  <a:srgbClr val="ff67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618320" y="2562120"/>
                  <a:ext cx="465120" cy="23760"/>
                </a:xfrm>
                <a:prstGeom prst="rect">
                  <a:avLst/>
                </a:prstGeom>
                <a:solidFill>
                  <a:srgbClr val="ff67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618320" y="2585880"/>
                  <a:ext cx="465120" cy="33480"/>
                </a:xfrm>
                <a:prstGeom prst="rect">
                  <a:avLst/>
                </a:prstGeom>
                <a:solidFill>
                  <a:srgbClr val="ff6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618320" y="2619360"/>
                  <a:ext cx="465120" cy="22320"/>
                </a:xfrm>
                <a:prstGeom prst="rect">
                  <a:avLst/>
                </a:prstGeom>
                <a:solidFill>
                  <a:srgbClr val="ff6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618320" y="2641680"/>
                  <a:ext cx="465120" cy="23760"/>
                </a:xfrm>
                <a:prstGeom prst="rect">
                  <a:avLst/>
                </a:prstGeom>
                <a:solidFill>
                  <a:srgbClr val="ff68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618320" y="2665440"/>
                  <a:ext cx="465120" cy="22320"/>
                </a:xfrm>
                <a:prstGeom prst="rect">
                  <a:avLst/>
                </a:prstGeom>
                <a:solidFill>
                  <a:srgbClr val="ff68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618320" y="2687760"/>
                  <a:ext cx="465120" cy="21960"/>
                </a:xfrm>
                <a:prstGeom prst="rect">
                  <a:avLst/>
                </a:prstGeom>
                <a:solidFill>
                  <a:srgbClr val="ff68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618320" y="2709720"/>
                  <a:ext cx="465120" cy="34920"/>
                </a:xfrm>
                <a:prstGeom prst="rect">
                  <a:avLst/>
                </a:prstGeom>
                <a:solidFill>
                  <a:srgbClr val="ff68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618320" y="2744640"/>
                  <a:ext cx="465120" cy="22320"/>
                </a:xfrm>
                <a:prstGeom prst="rect">
                  <a:avLst/>
                </a:prstGeom>
                <a:solidFill>
                  <a:srgbClr val="ff68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618320" y="2766960"/>
                  <a:ext cx="465120" cy="22320"/>
                </a:xfrm>
                <a:prstGeom prst="rect">
                  <a:avLst/>
                </a:prstGeom>
                <a:solidFill>
                  <a:srgbClr val="ff69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618320" y="2789280"/>
                  <a:ext cx="465120" cy="34920"/>
                </a:xfrm>
                <a:prstGeom prst="rect">
                  <a:avLst/>
                </a:prstGeom>
                <a:solidFill>
                  <a:srgbClr val="ff6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618320" y="2824200"/>
                  <a:ext cx="465120" cy="33480"/>
                </a:xfrm>
                <a:prstGeom prst="rect">
                  <a:avLst/>
                </a:prstGeom>
                <a:solidFill>
                  <a:srgbClr val="ff69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618320" y="2857680"/>
                  <a:ext cx="465120" cy="33120"/>
                </a:xfrm>
                <a:prstGeom prst="rect">
                  <a:avLst/>
                </a:prstGeom>
                <a:solidFill>
                  <a:srgbClr val="ff6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618320" y="2890800"/>
                  <a:ext cx="465120" cy="23760"/>
                </a:xfrm>
                <a:prstGeom prst="rect">
                  <a:avLst/>
                </a:prstGeom>
                <a:solidFill>
                  <a:srgbClr val="ff6a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618320" y="2914560"/>
                  <a:ext cx="465120" cy="33480"/>
                </a:xfrm>
                <a:prstGeom prst="rect">
                  <a:avLst/>
                </a:prstGeom>
                <a:solidFill>
                  <a:srgbClr val="ff6b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7618320" y="2948040"/>
                  <a:ext cx="465120" cy="22320"/>
                </a:xfrm>
                <a:prstGeom prst="rect">
                  <a:avLst/>
                </a:prstGeom>
                <a:solidFill>
                  <a:srgbClr val="ff6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18320" y="2970360"/>
                  <a:ext cx="465120" cy="23760"/>
                </a:xfrm>
                <a:prstGeom prst="rect">
                  <a:avLst/>
                </a:prstGeom>
                <a:solidFill>
                  <a:srgbClr val="ff6b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618320" y="2994120"/>
                  <a:ext cx="465120" cy="21960"/>
                </a:xfrm>
                <a:prstGeom prst="rect">
                  <a:avLst/>
                </a:prstGeom>
                <a:solidFill>
                  <a:srgbClr val="ff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618320" y="3016080"/>
                  <a:ext cx="465120" cy="22320"/>
                </a:xfrm>
                <a:prstGeom prst="rect">
                  <a:avLst/>
                </a:prstGeom>
                <a:solidFill>
                  <a:srgbClr val="ff6c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618320" y="3038400"/>
                  <a:ext cx="465120" cy="22320"/>
                </a:xfrm>
                <a:prstGeom prst="rect">
                  <a:avLst/>
                </a:prstGeom>
                <a:solidFill>
                  <a:srgbClr val="ff6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618320" y="3060720"/>
                  <a:ext cx="465120" cy="23760"/>
                </a:xfrm>
                <a:prstGeom prst="rect">
                  <a:avLst/>
                </a:prstGeom>
                <a:solidFill>
                  <a:srgbClr val="ff6d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618320" y="3084480"/>
                  <a:ext cx="465120" cy="11160"/>
                </a:xfrm>
                <a:prstGeom prst="rect">
                  <a:avLst/>
                </a:prstGeom>
                <a:solidFill>
                  <a:srgbClr val="ff6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618320" y="3095640"/>
                  <a:ext cx="465120" cy="22320"/>
                </a:xfrm>
                <a:prstGeom prst="rect">
                  <a:avLst/>
                </a:prstGeom>
                <a:solidFill>
                  <a:srgbClr val="ff6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618320" y="3117960"/>
                  <a:ext cx="465120" cy="33120"/>
                </a:xfrm>
                <a:prstGeom prst="rect">
                  <a:avLst/>
                </a:prstGeom>
                <a:solidFill>
                  <a:srgbClr val="ff6e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618320" y="3151080"/>
                  <a:ext cx="465120" cy="23760"/>
                </a:xfrm>
                <a:prstGeom prst="rect">
                  <a:avLst/>
                </a:prstGeom>
                <a:solidFill>
                  <a:srgbClr val="ff6e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618320" y="3174840"/>
                  <a:ext cx="465120" cy="22320"/>
                </a:xfrm>
                <a:prstGeom prst="rect">
                  <a:avLst/>
                </a:prstGeom>
                <a:solidFill>
                  <a:srgbClr val="ff6f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7618320" y="3197160"/>
                  <a:ext cx="465120" cy="22320"/>
                </a:xfrm>
                <a:prstGeom prst="rect">
                  <a:avLst/>
                </a:prstGeom>
                <a:solidFill>
                  <a:srgbClr val="ff6f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7618320" y="3219480"/>
                  <a:ext cx="465120" cy="22320"/>
                </a:xfrm>
                <a:prstGeom prst="rect">
                  <a:avLst/>
                </a:prstGeom>
                <a:solidFill>
                  <a:srgbClr val="ff70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618320" y="3241800"/>
                  <a:ext cx="465120" cy="12600"/>
                </a:xfrm>
                <a:prstGeom prst="rect">
                  <a:avLst/>
                </a:prstGeom>
                <a:solidFill>
                  <a:srgbClr val="ff70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18320" y="3254400"/>
                  <a:ext cx="465120" cy="22320"/>
                </a:xfrm>
                <a:prstGeom prst="rect">
                  <a:avLst/>
                </a:prstGeom>
                <a:solidFill>
                  <a:srgbClr val="ff70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7618320" y="3276720"/>
                  <a:ext cx="465120" cy="21960"/>
                </a:xfrm>
                <a:prstGeom prst="rect">
                  <a:avLst/>
                </a:prstGeom>
                <a:solidFill>
                  <a:srgbClr val="ff71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618320" y="3298680"/>
                  <a:ext cx="465120" cy="22320"/>
                </a:xfrm>
                <a:prstGeom prst="rect">
                  <a:avLst/>
                </a:prstGeom>
                <a:solidFill>
                  <a:srgbClr val="ff72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618320" y="3321000"/>
                  <a:ext cx="465120" cy="34920"/>
                </a:xfrm>
                <a:prstGeom prst="rect">
                  <a:avLst/>
                </a:prstGeom>
                <a:solidFill>
                  <a:srgbClr val="ff72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618320" y="3355920"/>
                  <a:ext cx="465120" cy="22320"/>
                </a:xfrm>
                <a:prstGeom prst="rect">
                  <a:avLst/>
                </a:prstGeom>
                <a:solidFill>
                  <a:srgbClr val="ff7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618320" y="3378240"/>
                  <a:ext cx="465120" cy="22320"/>
                </a:xfrm>
                <a:prstGeom prst="rect">
                  <a:avLst/>
                </a:prstGeom>
                <a:solidFill>
                  <a:srgbClr val="ff73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618320" y="3400560"/>
                  <a:ext cx="465120" cy="23760"/>
                </a:xfrm>
                <a:prstGeom prst="rect">
                  <a:avLst/>
                </a:prstGeom>
                <a:solidFill>
                  <a:srgbClr val="ff74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18320" y="3424320"/>
                  <a:ext cx="465120" cy="11160"/>
                </a:xfrm>
                <a:prstGeom prst="rect">
                  <a:avLst/>
                </a:prstGeom>
                <a:solidFill>
                  <a:srgbClr val="ff74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618320" y="3435480"/>
                  <a:ext cx="465120" cy="33120"/>
                </a:xfrm>
                <a:prstGeom prst="rect">
                  <a:avLst/>
                </a:prstGeom>
                <a:solidFill>
                  <a:srgbClr val="ff75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618320" y="3468600"/>
                  <a:ext cx="465120" cy="22320"/>
                </a:xfrm>
                <a:prstGeom prst="rect">
                  <a:avLst/>
                </a:prstGeom>
                <a:solidFill>
                  <a:srgbClr val="ff7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618320" y="3490920"/>
                  <a:ext cx="465120" cy="23760"/>
                </a:xfrm>
                <a:prstGeom prst="rect">
                  <a:avLst/>
                </a:prstGeom>
                <a:solidFill>
                  <a:srgbClr val="ff7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618320" y="3514680"/>
                  <a:ext cx="465120" cy="22320"/>
                </a:xfrm>
                <a:prstGeom prst="rect">
                  <a:avLst/>
                </a:prstGeom>
                <a:solidFill>
                  <a:srgbClr val="ff7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618320" y="3537000"/>
                  <a:ext cx="465120" cy="33120"/>
                </a:xfrm>
                <a:prstGeom prst="rect">
                  <a:avLst/>
                </a:prstGeom>
                <a:solidFill>
                  <a:srgbClr val="ff7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618320" y="3570120"/>
                  <a:ext cx="465120" cy="24120"/>
                </a:xfrm>
                <a:prstGeom prst="rect">
                  <a:avLst/>
                </a:prstGeom>
                <a:solidFill>
                  <a:srgbClr val="ff78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618320" y="3594240"/>
                  <a:ext cx="465120" cy="21960"/>
                </a:xfrm>
                <a:prstGeom prst="rect">
                  <a:avLst/>
                </a:prstGeom>
                <a:solidFill>
                  <a:srgbClr val="ff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618320" y="3616200"/>
                  <a:ext cx="465120" cy="22320"/>
                </a:xfrm>
                <a:prstGeom prst="rect">
                  <a:avLst/>
                </a:prstGeom>
                <a:solidFill>
                  <a:srgbClr val="ff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618320" y="3638520"/>
                  <a:ext cx="465120" cy="22320"/>
                </a:xfrm>
                <a:prstGeom prst="rect">
                  <a:avLst/>
                </a:prstGeom>
                <a:solidFill>
                  <a:srgbClr val="ff7a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618320" y="3660840"/>
                  <a:ext cx="465120" cy="23760"/>
                </a:xfrm>
                <a:prstGeom prst="rect">
                  <a:avLst/>
                </a:prstGeom>
                <a:solidFill>
                  <a:srgbClr val="ff7b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618320" y="3684600"/>
                  <a:ext cx="465120" cy="22320"/>
                </a:xfrm>
                <a:prstGeom prst="rect">
                  <a:avLst/>
                </a:prstGeom>
                <a:solidFill>
                  <a:srgbClr val="ff7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618320" y="3706920"/>
                  <a:ext cx="465120" cy="21960"/>
                </a:xfrm>
                <a:prstGeom prst="rect">
                  <a:avLst/>
                </a:prstGeom>
                <a:solidFill>
                  <a:srgbClr val="ff7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618320" y="3728880"/>
                  <a:ext cx="465120" cy="34920"/>
                </a:xfrm>
                <a:prstGeom prst="rect">
                  <a:avLst/>
                </a:prstGeom>
                <a:solidFill>
                  <a:srgbClr val="ff7d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7618320" y="3763800"/>
                  <a:ext cx="465120" cy="22320"/>
                </a:xfrm>
                <a:prstGeom prst="rect">
                  <a:avLst/>
                </a:prstGeom>
                <a:solidFill>
                  <a:srgbClr val="ff7d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7618320" y="3786120"/>
                  <a:ext cx="465120" cy="22320"/>
                </a:xfrm>
                <a:prstGeom prst="rect">
                  <a:avLst/>
                </a:prstGeom>
                <a:solidFill>
                  <a:srgbClr val="ff7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618320" y="3808440"/>
                  <a:ext cx="465120" cy="22320"/>
                </a:xfrm>
                <a:prstGeom prst="rect">
                  <a:avLst/>
                </a:prstGeom>
                <a:solidFill>
                  <a:srgbClr val="ff7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7618320" y="3830760"/>
                  <a:ext cx="465120" cy="23760"/>
                </a:xfrm>
                <a:prstGeom prst="rect">
                  <a:avLst/>
                </a:prstGeom>
                <a:solidFill>
                  <a:srgbClr val="ff7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7618320" y="3854520"/>
                  <a:ext cx="465120" cy="22320"/>
                </a:xfrm>
                <a:prstGeom prst="rect">
                  <a:avLst/>
                </a:prstGeom>
                <a:solidFill>
                  <a:srgbClr val="ff80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7618320" y="3876840"/>
                  <a:ext cx="465120" cy="33120"/>
                </a:xfrm>
                <a:prstGeom prst="rect">
                  <a:avLst/>
                </a:prstGeom>
                <a:solidFill>
                  <a:srgbClr val="ff8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7618320" y="3909960"/>
                  <a:ext cx="465120" cy="23760"/>
                </a:xfrm>
                <a:prstGeom prst="rect">
                  <a:avLst/>
                </a:prstGeom>
                <a:solidFill>
                  <a:srgbClr val="ff82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7618320" y="3933720"/>
                  <a:ext cx="465120" cy="33480"/>
                </a:xfrm>
                <a:prstGeom prst="rect">
                  <a:avLst/>
                </a:prstGeom>
                <a:solidFill>
                  <a:srgbClr val="ff82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7618320" y="3967200"/>
                  <a:ext cx="465120" cy="33480"/>
                </a:xfrm>
                <a:prstGeom prst="rect">
                  <a:avLst/>
                </a:prstGeom>
                <a:solidFill>
                  <a:srgbClr val="ff83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7618320" y="4000680"/>
                  <a:ext cx="465120" cy="23760"/>
                </a:xfrm>
                <a:prstGeom prst="rect">
                  <a:avLst/>
                </a:prstGeom>
                <a:solidFill>
                  <a:srgbClr val="ff8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7618320" y="4024440"/>
                  <a:ext cx="465120" cy="21960"/>
                </a:xfrm>
                <a:prstGeom prst="rect">
                  <a:avLst/>
                </a:prstGeom>
                <a:solidFill>
                  <a:srgbClr val="ff84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618320" y="4046400"/>
                  <a:ext cx="465120" cy="33480"/>
                </a:xfrm>
                <a:prstGeom prst="rect">
                  <a:avLst/>
                </a:prstGeom>
                <a:solidFill>
                  <a:srgbClr val="ff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7618320" y="4079880"/>
                  <a:ext cx="465120" cy="23760"/>
                </a:xfrm>
                <a:prstGeom prst="rect">
                  <a:avLst/>
                </a:prstGeom>
                <a:solidFill>
                  <a:srgbClr val="ff86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7618320" y="4103640"/>
                  <a:ext cx="465120" cy="33480"/>
                </a:xfrm>
                <a:prstGeom prst="rect">
                  <a:avLst/>
                </a:prstGeom>
                <a:solidFill>
                  <a:srgbClr val="ff87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7618320" y="4137120"/>
                  <a:ext cx="465120" cy="33120"/>
                </a:xfrm>
                <a:prstGeom prst="rect">
                  <a:avLst/>
                </a:prstGeom>
                <a:solidFill>
                  <a:srgbClr val="ff88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7618320" y="4170240"/>
                  <a:ext cx="465120" cy="34920"/>
                </a:xfrm>
                <a:prstGeom prst="rect">
                  <a:avLst/>
                </a:prstGeom>
                <a:solidFill>
                  <a:srgbClr val="ff88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618320" y="4205160"/>
                  <a:ext cx="465120" cy="33480"/>
                </a:xfrm>
                <a:prstGeom prst="rect">
                  <a:avLst/>
                </a:prstGeom>
                <a:solidFill>
                  <a:srgbClr val="ff8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7618320" y="4238640"/>
                  <a:ext cx="465120" cy="23760"/>
                </a:xfrm>
                <a:prstGeom prst="rect">
                  <a:avLst/>
                </a:prstGeom>
                <a:solidFill>
                  <a:srgbClr val="ff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7618320" y="4262400"/>
                  <a:ext cx="465120" cy="33480"/>
                </a:xfrm>
                <a:prstGeom prst="rect">
                  <a:avLst/>
                </a:prstGeom>
                <a:solidFill>
                  <a:srgbClr val="ff8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7618320" y="4295880"/>
                  <a:ext cx="465120" cy="33120"/>
                </a:xfrm>
                <a:prstGeom prst="rect">
                  <a:avLst/>
                </a:prstGeom>
                <a:solidFill>
                  <a:srgbClr val="ff8b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7618320" y="4329000"/>
                  <a:ext cx="465120" cy="57240"/>
                </a:xfrm>
                <a:prstGeom prst="rect">
                  <a:avLst/>
                </a:prstGeom>
                <a:solidFill>
                  <a:srgbClr val="ff8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7618320" y="4386240"/>
                  <a:ext cx="465120" cy="33480"/>
                </a:xfrm>
                <a:prstGeom prst="rect">
                  <a:avLst/>
                </a:prstGeom>
                <a:solidFill>
                  <a:srgbClr val="ff8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7618320" y="4419720"/>
                  <a:ext cx="465120" cy="34920"/>
                </a:xfrm>
                <a:prstGeom prst="rect">
                  <a:avLst/>
                </a:prstGeom>
                <a:solidFill>
                  <a:srgbClr val="ff8e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7618320" y="4454640"/>
                  <a:ext cx="465120" cy="44280"/>
                </a:xfrm>
                <a:prstGeom prst="rect">
                  <a:avLst/>
                </a:prstGeom>
                <a:solidFill>
                  <a:srgbClr val="ff8f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7618320" y="4498920"/>
                  <a:ext cx="465120" cy="46080"/>
                </a:xfrm>
                <a:prstGeom prst="rect">
                  <a:avLst/>
                </a:prstGeom>
                <a:solidFill>
                  <a:srgbClr val="ff9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7618320" y="4545000"/>
                  <a:ext cx="465120" cy="57240"/>
                </a:xfrm>
                <a:prstGeom prst="rect">
                  <a:avLst/>
                </a:prstGeom>
                <a:solidFill>
                  <a:srgbClr val="ff90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7618320" y="4602240"/>
                  <a:ext cx="465120" cy="44280"/>
                </a:xfrm>
                <a:prstGeom prst="rect">
                  <a:avLst/>
                </a:prstGeom>
                <a:solidFill>
                  <a:srgbClr val="ff91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7618320" y="4646520"/>
                  <a:ext cx="465120" cy="57240"/>
                </a:xfrm>
                <a:prstGeom prst="rect">
                  <a:avLst/>
                </a:prstGeom>
                <a:solidFill>
                  <a:srgbClr val="ff9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7618320" y="4703760"/>
                  <a:ext cx="465120" cy="55440"/>
                </a:xfrm>
                <a:prstGeom prst="rect">
                  <a:avLst/>
                </a:prstGeom>
                <a:solidFill>
                  <a:srgbClr val="ff93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7618320" y="4759200"/>
                  <a:ext cx="465120" cy="68400"/>
                </a:xfrm>
                <a:prstGeom prst="rect">
                  <a:avLst/>
                </a:prstGeom>
                <a:solidFill>
                  <a:srgbClr val="ff9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7618320" y="4827600"/>
                  <a:ext cx="465120" cy="79200"/>
                </a:xfrm>
                <a:prstGeom prst="rect">
                  <a:avLst/>
                </a:prstGeom>
                <a:solidFill>
                  <a:srgbClr val="ff9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7618320" y="4906800"/>
                  <a:ext cx="465120" cy="90720"/>
                </a:xfrm>
                <a:prstGeom prst="rect">
                  <a:avLst/>
                </a:prstGeom>
                <a:solidFill>
                  <a:srgbClr val="ff9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7618320" y="4997520"/>
                  <a:ext cx="465120" cy="102960"/>
                </a:xfrm>
                <a:prstGeom prst="rect">
                  <a:avLst/>
                </a:prstGeom>
                <a:solidFill>
                  <a:srgbClr val="ff9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7618320" y="5100480"/>
                  <a:ext cx="465120" cy="135000"/>
                </a:xfrm>
                <a:prstGeom prst="rect">
                  <a:avLst/>
                </a:prstGeom>
                <a:solidFill>
                  <a:srgbClr val="ff97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7618320" y="5235480"/>
                  <a:ext cx="465120" cy="192240"/>
                </a:xfrm>
                <a:prstGeom prst="rect">
                  <a:avLst/>
                </a:prstGeom>
                <a:solidFill>
                  <a:srgbClr val="ff98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7618320" y="5427720"/>
                  <a:ext cx="465120" cy="460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7629480" y="2427120"/>
                  <a:ext cx="465120" cy="306864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1887480" y="5394240"/>
                  <a:ext cx="452520" cy="111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887480" y="5405400"/>
                  <a:ext cx="452520" cy="11160"/>
                </a:xfrm>
                <a:prstGeom prst="rect">
                  <a:avLst/>
                </a:prstGeom>
                <a:solidFill>
                  <a:srgbClr val="008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887480" y="5416560"/>
                  <a:ext cx="452520" cy="11160"/>
                </a:xfrm>
                <a:prstGeom prst="rect">
                  <a:avLst/>
                </a:prstGeom>
                <a:solidFill>
                  <a:srgbClr val="008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887480" y="5427720"/>
                  <a:ext cx="452520" cy="12600"/>
                </a:xfrm>
                <a:prstGeom prst="rect">
                  <a:avLst/>
                </a:prstGeom>
                <a:solidFill>
                  <a:srgbClr val="0080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887480" y="5440320"/>
                  <a:ext cx="452520" cy="11160"/>
                </a:xfrm>
                <a:prstGeom prst="rect">
                  <a:avLst/>
                </a:prstGeom>
                <a:solidFill>
                  <a:srgbClr val="0080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887480" y="5451480"/>
                  <a:ext cx="452520" cy="11160"/>
                </a:xfrm>
                <a:prstGeom prst="rect">
                  <a:avLst/>
                </a:prstGeom>
                <a:solidFill>
                  <a:srgbClr val="0080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887480" y="5462640"/>
                  <a:ext cx="452520" cy="11160"/>
                </a:xfrm>
                <a:prstGeom prst="rect">
                  <a:avLst/>
                </a:prstGeom>
                <a:solidFill>
                  <a:srgbClr val="0080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898640" y="5405400"/>
                  <a:ext cx="453960" cy="9036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3949560" y="5257800"/>
                  <a:ext cx="463680" cy="126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3949560" y="5270400"/>
                  <a:ext cx="463680" cy="11160"/>
                </a:xfrm>
                <a:prstGeom prst="rect">
                  <a:avLst/>
                </a:prstGeom>
                <a:solidFill>
                  <a:srgbClr val="008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3949560" y="5281560"/>
                  <a:ext cx="463680" cy="11160"/>
                </a:xfrm>
                <a:prstGeom prst="rect">
                  <a:avLst/>
                </a:prstGeom>
                <a:solidFill>
                  <a:srgbClr val="0080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3949560" y="5292720"/>
                  <a:ext cx="463680" cy="11160"/>
                </a:xfrm>
                <a:prstGeom prst="rect">
                  <a:avLst/>
                </a:prstGeom>
                <a:solidFill>
                  <a:srgbClr val="0080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3949560" y="5303880"/>
                  <a:ext cx="463680" cy="11160"/>
                </a:xfrm>
                <a:prstGeom prst="rect">
                  <a:avLst/>
                </a:prstGeom>
                <a:solidFill>
                  <a:srgbClr val="008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3949560" y="5315040"/>
                  <a:ext cx="463680" cy="11160"/>
                </a:xfrm>
                <a:prstGeom prst="rect">
                  <a:avLst/>
                </a:prstGeom>
                <a:solidFill>
                  <a:srgbClr val="0080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3949560" y="5326200"/>
                  <a:ext cx="463680" cy="10800"/>
                </a:xfrm>
                <a:prstGeom prst="rect">
                  <a:avLst/>
                </a:prstGeom>
                <a:solidFill>
                  <a:srgbClr val="008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949560" y="5337000"/>
                  <a:ext cx="463680" cy="11160"/>
                </a:xfrm>
                <a:prstGeom prst="rect">
                  <a:avLst/>
                </a:prstGeom>
                <a:solidFill>
                  <a:srgbClr val="008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949560" y="5348160"/>
                  <a:ext cx="463680" cy="12960"/>
                </a:xfrm>
                <a:prstGeom prst="rect">
                  <a:avLst/>
                </a:prstGeom>
                <a:solidFill>
                  <a:srgbClr val="008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3949560" y="5361120"/>
                  <a:ext cx="463680" cy="11160"/>
                </a:xfrm>
                <a:prstGeom prst="rect">
                  <a:avLst/>
                </a:prstGeom>
                <a:solidFill>
                  <a:srgbClr val="0080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949560" y="5372280"/>
                  <a:ext cx="463680" cy="10800"/>
                </a:xfrm>
                <a:prstGeom prst="rect">
                  <a:avLst/>
                </a:prstGeom>
                <a:solidFill>
                  <a:srgbClr val="0080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949560" y="5383080"/>
                  <a:ext cx="463680" cy="11160"/>
                </a:xfrm>
                <a:prstGeom prst="rect">
                  <a:avLst/>
                </a:prstGeom>
                <a:solidFill>
                  <a:srgbClr val="0080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3949560" y="5394240"/>
                  <a:ext cx="463680" cy="11160"/>
                </a:xfrm>
                <a:prstGeom prst="rect">
                  <a:avLst/>
                </a:prstGeom>
                <a:solidFill>
                  <a:srgbClr val="008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949560" y="5405400"/>
                  <a:ext cx="463680" cy="11160"/>
                </a:xfrm>
                <a:prstGeom prst="rect">
                  <a:avLst/>
                </a:prstGeom>
                <a:solidFill>
                  <a:srgbClr val="008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949560" y="5416560"/>
                  <a:ext cx="463680" cy="11160"/>
                </a:xfrm>
                <a:prstGeom prst="rect">
                  <a:avLst/>
                </a:prstGeom>
                <a:solidFill>
                  <a:srgbClr val="008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949560" y="5427720"/>
                  <a:ext cx="463680" cy="12600"/>
                </a:xfrm>
                <a:prstGeom prst="rect">
                  <a:avLst/>
                </a:prstGeom>
                <a:solidFill>
                  <a:srgbClr val="0080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3949560" y="5440320"/>
                  <a:ext cx="463680" cy="11160"/>
                </a:xfrm>
                <a:prstGeom prst="rect">
                  <a:avLst/>
                </a:prstGeom>
                <a:solidFill>
                  <a:srgbClr val="0080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949560" y="5451480"/>
                  <a:ext cx="463680" cy="11160"/>
                </a:xfrm>
                <a:prstGeom prst="rect">
                  <a:avLst/>
                </a:prstGeom>
                <a:solidFill>
                  <a:srgbClr val="008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3949560" y="5462640"/>
                  <a:ext cx="463680" cy="11160"/>
                </a:xfrm>
                <a:prstGeom prst="rect">
                  <a:avLst/>
                </a:prstGeom>
                <a:solidFill>
                  <a:srgbClr val="0080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3960720" y="5270400"/>
                  <a:ext cx="463680" cy="225360"/>
                </a:xfrm>
                <a:prstGeom prst="rect">
                  <a:avLst/>
                </a:prstGeom>
                <a:noFill/>
                <a:ln w="11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4" name=""/>
              <p:cNvSpPr/>
              <p:nvPr/>
            </p:nvSpPr>
            <p:spPr>
              <a:xfrm>
                <a:off x="6021360" y="4748040"/>
                <a:ext cx="453960" cy="349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021360" y="4782960"/>
                <a:ext cx="453960" cy="33480"/>
              </a:xfrm>
              <a:prstGeom prst="rect">
                <a:avLst/>
              </a:prstGeom>
              <a:solidFill>
                <a:srgbClr val="00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021360" y="4816440"/>
                <a:ext cx="453960" cy="22320"/>
              </a:xfrm>
              <a:prstGeom prst="rect">
                <a:avLst/>
              </a:prstGeom>
              <a:solidFill>
                <a:srgbClr val="00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21360" y="4838760"/>
                <a:ext cx="453960" cy="23760"/>
              </a:xfrm>
              <a:prstGeom prst="rect">
                <a:avLst/>
              </a:prstGeom>
              <a:solidFill>
                <a:srgbClr val="008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021360" y="4862520"/>
                <a:ext cx="453960" cy="22320"/>
              </a:xfrm>
              <a:prstGeom prst="rect">
                <a:avLst/>
              </a:prstGeom>
              <a:solidFill>
                <a:srgbClr val="008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21360" y="4884840"/>
                <a:ext cx="453960" cy="11160"/>
              </a:xfrm>
              <a:prstGeom prst="rect">
                <a:avLst/>
              </a:prstGeom>
              <a:solidFill>
                <a:srgbClr val="008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021360" y="4896000"/>
                <a:ext cx="453960" cy="10800"/>
              </a:xfrm>
              <a:prstGeom prst="rect">
                <a:avLst/>
              </a:prstGeom>
              <a:solidFill>
                <a:srgbClr val="00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021360" y="4906800"/>
                <a:ext cx="453960" cy="11160"/>
              </a:xfrm>
              <a:prstGeom prst="rect">
                <a:avLst/>
              </a:prstGeom>
              <a:solidFill>
                <a:srgbClr val="008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21360" y="4917960"/>
                <a:ext cx="453960" cy="11160"/>
              </a:xfrm>
              <a:prstGeom prst="rect">
                <a:avLst/>
              </a:prstGeom>
              <a:solidFill>
                <a:srgbClr val="0080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1360" y="4929120"/>
                <a:ext cx="453960" cy="12600"/>
              </a:xfrm>
              <a:prstGeom prst="rect">
                <a:avLst/>
              </a:prstGeom>
              <a:solidFill>
                <a:srgbClr val="008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21360" y="4941720"/>
                <a:ext cx="453960" cy="11160"/>
              </a:xfrm>
              <a:prstGeom prst="rect">
                <a:avLst/>
              </a:prstGeom>
              <a:solidFill>
                <a:srgbClr val="008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21360" y="4952880"/>
                <a:ext cx="453960" cy="11160"/>
              </a:xfrm>
              <a:prstGeom prst="rect">
                <a:avLst/>
              </a:prstGeom>
              <a:solidFill>
                <a:srgbClr val="008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021360" y="4964040"/>
                <a:ext cx="453960" cy="11160"/>
              </a:xfrm>
              <a:prstGeom prst="rect">
                <a:avLst/>
              </a:prstGeom>
              <a:solidFill>
                <a:srgbClr val="008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21360" y="4975200"/>
                <a:ext cx="453960" cy="11160"/>
              </a:xfrm>
              <a:prstGeom prst="rect">
                <a:avLst/>
              </a:prstGeom>
              <a:solidFill>
                <a:srgbClr val="00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021360" y="4986360"/>
                <a:ext cx="453960" cy="11160"/>
              </a:xfrm>
              <a:prstGeom prst="rect">
                <a:avLst/>
              </a:prstGeom>
              <a:solidFill>
                <a:srgbClr val="008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021360" y="4997520"/>
                <a:ext cx="453960" cy="11160"/>
              </a:xfrm>
              <a:prstGeom prst="rect">
                <a:avLst/>
              </a:prstGeom>
              <a:solidFill>
                <a:srgbClr val="008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021360" y="5008680"/>
                <a:ext cx="453960" cy="12600"/>
              </a:xfrm>
              <a:prstGeom prst="rect">
                <a:avLst/>
              </a:prstGeom>
              <a:solidFill>
                <a:srgbClr val="008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021360" y="5021280"/>
                <a:ext cx="453960" cy="11160"/>
              </a:xfrm>
              <a:prstGeom prst="rect">
                <a:avLst/>
              </a:prstGeom>
              <a:solidFill>
                <a:srgbClr val="008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21360" y="5032440"/>
                <a:ext cx="453960" cy="11160"/>
              </a:xfrm>
              <a:prstGeom prst="rect">
                <a:avLst/>
              </a:prstGeom>
              <a:solidFill>
                <a:srgbClr val="008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021360" y="5043600"/>
                <a:ext cx="453960" cy="11160"/>
              </a:xfrm>
              <a:prstGeom prst="rect">
                <a:avLst/>
              </a:prstGeom>
              <a:solidFill>
                <a:srgbClr val="008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021360" y="5054760"/>
                <a:ext cx="453960" cy="10800"/>
              </a:xfrm>
              <a:prstGeom prst="rect">
                <a:avLst/>
              </a:prstGeom>
              <a:solidFill>
                <a:srgbClr val="0080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021360" y="5065560"/>
                <a:ext cx="453960" cy="11160"/>
              </a:xfrm>
              <a:prstGeom prst="rect">
                <a:avLst/>
              </a:prstGeom>
              <a:solidFill>
                <a:srgbClr val="00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021360" y="5076720"/>
                <a:ext cx="453960" cy="11160"/>
              </a:xfrm>
              <a:prstGeom prst="rect">
                <a:avLst/>
              </a:prstGeom>
              <a:solidFill>
                <a:srgbClr val="008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021360" y="5087880"/>
                <a:ext cx="453960" cy="12600"/>
              </a:xfrm>
              <a:prstGeom prst="rect">
                <a:avLst/>
              </a:prstGeom>
              <a:solidFill>
                <a:srgbClr val="008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021360" y="5100480"/>
                <a:ext cx="453960" cy="11160"/>
              </a:xfrm>
              <a:prstGeom prst="rect">
                <a:avLst/>
              </a:prstGeom>
              <a:solidFill>
                <a:srgbClr val="0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021360" y="5111640"/>
                <a:ext cx="453960" cy="11160"/>
              </a:xfrm>
              <a:prstGeom prst="rect">
                <a:avLst/>
              </a:prstGeom>
              <a:solidFill>
                <a:srgbClr val="00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021360" y="5122800"/>
                <a:ext cx="453960" cy="11160"/>
              </a:xfrm>
              <a:prstGeom prst="rect">
                <a:avLst/>
              </a:prstGeom>
              <a:solidFill>
                <a:srgbClr val="008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021360" y="5133960"/>
                <a:ext cx="453960" cy="11160"/>
              </a:xfrm>
              <a:prstGeom prst="rect">
                <a:avLst/>
              </a:prstGeom>
              <a:solidFill>
                <a:srgbClr val="008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21360" y="5145120"/>
                <a:ext cx="453960" cy="11160"/>
              </a:xfrm>
              <a:prstGeom prst="rect">
                <a:avLst/>
              </a:prstGeom>
              <a:solidFill>
                <a:srgbClr val="008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21360" y="5156280"/>
                <a:ext cx="453960" cy="11160"/>
              </a:xfrm>
              <a:prstGeom prst="rect">
                <a:avLst/>
              </a:prstGeom>
              <a:solidFill>
                <a:srgbClr val="008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21360" y="5167440"/>
                <a:ext cx="453960" cy="11160"/>
              </a:xfrm>
              <a:prstGeom prst="rect">
                <a:avLst/>
              </a:prstGeom>
              <a:solidFill>
                <a:srgbClr val="0080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021360" y="5178600"/>
                <a:ext cx="453960" cy="12600"/>
              </a:xfrm>
              <a:prstGeom prst="rect">
                <a:avLst/>
              </a:prstGeom>
              <a:solidFill>
                <a:srgbClr val="008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021360" y="5191200"/>
                <a:ext cx="453960" cy="11160"/>
              </a:xfrm>
              <a:prstGeom prst="rect">
                <a:avLst/>
              </a:prstGeom>
              <a:solidFill>
                <a:srgbClr val="008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021360" y="5202360"/>
                <a:ext cx="453960" cy="11160"/>
              </a:xfrm>
              <a:prstGeom prst="rect">
                <a:avLst/>
              </a:prstGeom>
              <a:solidFill>
                <a:srgbClr val="008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021360" y="5213520"/>
                <a:ext cx="453960" cy="10800"/>
              </a:xfrm>
              <a:prstGeom prst="rect">
                <a:avLst/>
              </a:prstGeom>
              <a:solidFill>
                <a:srgbClr val="008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021360" y="5224320"/>
                <a:ext cx="453960" cy="11160"/>
              </a:xfrm>
              <a:prstGeom prst="rect">
                <a:avLst/>
              </a:prstGeom>
              <a:solidFill>
                <a:srgbClr val="008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021360" y="5235480"/>
                <a:ext cx="453960" cy="11160"/>
              </a:xfrm>
              <a:prstGeom prst="rect">
                <a:avLst/>
              </a:prstGeom>
              <a:solidFill>
                <a:srgbClr val="008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021360" y="5246640"/>
                <a:ext cx="453960" cy="11160"/>
              </a:xfrm>
              <a:prstGeom prst="rect">
                <a:avLst/>
              </a:prstGeom>
              <a:solidFill>
                <a:srgbClr val="008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021360" y="5257800"/>
                <a:ext cx="453960" cy="12600"/>
              </a:xfrm>
              <a:prstGeom prst="rect">
                <a:avLst/>
              </a:prstGeom>
              <a:solidFill>
                <a:srgbClr val="008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21360" y="5270400"/>
                <a:ext cx="453960" cy="11160"/>
              </a:xfrm>
              <a:prstGeom prst="rect">
                <a:avLst/>
              </a:prstGeom>
              <a:solidFill>
                <a:srgbClr val="008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021360" y="5281560"/>
                <a:ext cx="453960" cy="11160"/>
              </a:xfrm>
              <a:prstGeom prst="rect">
                <a:avLst/>
              </a:prstGeom>
              <a:solidFill>
                <a:srgbClr val="008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021360" y="5292720"/>
                <a:ext cx="453960" cy="11160"/>
              </a:xfrm>
              <a:prstGeom prst="rect">
                <a:avLst/>
              </a:prstGeom>
              <a:solidFill>
                <a:srgbClr val="008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21360" y="5303880"/>
                <a:ext cx="453960" cy="11160"/>
              </a:xfrm>
              <a:prstGeom prst="rect">
                <a:avLst/>
              </a:prstGeom>
              <a:solidFill>
                <a:srgbClr val="008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21360" y="5315040"/>
                <a:ext cx="453960" cy="11160"/>
              </a:xfrm>
              <a:prstGeom prst="rect">
                <a:avLst/>
              </a:prstGeom>
              <a:solidFill>
                <a:srgbClr val="008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021360" y="5326200"/>
                <a:ext cx="453960" cy="10800"/>
              </a:xfrm>
              <a:prstGeom prst="rect">
                <a:avLst/>
              </a:prstGeom>
              <a:solidFill>
                <a:srgbClr val="008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021360" y="5337000"/>
                <a:ext cx="453960" cy="11160"/>
              </a:xfrm>
              <a:prstGeom prst="rect">
                <a:avLst/>
              </a:prstGeom>
              <a:solidFill>
                <a:srgbClr val="008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021360" y="5348160"/>
                <a:ext cx="453960" cy="12960"/>
              </a:xfrm>
              <a:prstGeom prst="rect">
                <a:avLst/>
              </a:prstGeom>
              <a:solidFill>
                <a:srgbClr val="008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021360" y="5361120"/>
                <a:ext cx="453960" cy="11160"/>
              </a:xfrm>
              <a:prstGeom prst="rect">
                <a:avLst/>
              </a:prstGeom>
              <a:solidFill>
                <a:srgbClr val="008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021360" y="5372280"/>
                <a:ext cx="453960" cy="10800"/>
              </a:xfrm>
              <a:prstGeom prst="rect">
                <a:avLst/>
              </a:prstGeom>
              <a:solidFill>
                <a:srgbClr val="008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021360" y="5383080"/>
                <a:ext cx="453960" cy="11160"/>
              </a:xfrm>
              <a:prstGeom prst="rect">
                <a:avLst/>
              </a:prstGeom>
              <a:solidFill>
                <a:srgbClr val="008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021360" y="5394240"/>
                <a:ext cx="453960" cy="11160"/>
              </a:xfrm>
              <a:prstGeom prst="rect">
                <a:avLst/>
              </a:prstGeom>
              <a:solidFill>
                <a:srgbClr val="008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021360" y="5405400"/>
                <a:ext cx="453960" cy="11160"/>
              </a:xfrm>
              <a:prstGeom prst="rect">
                <a:avLst/>
              </a:prstGeom>
              <a:solidFill>
                <a:srgbClr val="008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021360" y="5416560"/>
                <a:ext cx="453960" cy="11160"/>
              </a:xfrm>
              <a:prstGeom prst="rect">
                <a:avLst/>
              </a:prstGeom>
              <a:solidFill>
                <a:srgbClr val="008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021360" y="5427720"/>
                <a:ext cx="453960" cy="12600"/>
              </a:xfrm>
              <a:prstGeom prst="rect">
                <a:avLst/>
              </a:prstGeom>
              <a:solidFill>
                <a:srgbClr val="008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21360" y="5440320"/>
                <a:ext cx="453960" cy="11160"/>
              </a:xfrm>
              <a:prstGeom prst="rect">
                <a:avLst/>
              </a:prstGeom>
              <a:solidFill>
                <a:srgbClr val="008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021360" y="5451480"/>
                <a:ext cx="453960" cy="11160"/>
              </a:xfrm>
              <a:prstGeom prst="rect">
                <a:avLst/>
              </a:prstGeom>
              <a:solidFill>
                <a:srgbClr val="008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021360" y="5462640"/>
                <a:ext cx="453960" cy="11160"/>
              </a:xfrm>
              <a:prstGeom prst="rect">
                <a:avLst/>
              </a:prstGeom>
              <a:solidFill>
                <a:srgbClr val="008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32520" y="4759200"/>
                <a:ext cx="453960" cy="73656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083440" y="4975200"/>
                <a:ext cx="452520" cy="223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083440" y="4997520"/>
                <a:ext cx="452520" cy="23760"/>
              </a:xfrm>
              <a:prstGeom prst="rect">
                <a:avLst/>
              </a:prstGeom>
              <a:solidFill>
                <a:srgbClr val="00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083440" y="5021280"/>
                <a:ext cx="452520" cy="11160"/>
              </a:xfrm>
              <a:prstGeom prst="rect">
                <a:avLst/>
              </a:prstGeom>
              <a:solidFill>
                <a:srgbClr val="00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083440" y="5032440"/>
                <a:ext cx="452520" cy="22320"/>
              </a:xfrm>
              <a:prstGeom prst="rect">
                <a:avLst/>
              </a:prstGeom>
              <a:solidFill>
                <a:srgbClr val="008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083440" y="5054760"/>
                <a:ext cx="452520" cy="10800"/>
              </a:xfrm>
              <a:prstGeom prst="rect">
                <a:avLst/>
              </a:prstGeom>
              <a:solidFill>
                <a:srgbClr val="008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083440" y="5065560"/>
                <a:ext cx="452520" cy="11160"/>
              </a:xfrm>
              <a:prstGeom prst="rect">
                <a:avLst/>
              </a:prstGeom>
              <a:solidFill>
                <a:srgbClr val="008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083440" y="5076720"/>
                <a:ext cx="452520" cy="11160"/>
              </a:xfrm>
              <a:prstGeom prst="rect">
                <a:avLst/>
              </a:prstGeom>
              <a:solidFill>
                <a:srgbClr val="00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083440" y="5087880"/>
                <a:ext cx="452520" cy="12600"/>
              </a:xfrm>
              <a:prstGeom prst="rect">
                <a:avLst/>
              </a:prstGeom>
              <a:solidFill>
                <a:srgbClr val="008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083440" y="5100480"/>
                <a:ext cx="452520" cy="11160"/>
              </a:xfrm>
              <a:prstGeom prst="rect">
                <a:avLst/>
              </a:prstGeom>
              <a:solidFill>
                <a:srgbClr val="008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8083440" y="5111640"/>
                <a:ext cx="452520" cy="11160"/>
              </a:xfrm>
              <a:prstGeom prst="rect">
                <a:avLst/>
              </a:prstGeom>
              <a:solidFill>
                <a:srgbClr val="008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083440" y="5122800"/>
                <a:ext cx="452520" cy="11160"/>
              </a:xfrm>
              <a:prstGeom prst="rect">
                <a:avLst/>
              </a:prstGeom>
              <a:solidFill>
                <a:srgbClr val="008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8083440" y="5133960"/>
                <a:ext cx="452520" cy="11160"/>
              </a:xfrm>
              <a:prstGeom prst="rect">
                <a:avLst/>
              </a:prstGeom>
              <a:solidFill>
                <a:srgbClr val="00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8083440" y="5145120"/>
                <a:ext cx="452520" cy="11160"/>
              </a:xfrm>
              <a:prstGeom prst="rect">
                <a:avLst/>
              </a:prstGeom>
              <a:solidFill>
                <a:srgbClr val="008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8083440" y="5156280"/>
                <a:ext cx="452520" cy="11160"/>
              </a:xfrm>
              <a:prstGeom prst="rect">
                <a:avLst/>
              </a:prstGeom>
              <a:solidFill>
                <a:srgbClr val="008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8083440" y="5167440"/>
                <a:ext cx="452520" cy="11160"/>
              </a:xfrm>
              <a:prstGeom prst="rect">
                <a:avLst/>
              </a:prstGeom>
              <a:solidFill>
                <a:srgbClr val="008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083440" y="5178600"/>
                <a:ext cx="452520" cy="12600"/>
              </a:xfrm>
              <a:prstGeom prst="rect">
                <a:avLst/>
              </a:prstGeom>
              <a:solidFill>
                <a:srgbClr val="008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083440" y="5191200"/>
                <a:ext cx="452520" cy="11160"/>
              </a:xfrm>
              <a:prstGeom prst="rect">
                <a:avLst/>
              </a:prstGeom>
              <a:solidFill>
                <a:srgbClr val="00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083440" y="5202360"/>
                <a:ext cx="452520" cy="11160"/>
              </a:xfrm>
              <a:prstGeom prst="rect">
                <a:avLst/>
              </a:prstGeom>
              <a:solidFill>
                <a:srgbClr val="008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083440" y="5213520"/>
                <a:ext cx="452520" cy="10800"/>
              </a:xfrm>
              <a:prstGeom prst="rect">
                <a:avLst/>
              </a:prstGeom>
              <a:solidFill>
                <a:srgbClr val="008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8083440" y="5224320"/>
                <a:ext cx="452520" cy="11160"/>
              </a:xfrm>
              <a:prstGeom prst="rect">
                <a:avLst/>
              </a:prstGeom>
              <a:solidFill>
                <a:srgbClr val="008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083440" y="5235480"/>
                <a:ext cx="452520" cy="11160"/>
              </a:xfrm>
              <a:prstGeom prst="rect">
                <a:avLst/>
              </a:prstGeom>
              <a:solidFill>
                <a:srgbClr val="00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083440" y="5246640"/>
                <a:ext cx="452520" cy="11160"/>
              </a:xfrm>
              <a:prstGeom prst="rect">
                <a:avLst/>
              </a:prstGeom>
              <a:solidFill>
                <a:srgbClr val="008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083440" y="5257800"/>
                <a:ext cx="452520" cy="12600"/>
              </a:xfrm>
              <a:prstGeom prst="rect">
                <a:avLst/>
              </a:prstGeom>
              <a:solidFill>
                <a:srgbClr val="008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8083440" y="5270400"/>
                <a:ext cx="452520" cy="11160"/>
              </a:xfrm>
              <a:prstGeom prst="rect">
                <a:avLst/>
              </a:prstGeom>
              <a:solidFill>
                <a:srgbClr val="008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083440" y="5281560"/>
                <a:ext cx="452520" cy="11160"/>
              </a:xfrm>
              <a:prstGeom prst="rect">
                <a:avLst/>
              </a:prstGeom>
              <a:solidFill>
                <a:srgbClr val="008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083440" y="5292720"/>
                <a:ext cx="452520" cy="11160"/>
              </a:xfrm>
              <a:prstGeom prst="rect">
                <a:avLst/>
              </a:pr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8083440" y="5303880"/>
                <a:ext cx="452520" cy="11160"/>
              </a:xfrm>
              <a:prstGeom prst="rect">
                <a:avLst/>
              </a:prstGeom>
              <a:solidFill>
                <a:srgbClr val="008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8083440" y="5315040"/>
                <a:ext cx="452520" cy="11160"/>
              </a:xfrm>
              <a:prstGeom prst="rect">
                <a:avLst/>
              </a:prstGeom>
              <a:solidFill>
                <a:srgbClr val="008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8083440" y="5326200"/>
                <a:ext cx="452520" cy="10800"/>
              </a:xfrm>
              <a:prstGeom prst="rect">
                <a:avLst/>
              </a:prstGeom>
              <a:solidFill>
                <a:srgbClr val="008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083440" y="5337000"/>
                <a:ext cx="452520" cy="11160"/>
              </a:xfrm>
              <a:prstGeom prst="rect">
                <a:avLst/>
              </a:prstGeom>
              <a:solidFill>
                <a:srgbClr val="008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8083440" y="5348160"/>
                <a:ext cx="452520" cy="12960"/>
              </a:xfrm>
              <a:prstGeom prst="rect">
                <a:avLst/>
              </a:prstGeom>
              <a:solidFill>
                <a:srgbClr val="008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8083440" y="5361120"/>
                <a:ext cx="452520" cy="11160"/>
              </a:xfrm>
              <a:prstGeom prst="rect">
                <a:avLst/>
              </a:prstGeom>
              <a:solidFill>
                <a:srgbClr val="008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8083440" y="5372280"/>
                <a:ext cx="452520" cy="10800"/>
              </a:xfrm>
              <a:prstGeom prst="rect">
                <a:avLst/>
              </a:prstGeom>
              <a:solidFill>
                <a:srgbClr val="008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8083440" y="5383080"/>
                <a:ext cx="452520" cy="11160"/>
              </a:xfrm>
              <a:prstGeom prst="rect">
                <a:avLst/>
              </a:prstGeom>
              <a:solidFill>
                <a:srgbClr val="008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8083440" y="5394240"/>
                <a:ext cx="452520" cy="11160"/>
              </a:xfrm>
              <a:prstGeom prst="rect">
                <a:avLst/>
              </a:prstGeom>
              <a:solidFill>
                <a:srgbClr val="0080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8083440" y="5405400"/>
                <a:ext cx="452520" cy="11160"/>
              </a:xfrm>
              <a:prstGeom prst="rect">
                <a:avLst/>
              </a:prstGeom>
              <a:solidFill>
                <a:srgbClr val="008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8083440" y="5416560"/>
                <a:ext cx="452520" cy="11160"/>
              </a:xfrm>
              <a:prstGeom prst="rect">
                <a:avLst/>
              </a:prstGeom>
              <a:solidFill>
                <a:srgbClr val="008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083440" y="5427720"/>
                <a:ext cx="452520" cy="12600"/>
              </a:xfrm>
              <a:prstGeom prst="rect">
                <a:avLst/>
              </a:prstGeom>
              <a:solidFill>
                <a:srgbClr val="0080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8083440" y="5440320"/>
                <a:ext cx="452520" cy="11160"/>
              </a:xfrm>
              <a:prstGeom prst="rect">
                <a:avLst/>
              </a:prstGeom>
              <a:solidFill>
                <a:srgbClr val="008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083440" y="5451480"/>
                <a:ext cx="452520" cy="11160"/>
              </a:xfrm>
              <a:prstGeom prst="rect">
                <a:avLst/>
              </a:prstGeom>
              <a:solidFill>
                <a:srgbClr val="00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083440" y="5462640"/>
                <a:ext cx="452520" cy="11160"/>
              </a:xfrm>
              <a:prstGeom prst="rect">
                <a:avLst/>
              </a:prstGeom>
              <a:solidFill>
                <a:srgbClr val="008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8094600" y="4986360"/>
                <a:ext cx="452520" cy="50940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41520" y="1022400"/>
                <a:ext cx="1440" cy="447336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96880" y="5495760"/>
                <a:ext cx="4464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96880" y="4862520"/>
                <a:ext cx="4464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96880" y="4216320"/>
                <a:ext cx="4464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96880" y="3583080"/>
                <a:ext cx="4464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96880" y="2936880"/>
                <a:ext cx="4464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96880" y="2301840"/>
                <a:ext cx="4464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96880" y="1657440"/>
                <a:ext cx="4464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96880" y="1022400"/>
                <a:ext cx="4464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41520" y="5495760"/>
                <a:ext cx="825624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641520" y="5495400"/>
                <a:ext cx="1440" cy="572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2703600" y="5495400"/>
                <a:ext cx="1440" cy="572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4775040" y="5495400"/>
                <a:ext cx="1800" cy="572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6837480" y="5495400"/>
                <a:ext cx="1440" cy="572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8897760" y="5495400"/>
                <a:ext cx="1800" cy="572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73960" y="36162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"/>
                  </a:rPr>
                  <a:t>5,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201120" y="276696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"/>
                  </a:rPr>
                  <a:t>7,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241600" y="954000"/>
                <a:ext cx="348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"/>
                  </a:rPr>
                  <a:t>13,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292520" y="1646280"/>
                <a:ext cx="348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"/>
                  </a:rPr>
                  <a:t>11,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879680" y="21668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66"/>
                    </a:solidFill>
                    <a:latin typeface="Arial"/>
                  </a:rPr>
                  <a:t>9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21680" y="290196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66"/>
                    </a:solidFill>
                    <a:latin typeface="Arial"/>
                  </a:rPr>
                  <a:t>6,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48440" y="3718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66"/>
                    </a:solidFill>
                    <a:latin typeface="Arial"/>
                  </a:rPr>
                  <a:t>4,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729040" y="1657440"/>
                <a:ext cx="348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66"/>
                    </a:solidFill>
                    <a:latin typeface="Arial"/>
                  </a:rPr>
                  <a:t>11,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124720" y="51786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0,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152240" y="50436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0,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225480" y="455616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2,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8263800" y="47372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1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79880" y="540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79880" y="4772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79880" y="4125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79880" y="349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79880" y="284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3200" y="2211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3200" y="15667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03200" y="9320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808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900720" y="5665680"/>
                <a:ext cx="1735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8080"/>
                    </a:solidFill>
                    <a:latin typeface="Arial"/>
                  </a:rPr>
                  <a:t>МУЗ "Нестеровск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99040" y="5904000"/>
                <a:ext cx="460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ЦРБ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923200" y="5665680"/>
                <a:ext cx="183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МУЗ Балтийского Г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527640" y="5904000"/>
                <a:ext cx="52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"ЦГБ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339880" y="5665680"/>
                <a:ext cx="1102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МУЗ "ГДП-1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400160" y="5665680"/>
                <a:ext cx="1102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МУЗ "ГДП-2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706400" y="6276960"/>
                <a:ext cx="90720" cy="126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706400" y="6289560"/>
                <a:ext cx="90720" cy="11160"/>
              </a:xfrm>
              <a:prstGeom prst="rect">
                <a:avLst/>
              </a:prstGeom>
              <a:solidFill>
                <a:srgbClr val="ffc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706400" y="6300720"/>
                <a:ext cx="90720" cy="11160"/>
              </a:xfrm>
              <a:prstGeom prst="rect">
                <a:avLst/>
              </a:prstGeom>
              <a:solidFill>
                <a:srgbClr val="ffd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706400" y="6311880"/>
                <a:ext cx="90720" cy="11160"/>
              </a:xfrm>
              <a:prstGeom prst="rect">
                <a:avLst/>
              </a:prstGeom>
              <a:solidFill>
                <a:srgbClr val="ffd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706400" y="6323040"/>
                <a:ext cx="90720" cy="11160"/>
              </a:xfrm>
              <a:prstGeom prst="rect">
                <a:avLst/>
              </a:prstGeom>
              <a:solidFill>
                <a:srgbClr val="ffe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706400" y="6334200"/>
                <a:ext cx="90720" cy="11160"/>
              </a:xfrm>
              <a:prstGeom prst="rect">
                <a:avLst/>
              </a:prstGeom>
              <a:solidFill>
                <a:srgbClr val="fff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706400" y="6345360"/>
                <a:ext cx="90720" cy="11160"/>
              </a:xfrm>
              <a:prstGeom prst="rect">
                <a:avLst/>
              </a:prstGeom>
              <a:solidFill>
                <a:srgbClr val="fff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717560" y="6289560"/>
                <a:ext cx="90720" cy="90720"/>
              </a:xfrm>
              <a:prstGeom prst="rect">
                <a:avLst/>
              </a:prstGeom>
              <a:noFill/>
              <a:ln w="11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936800" y="6232680"/>
                <a:ext cx="56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ВСЕГО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87840" y="6276960"/>
                <a:ext cx="90360" cy="12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87840" y="6289560"/>
                <a:ext cx="90360" cy="11160"/>
              </a:xfrm>
              <a:prstGeom prst="rect">
                <a:avLst/>
              </a:prstGeom>
              <a:solidFill>
                <a:srgbClr val="ff6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87840" y="6300720"/>
                <a:ext cx="90360" cy="11160"/>
              </a:xfrm>
              <a:prstGeom prst="rect">
                <a:avLst/>
              </a:prstGeom>
              <a:solidFill>
                <a:srgbClr val="ff6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87840" y="6311880"/>
                <a:ext cx="90360" cy="11160"/>
              </a:xfrm>
              <a:prstGeom prst="rect">
                <a:avLst/>
              </a:prstGeom>
              <a:solidFill>
                <a:srgbClr val="ff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687840" y="6323040"/>
                <a:ext cx="90360" cy="11160"/>
              </a:xfrm>
              <a:prstGeom prst="rect">
                <a:avLst/>
              </a:prstGeom>
              <a:solidFill>
                <a:srgbClr val="ff8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687840" y="6334200"/>
                <a:ext cx="90360" cy="11160"/>
              </a:xfrm>
              <a:prstGeom prst="rect">
                <a:avLst/>
              </a:prstGeom>
              <a:solidFill>
                <a:srgbClr val="ff8c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87840" y="6345360"/>
                <a:ext cx="90360" cy="11160"/>
              </a:xfrm>
              <a:prstGeom prst="rect">
                <a:avLst/>
              </a:prstGeom>
              <a:solidFill>
                <a:srgbClr val="ff9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00440" y="6289560"/>
                <a:ext cx="90360" cy="9072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978000" y="6232680"/>
                <a:ext cx="167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в т.ч. в поликлинике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791400" y="6276960"/>
                <a:ext cx="90360" cy="126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791400" y="6289560"/>
                <a:ext cx="90360" cy="11160"/>
              </a:xfrm>
              <a:prstGeom prst="rect">
                <a:avLst/>
              </a:prstGeom>
              <a:solidFill>
                <a:srgbClr val="008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791400" y="6300720"/>
                <a:ext cx="90360" cy="11160"/>
              </a:xfrm>
              <a:prstGeom prst="rect">
                <a:avLst/>
              </a:prstGeom>
              <a:solidFill>
                <a:srgbClr val="008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791400" y="6311880"/>
                <a:ext cx="90360" cy="11160"/>
              </a:xfrm>
              <a:prstGeom prst="rect">
                <a:avLst/>
              </a:prstGeom>
              <a:solidFill>
                <a:srgbClr val="008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791400" y="6323040"/>
                <a:ext cx="90360" cy="11160"/>
              </a:xfrm>
              <a:prstGeom prst="rect">
                <a:avLst/>
              </a:prstGeom>
              <a:solidFill>
                <a:srgbClr val="008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791400" y="6334200"/>
                <a:ext cx="90360" cy="11160"/>
              </a:xfrm>
              <a:prstGeom prst="rect">
                <a:avLst/>
              </a:pr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791400" y="6345360"/>
                <a:ext cx="90360" cy="11160"/>
              </a:xfrm>
              <a:prstGeom prst="rect">
                <a:avLst/>
              </a:prstGeom>
              <a:solidFill>
                <a:srgbClr val="0080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802560" y="6289560"/>
                <a:ext cx="91800" cy="9072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049160" y="6232680"/>
                <a:ext cx="1116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3333"/>
                    </a:solidFill>
                    <a:latin typeface="Arial"/>
                  </a:rPr>
                  <a:t>в т.ч. на дому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0" y="3306600"/>
              <a:ext cx="9129600" cy="284400"/>
              <a:chOff x="0" y="3306600"/>
              <a:chExt cx="9129600" cy="284400"/>
            </a:xfrm>
          </p:grpSpPr>
          <p:sp>
            <p:nvSpPr>
              <p:cNvPr id="2093" name=""/>
              <p:cNvSpPr/>
              <p:nvPr/>
            </p:nvSpPr>
            <p:spPr>
              <a:xfrm>
                <a:off x="0" y="3306600"/>
                <a:ext cx="75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7e00"/>
                    </a:solidFill>
                    <a:latin typeface="Arial"/>
                  </a:rPr>
                  <a:t>6.64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30360" y="3322440"/>
                <a:ext cx="8121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  <a:headEnd len="sm" type="diamond" w="sm"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8413920" y="3314520"/>
                <a:ext cx="71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7e00"/>
                    </a:solidFill>
                    <a:latin typeface="Arial"/>
                  </a:rPr>
                  <a:t>пла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04520" y="190080"/>
            <a:ext cx="7510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Уровень госпитализации</a:t>
            </a: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500" spc="-1" strike="noStrike">
                <a:solidFill>
                  <a:srgbClr val="ff9933"/>
                </a:solidFill>
                <a:latin typeface="Tahoma"/>
              </a:rPr>
              <a:t>(в пересчете на год, на 1000 населения)</a:t>
            </a:r>
            <a:endParaRPr b="1" lang="en-US" sz="1500" spc="-1" strike="noStrike">
              <a:solidFill>
                <a:srgbClr val="ff9933"/>
              </a:solidFill>
              <a:latin typeface="Tahoma"/>
            </a:endParaRPr>
          </a:p>
        </p:txBody>
      </p:sp>
      <p:graphicFrame>
        <p:nvGraphicFramePr>
          <p:cNvPr id="2098" name=""/>
          <p:cNvGraphicFramePr/>
          <p:nvPr/>
        </p:nvGraphicFramePr>
        <p:xfrm>
          <a:off x="390600" y="871560"/>
          <a:ext cx="837540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871560"/>
                    <a:ext cx="83754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0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28" descr=""/>
          <p:cNvPicPr/>
          <p:nvPr/>
        </p:nvPicPr>
        <p:blipFill>
          <a:blip r:embed="rId3"/>
          <a:stretch/>
        </p:blipFill>
        <p:spPr>
          <a:xfrm>
            <a:off x="368280" y="47520"/>
            <a:ext cx="819000" cy="717480"/>
          </a:xfrm>
          <a:prstGeom prst="rect">
            <a:avLst/>
          </a:prstGeom>
          <a:ln w="0">
            <a:noFill/>
          </a:ln>
        </p:spPr>
      </p:pic>
      <p:grpSp>
        <p:nvGrpSpPr>
          <p:cNvPr id="2102" name=""/>
          <p:cNvGrpSpPr/>
          <p:nvPr/>
        </p:nvGrpSpPr>
        <p:grpSpPr>
          <a:xfrm>
            <a:off x="250920" y="1184400"/>
            <a:ext cx="8535960" cy="339840"/>
            <a:chOff x="250920" y="1184400"/>
            <a:chExt cx="8535960" cy="339840"/>
          </a:xfrm>
        </p:grpSpPr>
        <p:sp>
          <p:nvSpPr>
            <p:cNvPr id="2103" name=""/>
            <p:cNvSpPr/>
            <p:nvPr/>
          </p:nvSpPr>
          <p:spPr>
            <a:xfrm>
              <a:off x="250920" y="1247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39880" y="1477800"/>
              <a:ext cx="7592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sm" type="diamond" w="sm"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16920" y="1184400"/>
              <a:ext cx="66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916280"/>
            <a:ext cx="7846920" cy="58140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3366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Регистр медицинских  работников участковой службы -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3366"/>
                </a:solidFill>
                <a:latin typeface="Arial"/>
              </a:rPr>
              <a:t>824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человека       (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409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врачей и 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415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медицинских сесте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508640"/>
            <a:ext cx="7846920" cy="58140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66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Регистр сотрудников службы скорой медицинской помощи и фельдшерско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акушерских пунктов – </a:t>
            </a:r>
            <a:r>
              <a:rPr b="1" lang="ru-RU" sz="1700" spc="-1" strike="noStrike">
                <a:solidFill>
                  <a:srgbClr val="ff3366"/>
                </a:solidFill>
                <a:latin typeface="Arial"/>
              </a:rPr>
              <a:t>712</a:t>
            </a: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 челов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54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За январь-май 2010 года дополнительные выплаты средств федерального бюджета  составили 41,3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2360" y="2781360"/>
            <a:ext cx="2087280" cy="1439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27813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82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492360" y="3286080"/>
            <a:ext cx="2087640" cy="647640"/>
            <a:chOff x="3492360" y="3286080"/>
            <a:chExt cx="2087640" cy="64764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4188240" y="3783600"/>
              <a:ext cx="69552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3898800" y="3535560"/>
              <a:ext cx="1275120" cy="1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492360" y="3286080"/>
              <a:ext cx="2087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52360" y="720720"/>
            <a:ext cx="8640720" cy="703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егистр участковой службы, службы скорой помощи и фельдшерско-акушерски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ходы лечебно-профилактических учреждений здравоохранения области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8" name="Picture 22" descr=""/>
          <p:cNvPicPr/>
          <p:nvPr/>
        </p:nvPicPr>
        <p:blipFill>
          <a:blip r:embed="rId1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22" descr=""/>
          <p:cNvPicPr/>
          <p:nvPr/>
        </p:nvPicPr>
        <p:blipFill>
          <a:blip r:embed="rId2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  <p:sp>
        <p:nvSpPr>
          <p:cNvPr id="2111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2" name=""/>
          <p:cNvGraphicFramePr/>
          <p:nvPr/>
        </p:nvGraphicFramePr>
        <p:xfrm>
          <a:off x="318960" y="900000"/>
          <a:ext cx="8447040" cy="5599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960" y="900000"/>
                    <a:ext cx="844704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4" name=""/>
          <p:cNvGraphicFramePr/>
          <p:nvPr/>
        </p:nvGraphicFramePr>
        <p:xfrm>
          <a:off x="363600" y="1139760"/>
          <a:ext cx="8475480" cy="52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139760"/>
                    <a:ext cx="847548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6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Структура доходов лечебно-профилактических учреждений здравоохранения области </a:t>
            </a: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от плат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  <p:sp>
        <p:nvSpPr>
          <p:cNvPr id="2121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3" name=""/>
          <p:cNvGraphicFramePr/>
          <p:nvPr/>
        </p:nvGraphicFramePr>
        <p:xfrm>
          <a:off x="276120" y="826920"/>
          <a:ext cx="8723520" cy="58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826920"/>
                    <a:ext cx="872352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5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444600" y="900000"/>
          <a:ext cx="8353440" cy="57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900000"/>
                    <a:ext cx="835344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3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9" name=""/>
          <p:cNvGraphicFramePr/>
          <p:nvPr/>
        </p:nvGraphicFramePr>
        <p:xfrm>
          <a:off x="328680" y="752400"/>
          <a:ext cx="822960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752400"/>
                    <a:ext cx="822960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1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3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44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7" name=""/>
          <p:cNvGraphicFramePr/>
          <p:nvPr/>
        </p:nvGraphicFramePr>
        <p:xfrm>
          <a:off x="450720" y="826920"/>
          <a:ext cx="8224920" cy="57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826920"/>
                    <a:ext cx="822492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9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1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4" name=""/>
          <p:cNvGraphicFramePr/>
          <p:nvPr/>
        </p:nvGraphicFramePr>
        <p:xfrm>
          <a:off x="-396720" y="369396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369396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6" name=""/>
          <p:cNvGraphicFramePr/>
          <p:nvPr/>
        </p:nvGraphicFramePr>
        <p:xfrm>
          <a:off x="3919680" y="3743280"/>
          <a:ext cx="4905360" cy="27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3743280"/>
                    <a:ext cx="490536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8" name=""/>
          <p:cNvGraphicFramePr/>
          <p:nvPr/>
        </p:nvGraphicFramePr>
        <p:xfrm>
          <a:off x="-44280" y="993600"/>
          <a:ext cx="4370040" cy="230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4280" y="993600"/>
                    <a:ext cx="43700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0" name=""/>
          <p:cNvGraphicFramePr/>
          <p:nvPr/>
        </p:nvGraphicFramePr>
        <p:xfrm>
          <a:off x="4284720" y="922320"/>
          <a:ext cx="4278240" cy="2814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922320"/>
                    <a:ext cx="42782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763280" y="1598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Доля выявленных дефектов по результатам экспертизы качества медицинской помощи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4" name="Picture 17" descr=""/>
          <p:cNvPicPr/>
          <p:nvPr/>
        </p:nvPicPr>
        <p:blipFill>
          <a:blip r:embed="rId9"/>
          <a:stretch/>
        </p:blipFill>
        <p:spPr>
          <a:xfrm>
            <a:off x="515880" y="14400"/>
            <a:ext cx="492120" cy="772920"/>
          </a:xfrm>
          <a:prstGeom prst="rect">
            <a:avLst/>
          </a:prstGeom>
          <a:ln w="0">
            <a:noFill/>
          </a:ln>
        </p:spPr>
      </p:pic>
      <p:sp>
        <p:nvSpPr>
          <p:cNvPr id="2165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6" name=""/>
          <p:cNvGraphicFramePr/>
          <p:nvPr/>
        </p:nvGraphicFramePr>
        <p:xfrm>
          <a:off x="246240" y="1030320"/>
          <a:ext cx="866592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030320"/>
                    <a:ext cx="866592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8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232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ля выявленных дефектов и сумма экономических санкций по результатам экспертиз качества медицинской помощи</a:t>
            </a:r>
            <a:endParaRPr b="1" lang="en-US" sz="16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2170" name="Picture 27" descr=""/>
          <p:cNvPicPr/>
          <p:nvPr/>
        </p:nvPicPr>
        <p:blipFill>
          <a:blip r:embed="rId3"/>
          <a:stretch/>
        </p:blipFill>
        <p:spPr>
          <a:xfrm>
            <a:off x="477720" y="42840"/>
            <a:ext cx="611280" cy="747720"/>
          </a:xfrm>
          <a:prstGeom prst="rect">
            <a:avLst/>
          </a:prstGeom>
          <a:ln w="0">
            <a:noFill/>
          </a:ln>
        </p:spPr>
      </p:pic>
      <p:sp>
        <p:nvSpPr>
          <p:cNvPr id="2171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2286000" y="2852640"/>
            <a:ext cx="647712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СОЗДАНИЕ УПРАВЛЯЮЩИХ СОВЕТОВ ПО ЗДРАВООХРАНЕНИЮ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ubTitle"/>
          </p:nvPr>
        </p:nvSpPr>
        <p:spPr>
          <a:xfrm>
            <a:off x="2411280" y="4343400"/>
            <a:ext cx="5742000" cy="5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поручение от 12.02.2010 № 26/пр-26, 27, 28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4" name="" descr=""/>
          <p:cNvPicPr/>
          <p:nvPr/>
        </p:nvPicPr>
        <p:blipFill>
          <a:blip r:embed="rId1"/>
          <a:stretch/>
        </p:blipFill>
        <p:spPr>
          <a:xfrm>
            <a:off x="914400" y="278136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175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/>
          <p:nvPr/>
        </p:nvSpPr>
        <p:spPr>
          <a:xfrm>
            <a:off x="684360" y="1916280"/>
            <a:ext cx="7920000" cy="1225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468360" y="692280"/>
            <a:ext cx="828036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Управляющий Совет по здравоохра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 Губернаторе 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930920" y="2347920"/>
            <a:ext cx="3744720" cy="316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Колле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Министе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здравоо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Калининград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обла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68360" y="2347920"/>
            <a:ext cx="3744720" cy="3168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Управляющие Сов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о здравоохран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муницип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образ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Калининград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011240"/>
            <a:ext cx="8713800" cy="4140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Дополнительная иммунизация  населения области в 2010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5280" y="1857240"/>
          <a:ext cx="8424720" cy="4019760"/>
        </p:xfrm>
        <a:graphic>
          <a:graphicData uri="http://schemas.openxmlformats.org/drawingml/2006/table">
            <a:tbl>
              <a:tblPr/>
              <a:tblGrid>
                <a:gridCol w="3094200"/>
                <a:gridCol w="3409920"/>
                <a:gridCol w="1920600"/>
              </a:tblGrid>
              <a:tr h="119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вакци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вакцинации (категори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лиц, под-лежащих вакцин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68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т 18 до 55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967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Грип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ети, подростки, взросл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о 60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480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179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9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539640" y="157356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36400" indent="-536400">
              <a:buSzPct val="20562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убернатор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нистерство здравоохранения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нистерство финансов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нистерство экономики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лининградская областная 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щественная палата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ссоциация муниципальных образований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рачебная палата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ссоциация главных в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дставитель общественных объединений пац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правление Росздравнадзора по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оспотребнадзор по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ФОМС 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У – КРО Фонда социального страхования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6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лининградская областная организация профсоюза работников здравоохранен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468360" y="115920"/>
            <a:ext cx="8280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остав Управляющего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 Губернаторе 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4360" y="1916280"/>
            <a:ext cx="7920000" cy="1225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468360" y="189000"/>
            <a:ext cx="828036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Управляющий Совет по здравоохра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 Губернаторе 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324000" y="1700280"/>
            <a:ext cx="8497800" cy="4465440"/>
            <a:chOff x="324000" y="1700280"/>
            <a:chExt cx="8497800" cy="4465440"/>
          </a:xfrm>
        </p:grpSpPr>
        <p:sp>
          <p:nvSpPr>
            <p:cNvPr id="2187" name=""/>
            <p:cNvSpPr/>
            <p:nvPr/>
          </p:nvSpPr>
          <p:spPr>
            <a:xfrm>
              <a:off x="4859280" y="1700280"/>
              <a:ext cx="3962520" cy="1800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Рассмотре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предлож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по вопросам охран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здоровья гражда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4000" y="1700280"/>
              <a:ext cx="3962160" cy="18000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Выработ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приоритетны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направле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в сфере развит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здравоохран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59280" y="3645000"/>
              <a:ext cx="3962520" cy="2520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Экспертиза проекто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областных нормативны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правовых акто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по вопросам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охраны здоровь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гражда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24000" y="3645000"/>
              <a:ext cx="3962160" cy="25207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Систематическо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информ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Губернатор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Калининградск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области о положен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дел в сфер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"/>
                </a:rPr>
                <a:t>здравоохран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1" name="" descr=""/>
            <p:cNvPicPr/>
            <p:nvPr/>
          </p:nvPicPr>
          <p:blipFill>
            <a:blip r:embed="rId6"/>
            <a:stretch/>
          </p:blipFill>
          <p:spPr>
            <a:xfrm>
              <a:off x="4032360" y="3070080"/>
              <a:ext cx="10443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2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684360" y="1916280"/>
            <a:ext cx="7920000" cy="1225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84360" y="3429000"/>
            <a:ext cx="7704000" cy="208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Государственные учре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Калининград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5" name="" descr=""/>
          <p:cNvPicPr/>
          <p:nvPr/>
        </p:nvPicPr>
        <p:blipFill>
          <a:blip r:embed="rId2"/>
          <a:stretch/>
        </p:blipFill>
        <p:spPr>
          <a:xfrm>
            <a:off x="2049480" y="1944720"/>
            <a:ext cx="4687920" cy="1509840"/>
          </a:xfrm>
          <a:prstGeom prst="rect">
            <a:avLst/>
          </a:prstGeom>
          <a:ln w="0">
            <a:noFill/>
          </a:ln>
        </p:spPr>
      </p:pic>
      <p:sp>
        <p:nvSpPr>
          <p:cNvPr id="2196" name=""/>
          <p:cNvSpPr/>
          <p:nvPr/>
        </p:nvSpPr>
        <p:spPr>
          <a:xfrm>
            <a:off x="395280" y="692280"/>
            <a:ext cx="8280360" cy="122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оллегия Министерства здравоохра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539640" y="1622160"/>
            <a:ext cx="82803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36400" indent="-536400">
              <a:buSzPct val="2057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сотрудники Министерства здравоохранения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министр социальной политики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начальник управления здравоохранения администрации ГО «Город Калининград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ГУ – КРО Фонда социального страхования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Управления Росздравнадзора по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Роспотребнадзора по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ТФОМС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Службы по контролю качества оказания медицинской помощи и лицензированию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ь Калининградской областной организации профсоюза работников здравоохранения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руководители государственных и муниципальных учреждений здравоохранения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7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главные внештатные специалисты Министерства здравоохранения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68360" y="115920"/>
            <a:ext cx="8280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остав Коллегии Министе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дравоохранения 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539640" y="1703160"/>
            <a:ext cx="82803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55680" indent="-35568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азработка приоритетных направлений развития 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ластных программ, обеспечивающих охрану здоровь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вершенствование стиля и методов работы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ласти по медицинскому обеспечению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ассмотрение предложений по координации деятель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униципальных органов управлен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актическое руководство учреждениями здравоохран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здание новых организационных и экономически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труктур в здравоо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68360" y="115920"/>
            <a:ext cx="8280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омпетенция Коллегии Министе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дравоохранения 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"/>
          <p:cNvSpPr/>
          <p:nvPr/>
        </p:nvSpPr>
        <p:spPr>
          <a:xfrm>
            <a:off x="684360" y="1916280"/>
            <a:ext cx="7920000" cy="1225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84360" y="3789360"/>
            <a:ext cx="7704000" cy="208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Муниципальные учре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Калининград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6" name="" descr=""/>
          <p:cNvPicPr/>
          <p:nvPr/>
        </p:nvPicPr>
        <p:blipFill>
          <a:blip r:embed="rId2"/>
          <a:stretch/>
        </p:blipFill>
        <p:spPr>
          <a:xfrm>
            <a:off x="2049480" y="2292480"/>
            <a:ext cx="4687920" cy="1509480"/>
          </a:xfrm>
          <a:prstGeom prst="rect">
            <a:avLst/>
          </a:prstGeom>
          <a:ln w="0">
            <a:noFill/>
          </a:ln>
        </p:spPr>
      </p:pic>
      <p:sp>
        <p:nvSpPr>
          <p:cNvPr id="2207" name=""/>
          <p:cNvSpPr/>
          <p:nvPr/>
        </p:nvSpPr>
        <p:spPr>
          <a:xfrm>
            <a:off x="395280" y="692280"/>
            <a:ext cx="8280360" cy="16570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Управляющие Советы по здравоохра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униципальных 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алининградской област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539640" y="1941480"/>
            <a:ext cx="8136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36400" indent="-536400"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едставитель Учре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епутат местного 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едставитель врачебной палаты Калининград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едставитель отраслевой профсоюзной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аботников здравоохранения Кали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2055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едставители общественных организаций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литических пар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68360" y="115920"/>
            <a:ext cx="8280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остав Управляющего Со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 муниципальном образовании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539640" y="1641960"/>
            <a:ext cx="82803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536400" indent="-53640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пределение приоритетных направлений развит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тверждение финансовой политики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смотрение жалоб и обращений граждан и организ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язанных с деятельностью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сение предложений в Управляющий Совет п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здравоохранению при Губернаторе Калининградской обла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опрос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71440">
              <a:lnSpc>
                <a:spcPct val="100000"/>
              </a:lnSpc>
              <a:buSzPct val="1028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развития здравоохранения Калининград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71440">
              <a:lnSpc>
                <a:spcPct val="100000"/>
              </a:lnSpc>
              <a:buSzPct val="1028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птимизации сети лечебно-профилактических учрежд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71440">
              <a:lnSpc>
                <a:spcPct val="100000"/>
              </a:lnSpc>
              <a:buSzPct val="10285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редоставления социальных гарантий медицинским работник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71440">
              <a:lnSpc>
                <a:spcPct val="100000"/>
              </a:lnSpc>
              <a:buSzPct val="10285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ым вопросам организации деятельности по охране здоровья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71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гражд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68360" y="115920"/>
            <a:ext cx="8280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омпетенция Управляющего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 муниципальном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8675640" y="65041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00808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1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34920" y="4032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2222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42920" y="549360"/>
          <a:ext cx="8856720" cy="6237360"/>
        </p:xfrm>
        <a:graphic>
          <a:graphicData uri="http://schemas.openxmlformats.org/drawingml/2006/table">
            <a:tbl>
              <a:tblPr/>
              <a:tblGrid>
                <a:gridCol w="533520"/>
                <a:gridCol w="2346120"/>
                <a:gridCol w="1440000"/>
                <a:gridCol w="1206360"/>
                <a:gridCol w="1314360"/>
                <a:gridCol w="1079640"/>
                <a:gridCol w="936720"/>
              </a:tblGrid>
              <a:tr h="330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ление старше 18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4e7e7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и подрос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4e7e7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-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ло вакцинации 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ло вакцинации 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16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252360" y="44280"/>
            <a:ext cx="8640720" cy="440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акцинация против гриппа А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в 201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736120" y="6504120"/>
            <a:ext cx="5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2360" y="3141720"/>
            <a:ext cx="8640720" cy="4291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Вакцинация против полиомиелита  в 201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57320" y="3841920"/>
            <a:ext cx="6970680" cy="825480"/>
          </a:xfrm>
          <a:prstGeom prst="rect">
            <a:avLst/>
          </a:prstGeom>
          <a:solidFill>
            <a:srgbClr val="df9dbe">
              <a:alpha val="62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f2"/>
                </a:solidFill>
                <a:latin typeface="Arial"/>
              </a:rPr>
              <a:t>В область поставлено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0 % </a:t>
            </a:r>
            <a:r>
              <a:rPr b="1" lang="en-US" sz="2400" spc="-1" strike="noStrike">
                <a:solidFill>
                  <a:srgbClr val="ffebf2"/>
                </a:solidFill>
                <a:latin typeface="Arial"/>
              </a:rPr>
              <a:t>от заявленного  количества  вак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4720" y="907920"/>
            <a:ext cx="7056360" cy="1617840"/>
          </a:xfrm>
          <a:prstGeom prst="rect">
            <a:avLst/>
          </a:prstGeom>
          <a:blipFill rotWithShape="0">
            <a:blip r:embed="rId1">
              <a:alphaModFix amt="78000"/>
            </a:blip>
            <a:srcRect/>
            <a:stretch/>
          </a:blip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ая и вторая прививки против гепатита В  завершены    в полном объем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хват  третьей вакцинацией составляет –</a:t>
            </a:r>
            <a:r>
              <a:rPr b="1" lang="en-US" sz="2400" spc="-1" strike="noStrike">
                <a:solidFill>
                  <a:srgbClr val="ffebf2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7,7 %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завершение – август 201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12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280" y="152280"/>
            <a:ext cx="8964720" cy="414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Вакцинация против гепатита В населения старше 18 лет в 2010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948360" y="5084640"/>
            <a:ext cx="1247760" cy="955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1380960" cy="992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995640" y="5157720"/>
            <a:ext cx="1368360" cy="912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54000" y="476280"/>
          <a:ext cx="9036000" cy="6342120"/>
        </p:xfrm>
        <a:graphic>
          <a:graphicData uri="http://schemas.openxmlformats.org/drawingml/2006/table">
            <a:tbl>
              <a:tblPr/>
              <a:tblGrid>
                <a:gridCol w="341280"/>
                <a:gridCol w="2035080"/>
                <a:gridCol w="709560"/>
                <a:gridCol w="514440"/>
                <a:gridCol w="720720"/>
                <a:gridCol w="1041480"/>
                <a:gridCol w="758880"/>
                <a:gridCol w="936720"/>
                <a:gridCol w="718920"/>
                <a:gridCol w="598680"/>
                <a:gridCol w="660240"/>
              </a:tblGrid>
              <a:tr h="4489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уницип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больных ВИЧ-ин-фекци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ит на диспансерном уче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об-следованию на имунный статус и вирусную нагруз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с целью на-значения противовирус-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ждается в ле-чении из обсле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ют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заре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 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лежа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леж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в т.ч. пол-а г. Светлогор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в т.ч. амб.-я пос. Дон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УФС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3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ОМ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50920" y="44280"/>
            <a:ext cx="8713800" cy="38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 в 2010 год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08000" y="568440"/>
          <a:ext cx="8891640" cy="6221160"/>
        </p:xfrm>
        <a:graphic>
          <a:graphicData uri="http://schemas.openxmlformats.org/drawingml/2006/table">
            <a:tbl>
              <a:tblPr/>
              <a:tblGrid>
                <a:gridCol w="469800"/>
                <a:gridCol w="3157560"/>
                <a:gridCol w="1457280"/>
                <a:gridCol w="727200"/>
                <a:gridCol w="1090440"/>
                <a:gridCol w="1094040"/>
                <a:gridCol w="895320"/>
              </a:tblGrid>
              <a:tr h="628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ждаются в лечении или переводе в группу неактивных боль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-чают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нуждаю-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ывы от лече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абс. числ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-лучающих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252360" y="79200"/>
            <a:ext cx="8640720" cy="398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в 201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2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52360" y="692280"/>
            <a:ext cx="8640720" cy="916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работающего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и углубленные осмотры лиц, работающих с вредными производственными факт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2338560"/>
            <a:ext cx="7056360" cy="3445560"/>
          </a:xfrm>
          <a:prstGeom prst="rect">
            <a:avLst/>
          </a:prstGeom>
          <a:solidFill>
            <a:srgbClr val="df9dbe">
              <a:alpha val="62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bf2"/>
                </a:solidFill>
                <a:latin typeface="Arial"/>
              </a:rPr>
              <a:t>На 2010 год 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планируемая</a:t>
            </a:r>
            <a:r>
              <a:rPr b="1" lang="en-US" sz="2200" spc="-1" strike="noStrike">
                <a:solidFill>
                  <a:srgbClr val="ffebf2"/>
                </a:solidFill>
                <a:latin typeface="Arial"/>
              </a:rPr>
              <a:t> численность работающих граждан, подлежащих дополнительной диспансеризации, в т.ч. работающих с вредными производственными факторами –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25 500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На 01.06.2010</a:t>
            </a:r>
            <a:r>
              <a:rPr b="1" lang="en-US" sz="2200" spc="-1" strike="noStrike">
                <a:solidFill>
                  <a:srgbClr val="ffebf2"/>
                </a:solidFill>
                <a:latin typeface="Arial"/>
              </a:rPr>
              <a:t> – в полном объеме диспансеризацию 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прошли 979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32:32Z</dcterms:created>
  <dc:creator>TFOMS</dc:creator>
  <dc:description/>
  <dc:language>en-US</dc:language>
  <cp:lastModifiedBy>Маскевич</cp:lastModifiedBy>
  <dcterms:modified xsi:type="dcterms:W3CDTF">2010-07-28T07:42:21Z</dcterms:modified>
  <cp:revision>626</cp:revision>
  <dc:subject/>
  <dc:title>Слайд 1</dc:title>
</cp:coreProperties>
</file>