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24.wmf" ContentType="image/x-wmf"/>
  <Override PartName="/ppt/media/image23.png" ContentType="image/png"/>
  <Override PartName="/ppt/media/image21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22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A8B-CEBA-467D-A239-8A416B5A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2FB-29BD-44E9-AB29-51422416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7A3-B2FD-4296-8679-E29EB765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462-69AF-45F0-B6D0-C479CE90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F38-603A-4F92-B175-7D6D889A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495-EC31-47C7-AEF6-CCB0F77A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E77-4C8B-47EC-9D1D-91DD30B0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331-8939-4E0E-8261-5A29BD78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6F7-E25C-4D5E-A8DF-2F5F6C5F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0A7-CF47-4857-B32B-534149D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286-FDC2-4006-AB17-ACF035E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D55-23A4-426C-9302-E5FBBA3F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B7F5-8041-4748-93C4-AC71CF1C3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684360" y="2278080"/>
            <a:ext cx="8280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тоги реализац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оритетного национального проекта «Здоровье» в Калининградской област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684360" y="227808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515772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9900"/>
                </a:solidFill>
                <a:latin typeface="Times New Roman"/>
              </a:rPr>
              <a:t>Начальник департамента охраны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9900"/>
                </a:solidFill>
                <a:latin typeface="Times New Roman"/>
              </a:rPr>
              <a:t>И.Н. Дых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70089" b="58606"/>
          <a:stretch/>
        </p:blipFill>
        <p:spPr>
          <a:xfrm>
            <a:off x="539640" y="260280"/>
            <a:ext cx="863640" cy="50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76500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МИНИСТЕРСТВО ЗДРАВООХРАНЕНИЯ КАЛИНИНГРА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811080"/>
            <a:ext cx="8569080" cy="67284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езультаты диспансеризации пребывающих в стационарных учреждениях детей-сирот и детей, находящихся в трудной жизненной ситуаци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179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20000" y="6453360"/>
            <a:ext cx="1512360" cy="144360"/>
            <a:chOff x="7020000" y="6453360"/>
            <a:chExt cx="1512360" cy="144360"/>
          </a:xfrm>
        </p:grpSpPr>
        <p:sp>
          <p:nvSpPr>
            <p:cNvPr id="182" name=""/>
            <p:cNvSpPr/>
            <p:nvPr/>
          </p:nvSpPr>
          <p:spPr>
            <a:xfrm>
              <a:off x="7020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35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" name=""/>
          <p:cNvGraphicFramePr/>
          <p:nvPr/>
        </p:nvGraphicFramePr>
        <p:xfrm>
          <a:off x="1689120" y="1917720"/>
          <a:ext cx="7682040" cy="467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89120" y="1917720"/>
                    <a:ext cx="768204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443640" y="1844640"/>
            <a:ext cx="12970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практически здоровы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08720" y="4941720"/>
            <a:ext cx="14400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риск развития заболе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4724280"/>
            <a:ext cx="18000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II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нуждаются в обследовании, амбулаторном лечен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2852640"/>
            <a:ext cx="183492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V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нуждаются в обследовании и стационарном лечен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76360" y="1773360"/>
            <a:ext cx="19447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нуждаются в ВМ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874800"/>
            <a:ext cx="7561440" cy="8254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Times New Roman"/>
              </a:rPr>
              <a:t>Дополнительная имму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5823"/>
                </a:solidFill>
                <a:latin typeface="Times New Roman"/>
              </a:rPr>
              <a:t>населения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395280" y="1986120"/>
          <a:ext cx="8435880" cy="4395600"/>
        </p:xfrm>
        <a:graphic>
          <a:graphicData uri="http://schemas.openxmlformats.org/drawingml/2006/table">
            <a:tbl>
              <a:tblPr/>
              <a:tblGrid>
                <a:gridCol w="1925640"/>
                <a:gridCol w="2122560"/>
                <a:gridCol w="1195200"/>
                <a:gridCol w="1032120"/>
                <a:gridCol w="2160360"/>
              </a:tblGrid>
              <a:tr h="99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вакци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одлежат вакцинации (категории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оличество лиц, под-лежащих вакцин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(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руб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хват иммунизацие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</a:tr>
              <a:tr h="376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Полиомиели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ети до 1 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9 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7288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1077 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11,8 %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Гепатит 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от 18 до 55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126 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10085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V</a:t>
                      </a:r>
                      <a:r>
                        <a:rPr b="1" lang="en-US" sz="1700" spc="-1" strike="noStrike" baseline="-25000">
                          <a:solidFill>
                            <a:srgbClr val="105823"/>
                          </a:solidFill>
                          <a:latin typeface="Arial Cyr"/>
                        </a:rPr>
                        <a:t>1 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– 126000 (100 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V</a:t>
                      </a:r>
                      <a:r>
                        <a:rPr b="1" lang="en-US" sz="1700" spc="-1" strike="noStrike" baseline="-25000">
                          <a:solidFill>
                            <a:srgbClr val="105823"/>
                          </a:solidFill>
                          <a:latin typeface="Arial Cyr"/>
                        </a:rPr>
                        <a:t>2 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– 126000 (100 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V</a:t>
                      </a:r>
                      <a:r>
                        <a:rPr b="1" lang="en-US" sz="1700" spc="-1" strike="noStrike" baseline="-25000">
                          <a:solidFill>
                            <a:srgbClr val="105823"/>
                          </a:solidFill>
                          <a:latin typeface="Arial Cyr"/>
                        </a:rPr>
                        <a:t>3 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– 6528 (</a:t>
                      </a: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5,2 %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Ко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о 35 лет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ранее не привиты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194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640,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19400 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100 %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Грип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ети, подростки, взрослы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о 60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123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12282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123500 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100 %</a:t>
                      </a: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582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582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27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582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0295</a:t>
                      </a:r>
                      <a:r>
                        <a:rPr b="1" i="1" lang="ru-RU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,</a:t>
                      </a: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582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582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468360" y="907920"/>
          <a:ext cx="825480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5480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204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020000" y="6453360"/>
            <a:ext cx="1512360" cy="144360"/>
            <a:chOff x="7020000" y="6453360"/>
            <a:chExt cx="1512360" cy="144360"/>
          </a:xfrm>
        </p:grpSpPr>
        <p:sp>
          <p:nvSpPr>
            <p:cNvPr id="208" name=""/>
            <p:cNvSpPr/>
            <p:nvPr/>
          </p:nvSpPr>
          <p:spPr>
            <a:xfrm>
              <a:off x="7020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5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24000" y="907920"/>
          <a:ext cx="856908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5690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75320" y="18252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218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020000" y="6453360"/>
            <a:ext cx="1512360" cy="144360"/>
            <a:chOff x="7020000" y="6453360"/>
            <a:chExt cx="1512360" cy="144360"/>
          </a:xfrm>
        </p:grpSpPr>
        <p:sp>
          <p:nvSpPr>
            <p:cNvPr id="223" name=""/>
            <p:cNvSpPr/>
            <p:nvPr/>
          </p:nvSpPr>
          <p:spPr>
            <a:xfrm>
              <a:off x="7020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5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9640" y="0"/>
            <a:ext cx="8209080" cy="33732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Обследование и лечение ВИЧ-инфициров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4920" y="404640"/>
          <a:ext cx="8856720" cy="6162840"/>
        </p:xfrm>
        <a:graphic>
          <a:graphicData uri="http://schemas.openxmlformats.org/drawingml/2006/table">
            <a:tbl>
              <a:tblPr/>
              <a:tblGrid>
                <a:gridCol w="382680"/>
                <a:gridCol w="1884240"/>
                <a:gridCol w="836640"/>
                <a:gridCol w="609480"/>
                <a:gridCol w="622440"/>
                <a:gridCol w="923760"/>
                <a:gridCol w="804960"/>
                <a:gridCol w="882720"/>
                <a:gridCol w="806400"/>
                <a:gridCol w="480960"/>
                <a:gridCol w="622440"/>
              </a:tblGrid>
              <a:tr h="474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е образ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-во больных ВИЧ-инфекц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стоит на диспансерном уч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лежат обследованию на имунный статус и вирусную нагруз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следовано с целью назнач.противовирусного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ждается в лечении из обследо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чают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б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зарегис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в 2008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подлежащ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б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подлеж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40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b60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b60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b60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2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вардей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b60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b60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b60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b60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b60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Зеленоград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Нестеров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</a:tr>
              <a:tr h="18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равдин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</a:tr>
              <a:tr h="18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</a:tr>
              <a:tr h="18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3a77b"/>
                    </a:solidFill>
                  </a:tcPr>
                </a:tc>
              </a:tr>
              <a:tr h="18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7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БОМ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УФС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17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с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8532720" y="0"/>
            <a:ext cx="4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b9b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95280" y="3645000"/>
          <a:ext cx="40384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>
                    <a:alphaModFix amt="58000"/>
                  </a:blip>
                  <a:stretch/>
                </p:blipFill>
                <p:spPr>
                  <a:xfrm>
                    <a:off x="395280" y="3645000"/>
                    <a:ext cx="40384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435640" y="3789360"/>
          <a:ext cx="326880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>
                    <a:alphaModFix amt="57000"/>
                  </a:blip>
                  <a:stretch/>
                </p:blipFill>
                <p:spPr>
                  <a:xfrm>
                    <a:off x="5435640" y="3789360"/>
                    <a:ext cx="32688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95280" y="1052640"/>
          <a:ext cx="327168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>
                    <a:alphaModFix amt="57000"/>
                  </a:blip>
                  <a:stretch/>
                </p:blipFill>
                <p:spPr>
                  <a:xfrm>
                    <a:off x="395280" y="1052640"/>
                    <a:ext cx="32716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643280" y="981000"/>
          <a:ext cx="4079880" cy="271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>
                    <a:alphaModFix amt="57000"/>
                  </a:blip>
                  <a:stretch/>
                </p:blipFill>
                <p:spPr>
                  <a:xfrm>
                    <a:off x="4643280" y="981000"/>
                    <a:ext cx="40798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06440" y="189000"/>
            <a:ext cx="8486640" cy="69696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1b6b4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466560" y="24912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972800" y="317520"/>
            <a:ext cx="61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Эпидемиологические показатели распространения ВИЧ/СП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549360"/>
          <a:ext cx="9144000" cy="6143400"/>
        </p:xfrm>
        <a:graphic>
          <a:graphicData uri="http://schemas.openxmlformats.org/drawingml/2006/table">
            <a:tbl>
              <a:tblPr/>
              <a:tblGrid>
                <a:gridCol w="468360"/>
                <a:gridCol w="2951280"/>
                <a:gridCol w="720720"/>
                <a:gridCol w="647640"/>
                <a:gridCol w="863640"/>
                <a:gridCol w="720720"/>
                <a:gridCol w="647640"/>
                <a:gridCol w="720720"/>
                <a:gridCol w="792000"/>
                <a:gridCol w="611280"/>
              </a:tblGrid>
              <a:tr h="76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муниципального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ждаются в леч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чают л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нужд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рывы от лечен. (абс.чис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%) от  получающих ле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ег.оча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.ч. Бацил-ляр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бс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>
                      <a:noFill/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вардей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Зеленоград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Нестеров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равдин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ОМЖ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4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971640" y="79200"/>
            <a:ext cx="7272360" cy="3988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Мониторинг лечения больных туберкулез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627760" y="115920"/>
            <a:ext cx="406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4859280" y="907920"/>
          <a:ext cx="4033800" cy="25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907920"/>
                    <a:ext cx="403380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971640" y="3573360"/>
          <a:ext cx="7488000" cy="302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73360"/>
                    <a:ext cx="748800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54160" y="914400"/>
          <a:ext cx="4381200" cy="2585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4160" y="914400"/>
                    <a:ext cx="43812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1b6b4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627280" y="260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ТУБЕРКУЛ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0" y="549360"/>
          <a:ext cx="9144000" cy="6199200"/>
        </p:xfrm>
        <a:graphic>
          <a:graphicData uri="http://schemas.openxmlformats.org/drawingml/2006/table">
            <a:tbl>
              <a:tblPr/>
              <a:tblGrid>
                <a:gridCol w="458640"/>
                <a:gridCol w="4042080"/>
                <a:gridCol w="1744560"/>
                <a:gridCol w="1450800"/>
                <a:gridCol w="1447920"/>
              </a:tblGrid>
              <a:tr h="56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ое 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лежат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спансеризации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 200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шли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спансеризацию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200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5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вардей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Зеленоград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3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Нестеров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равдин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1a375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9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1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2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79280" y="260280"/>
            <a:ext cx="79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639280" y="68400"/>
            <a:ext cx="50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115920"/>
            <a:ext cx="7920000" cy="3988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Дополнительная</a:t>
            </a: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 диспансеризация работающих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836640"/>
            <a:ext cx="8064360" cy="85608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езультаты дополнительной диспансер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ботающих граждан в 2008 году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265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020000" y="6453360"/>
            <a:ext cx="1512360" cy="144360"/>
            <a:chOff x="7020000" y="6453360"/>
            <a:chExt cx="1512360" cy="144360"/>
          </a:xfrm>
        </p:grpSpPr>
        <p:sp>
          <p:nvSpPr>
            <p:cNvPr id="268" name=""/>
            <p:cNvSpPr/>
            <p:nvPr/>
          </p:nvSpPr>
          <p:spPr>
            <a:xfrm>
              <a:off x="7020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35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0" name=""/>
          <p:cNvGraphicFramePr/>
          <p:nvPr/>
        </p:nvGraphicFramePr>
        <p:xfrm>
          <a:off x="1689120" y="1917720"/>
          <a:ext cx="7682040" cy="467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89120" y="1917720"/>
                    <a:ext cx="768204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6299280" y="1916280"/>
            <a:ext cx="19447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нуждаются в ВМ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1989000"/>
            <a:ext cx="215892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V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нуждаются в обследовании и стационарном лечен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4000" y="5229360"/>
            <a:ext cx="14400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риск развития заболе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20000" y="3394080"/>
            <a:ext cx="12970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практически здоровы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8000" y="4365720"/>
            <a:ext cx="223200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II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(нуждаются в обследовании, амбулаторном лечен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836640"/>
            <a:ext cx="8280360" cy="3070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823"/>
                </a:solidFill>
                <a:latin typeface="Arial"/>
              </a:rPr>
              <a:t>Направления реализации приоритетного национального  проекта «Здоровь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060640"/>
            <a:ext cx="3456000" cy="642600"/>
          </a:xfrm>
          <a:prstGeom prst="rect">
            <a:avLst/>
          </a:prstGeom>
          <a:solidFill>
            <a:srgbClr val="008000">
              <a:alpha val="40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Развитие перв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медицинск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2060640"/>
            <a:ext cx="4537080" cy="916920"/>
          </a:xfrm>
          <a:prstGeom prst="rect">
            <a:avLst/>
          </a:prstGeom>
          <a:solidFill>
            <a:srgbClr val="008000">
              <a:alpha val="40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Обеспечение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высокотехнологичной меди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помощ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1268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268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068640"/>
            <a:ext cx="1727280" cy="580680"/>
          </a:xfrm>
          <a:prstGeom prst="rect">
            <a:avLst/>
          </a:prstGeom>
          <a:solidFill>
            <a:srgbClr val="008000">
              <a:alpha val="18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Times New Roman"/>
              </a:rPr>
              <a:t>Неонатальный скрин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724280"/>
            <a:ext cx="3384720" cy="580680"/>
          </a:xfrm>
          <a:prstGeom prst="rect">
            <a:avLst/>
          </a:prstGeom>
          <a:solidFill>
            <a:srgbClr val="008000">
              <a:alpha val="18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Дополните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диспансеризация 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005360"/>
            <a:ext cx="3168720" cy="337320"/>
          </a:xfrm>
          <a:prstGeom prst="rect">
            <a:avLst/>
          </a:prstGeom>
          <a:solidFill>
            <a:srgbClr val="008000">
              <a:alpha val="18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Оплата родовых сертифик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476520"/>
            <a:ext cx="4465440" cy="580680"/>
          </a:xfrm>
          <a:prstGeom prst="rect">
            <a:avLst/>
          </a:prstGeom>
          <a:solidFill>
            <a:srgbClr val="008000">
              <a:alpha val="18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Times New Roman"/>
              </a:rPr>
              <a:t>Денежные выплаты работ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Times New Roman"/>
              </a:rPr>
              <a:t>участковой службы, скорой помощи, ФА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4629240"/>
            <a:ext cx="3673440" cy="580680"/>
          </a:xfrm>
          <a:prstGeom prst="rect">
            <a:avLst/>
          </a:prstGeom>
          <a:solidFill>
            <a:srgbClr val="008000">
              <a:alpha val="18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Дополните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иммунизация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661000"/>
            <a:ext cx="3529080" cy="580680"/>
          </a:xfrm>
          <a:prstGeom prst="rect">
            <a:avLst/>
          </a:prstGeom>
          <a:solidFill>
            <a:srgbClr val="008000">
              <a:alpha val="18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Профилактика, выявление и лечение больных ВИЧ, гепати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37240"/>
            <a:ext cx="3672000" cy="580680"/>
          </a:xfrm>
          <a:prstGeom prst="rect">
            <a:avLst/>
          </a:prstGeom>
          <a:solidFill>
            <a:srgbClr val="008000">
              <a:alpha val="18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Подготовка и переподготовка вра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участковой служ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23640" y="2781360"/>
            <a:ext cx="792360" cy="287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2781360"/>
            <a:ext cx="649440" cy="71892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781360"/>
            <a:ext cx="647640" cy="136836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2781360"/>
            <a:ext cx="1368360" cy="237636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2781360"/>
            <a:ext cx="1584360" cy="3456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2781360"/>
            <a:ext cx="1150920" cy="2879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2781360"/>
            <a:ext cx="863640" cy="2519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11280" y="836640"/>
            <a:ext cx="8064360" cy="85608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езультаты дополнительной диспансер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ботающих граждан (выявленные заболевания)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2174760"/>
            <a:ext cx="7704360" cy="8254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есто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– болезни эндокринной системы, расстройства питания и нарушения обмена веществ –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3,8 %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(сахарный диабет, ожир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8720" y="3560760"/>
            <a:ext cx="7704000" cy="73404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есто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– болезни системы кровообращения –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7,8 %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(артери-альная гипертензия, ишемическая болезнь серд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4797360"/>
            <a:ext cx="7704360" cy="73404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II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есто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– болезни глаза и его придаточного аппарата –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0 %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(катаракта, глаукома, миоп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286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020000" y="6453360"/>
            <a:ext cx="1512360" cy="144360"/>
            <a:chOff x="7020000" y="6453360"/>
            <a:chExt cx="1512360" cy="144360"/>
          </a:xfrm>
        </p:grpSpPr>
        <p:sp>
          <p:nvSpPr>
            <p:cNvPr id="290" name=""/>
            <p:cNvSpPr/>
            <p:nvPr/>
          </p:nvSpPr>
          <p:spPr>
            <a:xfrm>
              <a:off x="7020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35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836640"/>
            <a:ext cx="7488360" cy="94716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823"/>
                </a:solidFill>
                <a:latin typeface="Times New Roman"/>
              </a:rPr>
              <a:t>Углубленные медицинские осмотры ли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823"/>
                </a:solidFill>
                <a:latin typeface="Times New Roman"/>
              </a:rPr>
              <a:t>находящихся во вредных условиях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30240" y="3882960"/>
            <a:ext cx="2012400" cy="642600"/>
          </a:xfrm>
          <a:prstGeom prst="rect">
            <a:avLst/>
          </a:prstGeom>
          <a:solidFill>
            <a:srgbClr val="105823">
              <a:alpha val="19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71640" y="494028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85 ру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32640" y="494028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620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4795920"/>
            <a:ext cx="3600360" cy="938160"/>
          </a:xfrm>
          <a:prstGeom prst="rightArrow">
            <a:avLst>
              <a:gd name="adj1" fmla="val 50000"/>
              <a:gd name="adj2" fmla="val 95942"/>
            </a:avLst>
          </a:prstGeom>
          <a:solidFill>
            <a:srgbClr val="ffcc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1160" y="2060640"/>
            <a:ext cx="8538840" cy="1617840"/>
          </a:xfrm>
          <a:prstGeom prst="rect">
            <a:avLst/>
          </a:prstGeom>
          <a:solidFill>
            <a:srgbClr val="105823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На 2008 год запланированы финансовы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в объеме 6,2 млн.руб. (10 020 че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823"/>
                </a:solidFill>
                <a:latin typeface="Arial"/>
              </a:rPr>
              <a:t>На 31.12.08 г.  осмотрено 10020 человек (10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29520" y="3882960"/>
            <a:ext cx="2012400" cy="642600"/>
          </a:xfrm>
          <a:prstGeom prst="rect">
            <a:avLst/>
          </a:prstGeom>
          <a:solidFill>
            <a:srgbClr val="105823">
              <a:alpha val="19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7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308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6000" y="6453360"/>
            <a:ext cx="1512360" cy="144360"/>
            <a:chOff x="7236000" y="6453360"/>
            <a:chExt cx="1512360" cy="144360"/>
          </a:xfrm>
        </p:grpSpPr>
        <p:sp>
          <p:nvSpPr>
            <p:cNvPr id="311" name=""/>
            <p:cNvSpPr/>
            <p:nvPr/>
          </p:nvSpPr>
          <p:spPr>
            <a:xfrm>
              <a:off x="7236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51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305080" cy="1731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596360" y="1341360"/>
            <a:ext cx="0" cy="3527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635280" y="1341360"/>
            <a:ext cx="432000" cy="2735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1280" y="836640"/>
            <a:ext cx="7921440" cy="4291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5823"/>
                </a:solidFill>
                <a:latin typeface="Times New Roman"/>
              </a:rPr>
              <a:t>Обеспечение высокотехнологичной  медицинской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324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948360" y="6453360"/>
            <a:ext cx="1513080" cy="144360"/>
            <a:chOff x="6948360" y="6453360"/>
            <a:chExt cx="1513080" cy="144360"/>
          </a:xfrm>
        </p:grpSpPr>
        <p:sp>
          <p:nvSpPr>
            <p:cNvPr id="327" name=""/>
            <p:cNvSpPr/>
            <p:nvPr/>
          </p:nvSpPr>
          <p:spPr>
            <a:xfrm>
              <a:off x="694836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6436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3860640"/>
            <a:ext cx="3240000" cy="642600"/>
          </a:xfrm>
          <a:prstGeom prst="rect">
            <a:avLst/>
          </a:prstGeom>
          <a:solidFill>
            <a:srgbClr val="ccffcc"/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Направлены в федеральные центры по квотам 1270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4083120"/>
            <a:ext cx="4608360" cy="1739880"/>
          </a:xfrm>
          <a:prstGeom prst="rect">
            <a:avLst/>
          </a:prstGeom>
          <a:solidFill>
            <a:srgbClr val="ccffcc"/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Times New Roman"/>
              </a:rPr>
              <a:t>Калининградская областная клиническая бо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Times New Roman"/>
              </a:rPr>
              <a:t>В 2009 году – по федеральным квотам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05823"/>
                </a:solidFill>
                <a:latin typeface="Times New Roman"/>
              </a:rPr>
              <a:t>91 –сердечно-сосудистая оп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823"/>
                </a:solidFill>
                <a:latin typeface="Times New Roman"/>
              </a:rPr>
              <a:t>69 – операций протезирования су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67280" y="1341360"/>
            <a:ext cx="1873080" cy="35892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77080" y="1341360"/>
            <a:ext cx="0" cy="2519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1700280"/>
            <a:ext cx="3889440" cy="18770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Цен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рдечно-сосудистой хир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Завершено строительство «нулевого цик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315,0 млн. руб.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областно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08720" y="4869000"/>
            <a:ext cx="3240000" cy="1739880"/>
          </a:xfrm>
          <a:prstGeom prst="rect">
            <a:avLst/>
          </a:prstGeom>
          <a:solidFill>
            <a:srgbClr val="ccffcc"/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Региональный перинаталь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Times New Roman"/>
              </a:rPr>
              <a:t>Оснащение медицинским оборудованием – 238,0 млн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2556000" y="2060640"/>
            <a:ext cx="2377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32720" y="3068640"/>
            <a:ext cx="2023920" cy="26938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961920"/>
            <a:ext cx="7848360" cy="5814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5823"/>
                </a:solidFill>
                <a:latin typeface="Times New Roman"/>
              </a:rPr>
              <a:t>Областная станция переливания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1160" y="2060640"/>
            <a:ext cx="8538840" cy="825480"/>
          </a:xfrm>
          <a:prstGeom prst="rect">
            <a:avLst/>
          </a:prstGeom>
          <a:solidFill>
            <a:srgbClr val="105823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Поставлено 53 единицы современного медицинского оборудования на сумму 90 млн.р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346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236000" y="6453360"/>
            <a:ext cx="1512360" cy="144360"/>
            <a:chOff x="7236000" y="6453360"/>
            <a:chExt cx="1512360" cy="144360"/>
          </a:xfrm>
        </p:grpSpPr>
        <p:sp>
          <p:nvSpPr>
            <p:cNvPr id="349" name=""/>
            <p:cNvSpPr/>
            <p:nvPr/>
          </p:nvSpPr>
          <p:spPr>
            <a:xfrm>
              <a:off x="7236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51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5280" y="3357720"/>
            <a:ext cx="3816360" cy="192276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ностью обеспечивается потребность в компонентах и препаратах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4427640" y="4076640"/>
            <a:ext cx="27493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1052640"/>
            <a:ext cx="8207280" cy="4291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5823"/>
                </a:solidFill>
                <a:latin typeface="Times New Roman"/>
              </a:rPr>
              <a:t>Оказание медицинской помощи пострадавшим в ДТ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348000" y="4724280"/>
            <a:ext cx="5400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00"/>
                </a:solidFill>
                <a:latin typeface="Times New Roman"/>
              </a:rPr>
              <a:t>Городская станция скорой медицинской помощ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00"/>
                </a:solidFill>
                <a:latin typeface="Times New Roman"/>
              </a:rPr>
              <a:t>Гвардейская Ц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00"/>
                </a:solidFill>
                <a:latin typeface="Times New Roman"/>
              </a:rPr>
              <a:t>Гусевская Ц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00"/>
                </a:solidFill>
                <a:latin typeface="Times New Roman"/>
              </a:rPr>
              <a:t>Черняховская Ц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00"/>
                </a:solidFill>
                <a:latin typeface="Times New Roman"/>
              </a:rPr>
              <a:t>Советская ЦГ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362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948360" y="6453360"/>
            <a:ext cx="1513080" cy="144360"/>
            <a:chOff x="6948360" y="6453360"/>
            <a:chExt cx="1513080" cy="144360"/>
          </a:xfrm>
        </p:grpSpPr>
        <p:sp>
          <p:nvSpPr>
            <p:cNvPr id="365" name=""/>
            <p:cNvSpPr/>
            <p:nvPr/>
          </p:nvSpPr>
          <p:spPr>
            <a:xfrm>
              <a:off x="694836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436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4360" y="2492280"/>
            <a:ext cx="7846920" cy="41400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05823"/>
                </a:solidFill>
                <a:latin typeface="Times New Roman"/>
              </a:rPr>
              <a:t>Областной бюджет      –                         34 млн. руб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3213000"/>
            <a:ext cx="7846920" cy="41400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105823"/>
                </a:solidFill>
                <a:latin typeface="Times New Roman"/>
              </a:rPr>
              <a:t>Местные бюджеты      –                        14,6 млн. руб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1773360"/>
            <a:ext cx="7846920" cy="41400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05823"/>
                </a:solidFill>
                <a:latin typeface="Times New Roman"/>
              </a:rPr>
              <a:t>Федеральный бюджет –                        198,7 млн.руб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848360" cy="76464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учен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реанимоби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1951200" cy="11444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811080"/>
            <a:ext cx="8713800" cy="36828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ъем финансирования по целевым мероприятиям Проекта (млн. руб.) в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380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020000" y="6453360"/>
            <a:ext cx="1512360" cy="144360"/>
            <a:chOff x="7020000" y="6453360"/>
            <a:chExt cx="1512360" cy="144360"/>
          </a:xfrm>
        </p:grpSpPr>
        <p:sp>
          <p:nvSpPr>
            <p:cNvPr id="383" name=""/>
            <p:cNvSpPr/>
            <p:nvPr/>
          </p:nvSpPr>
          <p:spPr>
            <a:xfrm>
              <a:off x="7020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35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5" name=""/>
          <p:cNvGraphicFramePr/>
          <p:nvPr/>
        </p:nvGraphicFramePr>
        <p:xfrm>
          <a:off x="324000" y="1989000"/>
          <a:ext cx="7467480" cy="453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1989000"/>
                    <a:ext cx="74674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 rot="20331000">
            <a:off x="-108000" y="141300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Поставки вакцин, лекарственных и диагностическ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20331000">
            <a:off x="2267640" y="1422360"/>
            <a:ext cx="295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Денежные выплаты медицинским работникам участковой службы, скорой помощи, ФА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0331000">
            <a:off x="5724360" y="3163680"/>
            <a:ext cx="29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Родовые сертифик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0331000">
            <a:off x="5895720" y="480492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Диспансеризация населения, в т.ч.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5373720"/>
            <a:ext cx="34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Поставки диагностического оборудования и санитарного трансп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84720" y="1628640"/>
            <a:ext cx="2808360" cy="43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ТОГО: 954,5 млн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179280" y="765000"/>
          <a:ext cx="8713800" cy="5904000"/>
        </p:xfrm>
        <a:graphic>
          <a:graphicData uri="http://schemas.openxmlformats.org/drawingml/2006/table">
            <a:tbl>
              <a:tblPr/>
              <a:tblGrid>
                <a:gridCol w="576360"/>
                <a:gridCol w="4392720"/>
                <a:gridCol w="863640"/>
                <a:gridCol w="936360"/>
                <a:gridCol w="1008360"/>
                <a:gridCol w="936360"/>
              </a:tblGrid>
              <a:tr h="10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8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Регистр участковой служ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48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Регистр сотрудников скорой медицинской помощи, ФАП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48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Поставки диагностического оборудования и санитар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млн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2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48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плата родовых сертифик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млн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48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Дополнительная имму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7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49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69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Лечение ВИЧ-инфицированных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48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Дополнительная диспансеризация и углубленные осмотры лиц, работающих с вредными производственными фа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6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2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бучение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беспечение населения высокотехнологической медицинской помощью в федеральных центрах (по квот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бъем финансирования по целевым мероприятиям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млн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8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5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96" name=""/>
          <p:cNvSpPr/>
          <p:nvPr/>
        </p:nvSpPr>
        <p:spPr>
          <a:xfrm>
            <a:off x="539640" y="111240"/>
            <a:ext cx="796788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Итоги реализации приоритетного национального проекта «Здоровье» на территории Калининградской области за 2006-2008 г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604360" y="182520"/>
            <a:ext cx="43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Заголовок 1"/>
          <p:cNvSpPr/>
          <p:nvPr/>
        </p:nvSpPr>
        <p:spPr>
          <a:xfrm>
            <a:off x="1547640" y="3429000"/>
            <a:ext cx="64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9"/>
          <p:cNvSpPr/>
          <p:nvPr/>
        </p:nvSpPr>
        <p:spPr>
          <a:xfrm>
            <a:off x="684360" y="227808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rcRect l="0" t="0" r="70089" b="58606"/>
          <a:stretch/>
        </p:blipFill>
        <p:spPr>
          <a:xfrm>
            <a:off x="539640" y="260280"/>
            <a:ext cx="863640" cy="504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9640" y="76500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МИНИСТЕРСТВО ЗДРАВООХРАНЕНИЯ КАЛИНИНГРА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569080" cy="3070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823"/>
                </a:solidFill>
                <a:latin typeface="Arial"/>
              </a:rPr>
              <a:t>Новые направления реализации приоритетного национального проекта «Здоровье» </a:t>
            </a:r>
            <a:r>
              <a:rPr b="1" lang="en-US" sz="1400" spc="-1" strike="noStrike">
                <a:solidFill>
                  <a:srgbClr val="105823"/>
                </a:solidFill>
                <a:latin typeface="Times New Roman"/>
              </a:rPr>
              <a:t>в 200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646360"/>
            <a:ext cx="2736720" cy="580680"/>
          </a:xfrm>
          <a:prstGeom prst="rect">
            <a:avLst/>
          </a:prstGeom>
          <a:solidFill>
            <a:srgbClr val="008000">
              <a:alpha val="40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Развитие первич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2617920"/>
            <a:ext cx="2736720" cy="1067400"/>
          </a:xfrm>
          <a:prstGeom prst="rect">
            <a:avLst/>
          </a:prstGeom>
          <a:solidFill>
            <a:srgbClr val="008000">
              <a:alpha val="40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Обеспечение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высокотехнологичной медицин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помощ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1268280"/>
            <a:ext cx="360360" cy="1297080"/>
          </a:xfrm>
          <a:prstGeom prst="downArrow">
            <a:avLst>
              <a:gd name="adj1" fmla="val 50000"/>
              <a:gd name="adj2" fmla="val 89985"/>
            </a:avLst>
          </a:prstGeom>
          <a:solidFill>
            <a:srgbClr val="ffcc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1268280"/>
            <a:ext cx="360360" cy="1224000"/>
          </a:xfrm>
          <a:prstGeom prst="downArrow">
            <a:avLst>
              <a:gd name="adj1" fmla="val 50000"/>
              <a:gd name="adj2" fmla="val 84915"/>
            </a:avLst>
          </a:prstGeom>
          <a:solidFill>
            <a:srgbClr val="ffcc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149720"/>
            <a:ext cx="2016000" cy="824040"/>
          </a:xfrm>
          <a:prstGeom prst="rect">
            <a:avLst/>
          </a:prstGeom>
          <a:solidFill>
            <a:srgbClr val="ffcc99">
              <a:alpha val="67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Times New Roman"/>
              </a:rPr>
              <a:t>Аудиологический скрининг новорожд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1533600"/>
            <a:ext cx="3745080" cy="580680"/>
          </a:xfrm>
          <a:prstGeom prst="rect">
            <a:avLst/>
          </a:prstGeom>
          <a:solidFill>
            <a:srgbClr val="ffcc99">
              <a:alpha val="70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Организация оказания медицинской помощи пострадавшим в ДТ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589720"/>
            <a:ext cx="3744720" cy="824040"/>
          </a:xfrm>
          <a:prstGeom prst="rect">
            <a:avLst/>
          </a:prstGeom>
          <a:solidFill>
            <a:srgbClr val="ffcc99">
              <a:alpha val="70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Получение лицензии на оказание высокотехнологичной медицинской помощи КОК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5805360"/>
            <a:ext cx="3745080" cy="580680"/>
          </a:xfrm>
          <a:prstGeom prst="rect">
            <a:avLst/>
          </a:prstGeom>
          <a:solidFill>
            <a:srgbClr val="ffcc99">
              <a:alpha val="70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Лечение по квотам в федеральных цен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4360" y="4869000"/>
            <a:ext cx="3095640" cy="580680"/>
          </a:xfrm>
          <a:prstGeom prst="rect">
            <a:avLst/>
          </a:prstGeom>
          <a:solidFill>
            <a:srgbClr val="ffcc99">
              <a:alpha val="70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Строительство Центра сердечно-сосудистой хирур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3429000"/>
            <a:ext cx="2159280" cy="1067400"/>
          </a:xfrm>
          <a:prstGeom prst="rect">
            <a:avLst/>
          </a:prstGeom>
          <a:solidFill>
            <a:srgbClr val="ffcc99">
              <a:alpha val="67000"/>
            </a:srgbClr>
          </a:solidFill>
          <a:ln w="1908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Times New Roman"/>
              </a:rPr>
              <a:t>Оснащение оборудованием Областной станции переливания кро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3284640"/>
            <a:ext cx="0" cy="8650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211640" y="3789360"/>
            <a:ext cx="1944720" cy="180036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076360" y="3789360"/>
            <a:ext cx="1079640" cy="20160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724360" y="3789360"/>
            <a:ext cx="432000" cy="107964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651640" y="3141720"/>
            <a:ext cx="504720" cy="2872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131640" y="3068280"/>
            <a:ext cx="360360" cy="3603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132000" y="2133720"/>
            <a:ext cx="576360" cy="5032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651640" y="2133720"/>
            <a:ext cx="504720" cy="5032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992160"/>
            <a:ext cx="7561440" cy="48996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05823"/>
                </a:solidFill>
                <a:latin typeface="Times New Roman"/>
              </a:rPr>
              <a:t>«Развитие первичн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9280" y="1989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Осуществляются денежные выплаты за выполнение государ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задания по оказанию дополнительной медицинской помощи учреждениями здравоохранения муниципальных образований, оказывающими первичную медико-санитарную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157640"/>
            <a:ext cx="755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00"/>
                </a:solidFill>
                <a:latin typeface="Times New Roman"/>
              </a:rPr>
              <a:t>За 2008 год выплачено 85,8 млн.ру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526000"/>
            <a:ext cx="74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800000"/>
                </a:solidFill>
                <a:latin typeface="Times New Roman"/>
              </a:rPr>
              <a:t>За 2008 год  выплачено 33,3 млн.ру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106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48360" y="6453360"/>
            <a:ext cx="1513080" cy="144360"/>
            <a:chOff x="6948360" y="6453360"/>
            <a:chExt cx="1513080" cy="144360"/>
          </a:xfrm>
        </p:grpSpPr>
        <p:sp>
          <p:nvSpPr>
            <p:cNvPr id="109" name=""/>
            <p:cNvSpPr/>
            <p:nvPr/>
          </p:nvSpPr>
          <p:spPr>
            <a:xfrm>
              <a:off x="694836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436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4360" y="3467160"/>
            <a:ext cx="7846920" cy="61236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Регистр медицинских  работников участковой службы - 832 человека (417 врачей и 415 медицинских сестер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4653000"/>
            <a:ext cx="7846920" cy="87156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105823"/>
                </a:solidFill>
                <a:latin typeface="Times New Roman"/>
              </a:rPr>
              <a:t>Регистр сотрудников службы скорой медицинской помощи и фельдшерско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05823"/>
                </a:solidFill>
                <a:latin typeface="Times New Roman"/>
              </a:rPr>
              <a:t>акушерских пунктов – 783 че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988920"/>
            <a:ext cx="8424720" cy="64224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грамма «Родовые сертификаты» – 108,2 млн.руб.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989000"/>
            <a:ext cx="2952720" cy="8254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Женские консультаци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119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020000" y="6453360"/>
            <a:ext cx="1512360" cy="144360"/>
            <a:chOff x="7020000" y="6453360"/>
            <a:chExt cx="1512360" cy="144360"/>
          </a:xfrm>
        </p:grpSpPr>
        <p:sp>
          <p:nvSpPr>
            <p:cNvPr id="123" name=""/>
            <p:cNvSpPr/>
            <p:nvPr/>
          </p:nvSpPr>
          <p:spPr>
            <a:xfrm>
              <a:off x="7020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35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435640" y="2133720"/>
            <a:ext cx="2952720" cy="45972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8,6 млн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0920" y="3686040"/>
            <a:ext cx="2952720" cy="8254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Родильные дома и отделения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5229360"/>
            <a:ext cx="2952720" cy="8254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Детские поликлиник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3860640"/>
            <a:ext cx="2952720" cy="45972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60,8 млн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5419800"/>
            <a:ext cx="2952720" cy="45972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8,8 млн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3070080"/>
            <a:ext cx="7705800" cy="358920"/>
          </a:xfrm>
          <a:prstGeom prst="rect">
            <a:avLst/>
          </a:prstGeom>
          <a:gradFill rotWithShape="0">
            <a:gsLst>
              <a:gs pos="0">
                <a:srgbClr val="996633">
                  <a:alpha val="60392"/>
                </a:srgbClr>
              </a:gs>
              <a:gs pos="50000">
                <a:srgbClr val="ffffff"/>
              </a:gs>
              <a:gs pos="100000">
                <a:srgbClr val="996633">
                  <a:alpha val="60392"/>
                </a:srgbClr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726080"/>
            <a:ext cx="7705800" cy="358560"/>
          </a:xfrm>
          <a:prstGeom prst="rect">
            <a:avLst/>
          </a:prstGeom>
          <a:gradFill rotWithShape="0">
            <a:gsLst>
              <a:gs pos="0">
                <a:srgbClr val="996633">
                  <a:alpha val="60392"/>
                </a:srgbClr>
              </a:gs>
              <a:gs pos="50000">
                <a:srgbClr val="ffffff"/>
              </a:gs>
              <a:gs pos="100000">
                <a:srgbClr val="996633">
                  <a:alpha val="60392"/>
                </a:srgbClr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13842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79280" y="692280"/>
          <a:ext cx="8785440" cy="5956200"/>
        </p:xfrm>
        <a:graphic>
          <a:graphicData uri="http://schemas.openxmlformats.org/drawingml/2006/table">
            <a:tbl>
              <a:tblPr/>
              <a:tblGrid>
                <a:gridCol w="738360"/>
                <a:gridCol w="3181320"/>
                <a:gridCol w="736560"/>
                <a:gridCol w="738360"/>
                <a:gridCol w="844560"/>
                <a:gridCol w="823680"/>
                <a:gridCol w="790560"/>
                <a:gridCol w="932040"/>
              </a:tblGrid>
              <a:tr h="1055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-во родив-шихс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-во представ-ленных к оплате талон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-во представ-ленных к оплате талон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4120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О «Город Калинингра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6,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6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1,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Багратион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5,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2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9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Балтий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9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1,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5,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вардей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9,7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8,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9,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урь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2,7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3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2,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ус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4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3,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3,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Зеленоград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4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1,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8,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Краснознаме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1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5,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3,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ема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4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6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0,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естеров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5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9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7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зерский 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5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5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5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олес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4,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1,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3,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равди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6,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6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1,7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Светлогорский 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4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1,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8,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Славский 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8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8,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8,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Черняховский 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0,7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3,7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7,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Ладушкинский 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27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56,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41,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Мамон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24,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2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8,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ионер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7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8,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2,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Светл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1,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0,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5,7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Совет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13,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4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10,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11,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Янтарны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5,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7,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01,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7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5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7,2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6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88,0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92,6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611280" y="39600"/>
            <a:ext cx="79675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Анализ состояния диспансеризации детей первого года жизни в 200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(дети, завершившие диспансеризацию к 6 мес. и 1 го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869320" y="64911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836640"/>
            <a:ext cx="7704000" cy="131184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5823"/>
                </a:solidFill>
                <a:latin typeface="Times New Roman"/>
              </a:rPr>
              <a:t>Неонатальный скрининг</a:t>
            </a:r>
            <a:r>
              <a:rPr b="1" lang="ru-RU" sz="2800" spc="-1" strike="noStrike">
                <a:solidFill>
                  <a:srgbClr val="105823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1600" spc="-1" strike="noStrike">
                <a:solidFill>
                  <a:srgbClr val="105823"/>
                </a:solidFill>
                <a:latin typeface="Times New Roman"/>
              </a:rPr>
              <a:t>(</a:t>
            </a:r>
            <a:r>
              <a:rPr b="1" i="1" lang="ru-RU" sz="1600" spc="-1" strike="noStrike">
                <a:solidFill>
                  <a:srgbClr val="105823"/>
                </a:solidFill>
                <a:latin typeface="Times New Roman"/>
              </a:rPr>
              <a:t>массовое обследование новорожденных </a:t>
            </a:r>
            <a:br>
              <a:rPr sz="1600"/>
            </a:br>
            <a:r>
              <a:rPr b="1" i="1" lang="ru-RU" sz="1600" spc="-1" strike="noStrike">
                <a:solidFill>
                  <a:srgbClr val="105823"/>
                </a:solidFill>
                <a:latin typeface="Times New Roman"/>
              </a:rPr>
              <a:t>на врожденные заболевания обмена веществ</a:t>
            </a:r>
            <a:r>
              <a:rPr b="1" lang="ru-RU" sz="1600" spc="-1" strike="noStrike">
                <a:solidFill>
                  <a:srgbClr val="105823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817720"/>
            <a:ext cx="7561440" cy="240984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5823"/>
                </a:solidFill>
                <a:latin typeface="Times New Roman"/>
              </a:rPr>
              <a:t>В 2008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5823"/>
                </a:solidFill>
                <a:latin typeface="Times New Roman"/>
              </a:rPr>
              <a:t>по данным родильных до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5823"/>
                </a:solidFill>
                <a:latin typeface="Times New Roman"/>
              </a:rPr>
              <a:t>родилось 10550 детей, обследовано 99,6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148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20000" y="6453360"/>
            <a:ext cx="1512360" cy="144360"/>
            <a:chOff x="7020000" y="6453360"/>
            <a:chExt cx="1512360" cy="144360"/>
          </a:xfrm>
        </p:grpSpPr>
        <p:sp>
          <p:nvSpPr>
            <p:cNvPr id="151" name=""/>
            <p:cNvSpPr/>
            <p:nvPr/>
          </p:nvSpPr>
          <p:spPr>
            <a:xfrm>
              <a:off x="7020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5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3"/>
          <p:cNvSpPr/>
          <p:nvPr/>
        </p:nvSpPr>
        <p:spPr>
          <a:xfrm>
            <a:off x="3071880" y="6308640"/>
            <a:ext cx="3571920" cy="54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836640"/>
            <a:ext cx="8064360" cy="10684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5823"/>
                </a:solidFill>
                <a:latin typeface="Times New Roman"/>
              </a:rPr>
              <a:t>Аудиологический скрининг</a:t>
            </a:r>
            <a:r>
              <a:rPr b="1" lang="ru-RU" sz="2800" spc="-1" strike="noStrike">
                <a:solidFill>
                  <a:srgbClr val="105823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1600" spc="-1" strike="noStrike">
                <a:solidFill>
                  <a:srgbClr val="105823"/>
                </a:solidFill>
                <a:latin typeface="Times New Roman"/>
              </a:rPr>
              <a:t>(раннее выявление врожденной тугоух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0920" y="19044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2708280"/>
            <a:ext cx="7561440" cy="277524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5823"/>
                </a:solidFill>
                <a:latin typeface="Times New Roman"/>
              </a:rPr>
              <a:t>8 учреждений здравоохра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5823"/>
                </a:solidFill>
                <a:latin typeface="Times New Roman"/>
              </a:rPr>
              <a:t>получили оборудование на сумму 1,8 млн.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042920" y="6453360"/>
            <a:ext cx="1513080" cy="144360"/>
            <a:chOff x="1042920" y="6453360"/>
            <a:chExt cx="1513080" cy="144360"/>
          </a:xfrm>
        </p:grpSpPr>
        <p:sp>
          <p:nvSpPr>
            <p:cNvPr id="163" name=""/>
            <p:cNvSpPr/>
            <p:nvPr/>
          </p:nvSpPr>
          <p:spPr>
            <a:xfrm>
              <a:off x="1042920" y="6453360"/>
              <a:ext cx="12970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58920" y="6597720"/>
              <a:ext cx="129708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20000" y="6453360"/>
            <a:ext cx="1512360" cy="144360"/>
            <a:chOff x="7020000" y="6453360"/>
            <a:chExt cx="1512360" cy="144360"/>
          </a:xfrm>
        </p:grpSpPr>
        <p:sp>
          <p:nvSpPr>
            <p:cNvPr id="166" name=""/>
            <p:cNvSpPr/>
            <p:nvPr/>
          </p:nvSpPr>
          <p:spPr>
            <a:xfrm>
              <a:off x="7020000" y="6453360"/>
              <a:ext cx="129672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35640" y="6597720"/>
              <a:ext cx="1296720" cy="0"/>
            </a:xfrm>
            <a:prstGeom prst="line">
              <a:avLst/>
            </a:prstGeom>
            <a:ln w="63360">
              <a:solidFill>
                <a:srgbClr val="7e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Диспансеризация пребывающих в стационарных учреждениях детей-сирот и детей, находящихся в трудной жизненной ситуац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635040"/>
          <a:ext cx="8929800" cy="6033960"/>
        </p:xfrm>
        <a:graphic>
          <a:graphicData uri="http://schemas.openxmlformats.org/drawingml/2006/table">
            <a:tbl>
              <a:tblPr/>
              <a:tblGrid>
                <a:gridCol w="617400"/>
                <a:gridCol w="3056040"/>
                <a:gridCol w="1766880"/>
                <a:gridCol w="1744560"/>
                <a:gridCol w="1744920"/>
              </a:tblGrid>
              <a:tr h="93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терри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0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сданных реестр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0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>
                      <a:noFill/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2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Гвардей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0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Зеленоград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2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9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Нестеров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9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3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авдинский р-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6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9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ff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  <a:tr h="23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40ac5a"/>
                        </a:gs>
                        <a:gs pos="50000">
                          <a:srgbClr val="ffffff"/>
                        </a:gs>
                        <a:gs pos="100000">
                          <a:srgbClr val="40ac5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88711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2:32:48Z</dcterms:created>
  <dc:creator>Ivanowa</dc:creator>
  <dc:description/>
  <dc:language>en-US</dc:language>
  <cp:lastModifiedBy>Admin</cp:lastModifiedBy>
  <dcterms:modified xsi:type="dcterms:W3CDTF">2009-05-05T13:18:28Z</dcterms:modified>
  <cp:revision>1177</cp:revision>
  <dc:subject/>
  <dc:title>Слайд 1</dc:title>
</cp:coreProperties>
</file>